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5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6.gif" ContentType="image/gif"/>
  <Override PartName="/ppt/media/image15.gif" ContentType="image/gif"/>
  <Override PartName="/ppt/media/image7.jpeg" ContentType="image/jpeg"/>
  <Override PartName="/ppt/media/image9.jpeg" ContentType="image/jpeg"/>
  <Override PartName="/ppt/media/image11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18C7-ED46-4338-B8A1-A0C7225ED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39E-8A48-4D93-89C1-25BAD398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769-2CE3-4811-9403-4DF4F8D4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0F2E-34BA-4A6C-A3BA-1CFEC0D3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8FC-D2B2-41A1-AEBD-FA746B2A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0B0-692A-428D-9049-E1267932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E102-8004-4488-A6F5-EF3EBECC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6C6-7CE6-4890-9EB8-951563FA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A4B-8B17-449B-9BCA-12F9846D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9DF-5CA9-4A33-99E1-89BE913A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EFC3-586C-4CCA-9C77-B6B62048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7C99-040C-4E3D-B7B8-2C6FE18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8D8-DAFE-4D5D-83E6-5D8515E047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58920" y="189000"/>
            <a:ext cx="6648480" cy="14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"ΠΕΡΙΒΑΛΛΟΝΤΙΚΗ ΕΚΠΑΙΔΕΥΣΗ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ΚΑΙ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ΤΟΠΙΚΗ ΙΣΤΟΡΙΑ"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19920"/>
            <a:ext cx="4191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 u="sng">
                <a:solidFill>
                  <a:srgbClr val="ffffff"/>
                </a:solidFill>
                <a:uFillTx/>
                <a:latin typeface="Times New Roman"/>
              </a:rPr>
              <a:t>Γιάννης Οργανόπουλο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 u="sng">
                <a:solidFill>
                  <a:srgbClr val="ffffff"/>
                </a:solidFill>
                <a:uFillTx/>
                <a:latin typeface="Times New Roman"/>
              </a:rPr>
              <a:t>Υπεύθυνος Π.Ε. Π/θμιας Εκπ/σης Πιερία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04920" y="333360"/>
            <a:ext cx="8838720" cy="6820200"/>
            <a:chOff x="304920" y="333360"/>
            <a:chExt cx="8838720" cy="6820200"/>
          </a:xfrm>
        </p:grpSpPr>
        <p:sp>
          <p:nvSpPr>
            <p:cNvPr id="133" name=""/>
            <p:cNvSpPr/>
            <p:nvPr/>
          </p:nvSpPr>
          <p:spPr>
            <a:xfrm>
              <a:off x="304920" y="333360"/>
              <a:ext cx="8838720" cy="68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 u="sng">
                  <a:solidFill>
                    <a:srgbClr val="000000"/>
                  </a:solidFill>
                  <a:uFillTx/>
                  <a:latin typeface="Arial"/>
                </a:rPr>
                <a:t>1977 / 8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Μαθήματα σχετικά με την σημερινή Π.Ε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ΣΠΟΥΔΗ ΠΕΡΙΒΑΛΛΟΝΤΟΣ</a:t>
              </a: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</a:rPr>
                <a:t>( Πραγματογνωσία,</a:t>
              </a: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l-GR" sz="1800" spc="-1" strike="noStrike">
                  <a:solidFill>
                    <a:srgbClr val="cc0000"/>
                  </a:solidFill>
                  <a:latin typeface="Arial"/>
                </a:rPr>
                <a:t>Πατριδογνωσία, Λαογραφία, Ιστορία,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</a:rPr>
                <a:t> </a:t>
              </a:r>
              <a:r>
                <a:rPr b="1" i="1" lang="el-GR" sz="1800" spc="-1" strike="noStrike" u="sng">
                  <a:solidFill>
                    <a:srgbClr val="3333cc"/>
                  </a:solidFill>
                  <a:uFillTx/>
                  <a:latin typeface="Arial"/>
                </a:rPr>
                <a:t>Προστασία του Περιβάλλοντος</a:t>
              </a:r>
              <a:r>
                <a:rPr b="1" i="1" lang="el-GR" sz="1800" spc="-1" strike="noStrike">
                  <a:solidFill>
                    <a:srgbClr val="3333cc"/>
                  </a:solidFill>
                  <a:latin typeface="Arial"/>
                </a:rPr>
                <a:t>,  Κοινωνική Αγωγή, Κυκλοφοριακή Αγωγή )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Σκοπός του μαθήματος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2000" spc="-1" strike="noStrike">
                  <a:solidFill>
                    <a:srgbClr val="663300"/>
                  </a:solidFill>
                  <a:latin typeface="Times New Roman"/>
                </a:rPr>
                <a:t>« Ο μαθητής/τρια να κατανοήσει το φυσικό, κοινωνικό και πολιτιστικό περιβάλλον, </a:t>
              </a:r>
              <a:r>
                <a:rPr b="1" i="1" lang="el-GR" sz="2400" spc="-1" strike="noStrike" u="sng">
                  <a:solidFill>
                    <a:srgbClr val="663300"/>
                  </a:solidFill>
                  <a:uFillTx/>
                  <a:latin typeface="Times New Roman"/>
                </a:rPr>
                <a:t>στο οποίο ζει</a:t>
              </a:r>
              <a:r>
                <a:rPr b="1" i="1" lang="el-GR" sz="2000" spc="-1" strike="noStrike">
                  <a:solidFill>
                    <a:srgbClr val="663300"/>
                  </a:solidFill>
                  <a:latin typeface="Times New Roman"/>
                </a:rPr>
                <a:t>, ώστε να γίνει δυνατή η ομαλή προσαρμογή και ένταξή του σ’ αυτό και να συμβάλλει έτσι στη μελλοντική βελτίωση των συνθηκών ζωής του»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•</a:t>
              </a:r>
              <a:r>
                <a:rPr b="1" i="1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l-G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ΓΕΩΓΡΑΦΙΑ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l-GR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ΦΥΣΙΟΓΝΩΣΤΙΚΑ ΜΑΘΗΜΑΤ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920" y="2251080"/>
              <a:ext cx="8528760" cy="3200400"/>
            </a:xfrm>
            <a:prstGeom prst="horizontalScroll">
              <a:avLst>
                <a:gd name="adj" fmla="val 125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51240" y="2440080"/>
            <a:ext cx="2459160" cy="177300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90880" y="2592360"/>
            <a:ext cx="839880" cy="836640"/>
          </a:xfrm>
          <a:prstGeom prst="ellipse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3240" y="2592360"/>
            <a:ext cx="843120" cy="836640"/>
          </a:xfrm>
          <a:prstGeom prst="ellipse">
            <a:avLst/>
          </a:prstGeom>
          <a:solidFill>
            <a:srgbClr val="8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90880" y="3122640"/>
            <a:ext cx="839880" cy="839880"/>
          </a:xfrm>
          <a:prstGeom prst="ellipse">
            <a:avLst/>
          </a:prstGeom>
          <a:solidFill>
            <a:srgbClr val="99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13240" y="3122640"/>
            <a:ext cx="843120" cy="839880"/>
          </a:xfrm>
          <a:prstGeom prst="ellipse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5120" y="3962520"/>
            <a:ext cx="0" cy="9903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6360" y="3122640"/>
            <a:ext cx="839520" cy="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047760" y="3583080"/>
            <a:ext cx="842760" cy="0"/>
          </a:xfrm>
          <a:prstGeom prst="line">
            <a:avLst/>
          </a:prstGeom>
          <a:ln w="2844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349880" y="1979280"/>
            <a:ext cx="0" cy="687240"/>
          </a:xfrm>
          <a:prstGeom prst="line">
            <a:avLst/>
          </a:prstGeom>
          <a:ln w="284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7360" y="2819520"/>
            <a:ext cx="1220760" cy="1143000"/>
          </a:xfrm>
          <a:prstGeom prst="ellipse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ΙΣΤΟΡΙΚ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ΠΕΡΙΒΑ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2120" y="762120"/>
            <a:ext cx="1220760" cy="121752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ΤΕΧΝΗΤ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ΠΕΡΙΒΑ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514600"/>
            <a:ext cx="1224000" cy="12207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ΚΟΙΝΩΝΙΚ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ΠΕΡΙΒΑ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4952880"/>
            <a:ext cx="1224000" cy="12178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ΦΥΣΙΚ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1" i="1" lang="el-GR" sz="1400" spc="-1" strike="noStrike">
                <a:solidFill>
                  <a:srgbClr val="ffcc66"/>
                </a:solidFill>
                <a:latin typeface="Times New Roman"/>
              </a:rPr>
              <a:t>ΠΕΡΙΒΑΛΛΟ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"/>
            <p:cNvSpPr/>
            <p:nvPr/>
          </p:nvSpPr>
          <p:spPr>
            <a:xfrm>
              <a:off x="5334120" y="5715000"/>
              <a:ext cx="380880" cy="745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510000" y="5486400"/>
              <a:ext cx="68112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732120" y="5869080"/>
              <a:ext cx="617760" cy="4554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33880" y="5715000"/>
              <a:ext cx="603360" cy="5335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30760" y="6095880"/>
              <a:ext cx="0" cy="4557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3510000" y="5715000"/>
              <a:ext cx="603360" cy="1540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604880" y="3583080"/>
              <a:ext cx="603360" cy="4554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590920" y="2285640"/>
              <a:ext cx="0" cy="6094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1365120" y="2895120"/>
              <a:ext cx="462240" cy="30492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6635880" y="2360160"/>
              <a:ext cx="984240" cy="30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7080120" y="2972880"/>
              <a:ext cx="540000" cy="149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99240" y="3583080"/>
              <a:ext cx="539640" cy="3794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70" name=""/>
              <p:cNvGrpSpPr/>
              <p:nvPr/>
            </p:nvGrpSpPr>
            <p:grpSpPr>
              <a:xfrm>
                <a:off x="1143000" y="0"/>
                <a:ext cx="7842240" cy="1449360"/>
                <a:chOff x="1143000" y="0"/>
                <a:chExt cx="7842240" cy="1449360"/>
              </a:xfrm>
            </p:grpSpPr>
            <p:sp>
              <p:nvSpPr>
                <p:cNvPr id="71" name=""/>
                <p:cNvSpPr/>
                <p:nvPr/>
              </p:nvSpPr>
              <p:spPr>
                <a:xfrm flipV="1">
                  <a:off x="4572000" y="455760"/>
                  <a:ext cx="603360" cy="38088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flipH="1" flipV="1">
                  <a:off x="3890520" y="455400"/>
                  <a:ext cx="381240" cy="53316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730760" y="1297080"/>
                  <a:ext cx="984240" cy="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 flipH="1" flipV="1">
                  <a:off x="3270240" y="914040"/>
                  <a:ext cx="843120" cy="382680"/>
                </a:xfrm>
                <a:prstGeom prst="line">
                  <a:avLst/>
                </a:prstGeom>
                <a:ln w="9360">
                  <a:solidFill>
                    <a:srgbClr val="00008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" name=""/>
                <p:cNvGrpSpPr/>
                <p:nvPr/>
              </p:nvGrpSpPr>
              <p:grpSpPr>
                <a:xfrm>
                  <a:off x="1143000" y="0"/>
                  <a:ext cx="7842240" cy="1449360"/>
                  <a:chOff x="1143000" y="0"/>
                  <a:chExt cx="7842240" cy="144936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>
                    <a:off x="3048120" y="154080"/>
                    <a:ext cx="1746000" cy="30168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Πόλη-Οικισμός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1143000" y="838080"/>
                    <a:ext cx="2127240" cy="38124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Μεμονωμένες κατασκευές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5175360" y="0"/>
                    <a:ext cx="3809880" cy="91440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 u="sng">
                        <a:solidFill>
                          <a:srgbClr val="ffcc66"/>
                        </a:solidFill>
                        <a:uFillTx/>
                        <a:latin typeface="Times New Roman"/>
                      </a:rPr>
                      <a:t>Υπερτοπικά τεχνικά έργα</a:t>
                    </a: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 (δίκτυα συγκοινωνίας,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μεταφοράς, υδραυλικά, ενέργειας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5715000" y="1068480"/>
                    <a:ext cx="2889360" cy="38088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87120" rIns="87120" tIns="43560" bIns="43560" anchor="ctr">
                    <a:noAutofit/>
                  </a:bodyPr>
                  <a:p>
                    <a:pPr algn="ctr">
                      <a:spcBef>
                        <a:spcPts val="876"/>
                      </a:spcBef>
                      <a:tabLst>
                        <a:tab algn="l" pos="0"/>
                        <a:tab algn="l" pos="873000"/>
                        <a:tab algn="l" pos="1746360"/>
                        <a:tab algn="l" pos="2619360"/>
                        <a:tab algn="l" pos="3492360"/>
                        <a:tab algn="l" pos="4365720"/>
                        <a:tab algn="l" pos="5238720"/>
                        <a:tab algn="l" pos="6111720"/>
                        <a:tab algn="l" pos="6985080"/>
                        <a:tab algn="l" pos="7858080"/>
                        <a:tab algn="l" pos="8731080"/>
                        <a:tab algn="l" pos="9604440"/>
                        <a:tab algn="l" pos="10477440"/>
                      </a:tabLst>
                    </a:pPr>
                    <a:r>
                      <a:rPr b="1" i="1" lang="el-GR" sz="1400" spc="-1" strike="noStrike">
                        <a:solidFill>
                          <a:srgbClr val="ffcc66"/>
                        </a:solidFill>
                        <a:latin typeface="Times New Roman"/>
                      </a:rPr>
                      <a:t>Μεμονωμένα τεχνικά έργα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" name=""/>
              <p:cNvGrpSpPr/>
              <p:nvPr/>
            </p:nvGrpSpPr>
            <p:grpSpPr>
              <a:xfrm>
                <a:off x="0" y="1981080"/>
                <a:ext cx="3732120" cy="2745000"/>
                <a:chOff x="0" y="1981080"/>
                <a:chExt cx="3732120" cy="27450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04880" y="1981080"/>
                  <a:ext cx="2127240" cy="306360"/>
                </a:xfrm>
                <a:prstGeom prst="rect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Ιστορία δραστηριοτήτω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58760" y="2514600"/>
                  <a:ext cx="1206360" cy="914400"/>
                </a:xfrm>
                <a:prstGeom prst="rect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Ιστορία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Γεωγραφικώ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Τόπω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0" y="4038480"/>
                  <a:ext cx="3048120" cy="687600"/>
                </a:xfrm>
                <a:prstGeom prst="rect">
                  <a:avLst/>
                </a:prstGeom>
                <a:solidFill>
                  <a:srgbClr val="99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Ιστορία αστικών τμημάτων ή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κατασκευών ( τεχνητού περιβάλλοντος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589120" y="5334120"/>
                <a:ext cx="3888000" cy="1523880"/>
                <a:chOff x="2589120" y="5334120"/>
                <a:chExt cx="3888000" cy="15238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3048120" y="6324480"/>
                  <a:ext cx="920520" cy="3049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Πανίδα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5715000" y="5640480"/>
                  <a:ext cx="762120" cy="3031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Αέρα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334120" y="6248520"/>
                  <a:ext cx="842760" cy="30312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Νερό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4272120" y="6551640"/>
                  <a:ext cx="839520" cy="3063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Χλωρίδα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666880" y="5869080"/>
                  <a:ext cx="843120" cy="30168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Έδαφο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589120" y="5334120"/>
                  <a:ext cx="839880" cy="3063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635880" y="2057400"/>
                <a:ext cx="2508120" cy="2743200"/>
                <a:chOff x="6635880" y="2057400"/>
                <a:chExt cx="2508120" cy="274320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635880" y="2057400"/>
                  <a:ext cx="1827000" cy="303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Σχέσεις επικοινωνία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620120" y="2819520"/>
                  <a:ext cx="1523880" cy="609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Άνθρωπος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(Υγεία-Πολιτισμός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016760" y="3809880"/>
                  <a:ext cx="2127240" cy="9907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7120" rIns="87120" tIns="43560" bIns="4356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Κοινωνικές δραστηριότητε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( χωροταξική οργάνωση,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873000"/>
                      <a:tab algn="l" pos="1746360"/>
                      <a:tab algn="l" pos="2619360"/>
                      <a:tab algn="l" pos="3492360"/>
                      <a:tab algn="l" pos="4365720"/>
                      <a:tab algn="l" pos="5238720"/>
                      <a:tab algn="l" pos="6111720"/>
                      <a:tab algn="l" pos="6985080"/>
                      <a:tab algn="l" pos="7858080"/>
                      <a:tab algn="l" pos="8731080"/>
                      <a:tab algn="l" pos="9604440"/>
                      <a:tab algn="l" pos="10477440"/>
                    </a:tabLst>
                  </a:pPr>
                  <a:r>
                    <a:rPr b="1" i="1" lang="el-GR" sz="1400" spc="-1" strike="noStrike">
                      <a:solidFill>
                        <a:srgbClr val="ffcc66"/>
                      </a:solidFill>
                      <a:latin typeface="Times New Roman"/>
                    </a:rPr>
                    <a:t>οικονομία κ.λ.π. 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5" name=""/>
          <p:cNvSpPr txBox="1"/>
          <p:nvPr/>
        </p:nvSpPr>
        <p:spPr>
          <a:xfrm>
            <a:off x="3505320" y="2590920"/>
            <a:ext cx="2127240" cy="114300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ΤΟ ΠΕΡΙΒΑΛΛΟ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72120" y="3048120"/>
            <a:ext cx="522000" cy="226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ΚΑΙ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510000" y="3583080"/>
            <a:ext cx="2205000" cy="455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ΟΙ ΠΑΡΑΜΕΤΡΟΙ ΤΟΥ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228600" y="-685800"/>
            <a:ext cx="9669600" cy="8001000"/>
          </a:xfrm>
          <a:prstGeom prst="ellipse">
            <a:avLst/>
          </a:prstGeom>
          <a:solidFill>
            <a:srgbClr val="ffffff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19320" y="8380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6600"/>
                </a:solidFill>
                <a:uFillTx/>
                <a:latin typeface="Times New Roman"/>
              </a:rPr>
              <a:t>ΟΡΙΣΜΟΣ ΤΗΣ ΠΕΡΙΒΑΛΛΟΝΤΙΚΗΣ ΕΚΠΑΙΔΕΥΣ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2133720"/>
            <a:ext cx="716292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6600"/>
                </a:solidFill>
                <a:latin typeface="Times New Roman"/>
              </a:rPr>
              <a:t>Η εκπαίδευση που γίνετα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l-GR" sz="3200" spc="-1" strike="noStrike" u="sng">
                <a:solidFill>
                  <a:srgbClr val="336600"/>
                </a:solidFill>
                <a:uFillTx/>
                <a:latin typeface="Times New Roman"/>
              </a:rPr>
              <a:t>Μέσα</a:t>
            </a:r>
            <a:r>
              <a:rPr b="1" lang="el-GR" sz="2400" spc="-1" strike="noStrike" u="sng">
                <a:solidFill>
                  <a:srgbClr val="336600"/>
                </a:solidFill>
                <a:uFillTx/>
                <a:latin typeface="Times New Roman"/>
              </a:rPr>
              <a:t> </a:t>
            </a:r>
            <a:r>
              <a:rPr b="1" lang="el-GR" sz="3200" spc="-1" strike="noStrike" u="sng">
                <a:solidFill>
                  <a:srgbClr val="336600"/>
                </a:solidFill>
                <a:uFillTx/>
                <a:latin typeface="Times New Roman"/>
              </a:rPr>
              <a:t>στο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3200" spc="-1" strike="noStrike">
                <a:solidFill>
                  <a:srgbClr val="336600"/>
                </a:solidFill>
                <a:latin typeface="Times New Roman"/>
              </a:rPr>
              <a:t>Περιβάλλο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l-GR" sz="3200" spc="-1" strike="noStrike" u="sng">
                <a:solidFill>
                  <a:srgbClr val="336600"/>
                </a:solidFill>
                <a:uFillTx/>
                <a:latin typeface="Times New Roman"/>
              </a:rPr>
              <a:t>Για το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3200" spc="-1" strike="noStrike">
                <a:solidFill>
                  <a:srgbClr val="336600"/>
                </a:solidFill>
                <a:latin typeface="Times New Roman"/>
              </a:rPr>
              <a:t>Περιβάλλον 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 κα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l-GR" sz="3200" spc="-1" strike="noStrike" u="sng">
                <a:solidFill>
                  <a:srgbClr val="336600"/>
                </a:solidFill>
                <a:uFillTx/>
                <a:latin typeface="Times New Roman"/>
              </a:rPr>
              <a:t>Για χάρη του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6600"/>
                </a:solidFill>
                <a:latin typeface="Times New Roman"/>
              </a:rPr>
              <a:t>	</a:t>
            </a:r>
            <a:r>
              <a:rPr b="1" lang="el-GR" sz="3200" spc="-1" strike="noStrike">
                <a:solidFill>
                  <a:srgbClr val="336600"/>
                </a:solidFill>
                <a:latin typeface="Times New Roman"/>
              </a:rPr>
              <a:t>Περιβάλλοντο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3049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ΚΡΙΤΗΡΙΑ ΕΠΙΛΟΓΗΣ ΕΝΟΣ ΘΕΜΑΤΟΣ Π.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990720"/>
            <a:ext cx="7467840" cy="49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αφορά συγκεκριμένο τοπικό περιβαλλοντικό πρόβλημα, για να υπάρχει η δυνατότητα της βιωματικής προσέγγιση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υπάρχει εύκολη πρόσβαση στον χώρο και στις πηγές πληροφόρηση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ευνοεί τη διεπιστημονική προσέγγιση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ανταποκρίνεται στα ενδιαφέροντα και στις εμπειρίες των μαθητών αλλά και των εκπαιδευτικών της Παιδαγωγικής ομάδα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μη δημιουργεί, κατά το δυνατόν, δυσκολίες στη λειτουργία του σχολείο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υπάρχει, κατά το δυνατόν, γνωστική συγγένεια με το υπόλοιπο πρόγραμμα του σχολείο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προωθεί τη σύνδεση του σχολείου με την τοπική κοινωνία και να βασίζεται στις αρχές της βιώσιμης ανάπτυξη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764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422280"/>
            <a:ext cx="9144000" cy="6012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9144000" cy="61246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24000" y="0"/>
            <a:ext cx="8305560" cy="6894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116000" y="-152280"/>
            <a:ext cx="6853320" cy="7010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755640" y="0"/>
            <a:ext cx="7543800" cy="7035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755640" y="95400"/>
            <a:ext cx="8572680" cy="6762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8"/>
          <a:stretch/>
        </p:blipFill>
        <p:spPr>
          <a:xfrm>
            <a:off x="1835280" y="981000"/>
            <a:ext cx="5324400" cy="53244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0"/>
            <a:ext cx="914400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000000"/>
                </a:solidFill>
                <a:uFillTx/>
                <a:latin typeface="Times New Roman"/>
              </a:rPr>
              <a:t>ΟΙ ΧΩΡΙΚΕΣ ΔΙΑΣΤΑΣΕΙΣ ΕΝΟΣ ΘΕΜΑΤΟ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000000"/>
                </a:solidFill>
                <a:uFillTx/>
                <a:latin typeface="Times New Roman"/>
              </a:rPr>
              <a:t>ΑΠΟ ΤΟ ΤΟΠΙΚΟ ΣΤΟ –ΠΕΡΙΦΕΡΕΙΑΚΟ –ΕΘΝΙΚΟ –ΠΑΓΚΟΣΜΙΟ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181480" y="0"/>
            <a:ext cx="3962520" cy="66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ΠΕΡΙΒΑΛΛΟΝΤΙΚΗ ΕΚΠΑΙΔΕΥΣ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ΑΣΙΚΟΙ ΣΤΟΧΟΙ: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υνειδητοποίηση και ευαισθητοποίηση των προβλημάτων του περιβάλλοντο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ντίληψη και κατανόηση του περιβάλλοντος στο σύνολό το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πόκτηση κοινωνικών αξιών και ενδιαφέροντος για το περιβάλλο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νεργή συμμετοχή στην προστασία και τη βελτίωση του περιβάλλοντο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7432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5029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0"/>
            <a:ext cx="457200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ΤΟΠΙΚΗ ΙΣΤΟΡΙ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 u="sng">
                <a:solidFill>
                  <a:srgbClr val="000000"/>
                </a:solidFill>
                <a:uFillTx/>
                <a:latin typeface="Times New Roman"/>
              </a:rPr>
              <a:t>Α. ΣΚΟΠΟΙ ΚΑΙ ΣΤΟΧΟΙ ΔΙΔΑΣΚΑΛΙΑ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Επειδή η Γενική Ιστορία είναι κατά κανόνα γνώση αφηρημένη (γι’  άλλους τόπους, άλλους χρόνους, άλλες κοινωνικές περιστάσεις),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η Τοπική Ιστορία προσφέρεται ως πεδίο μελέτης ορατό  και ερευνήσιμο για να επιδιωχθούν οι παρακάτω στόχο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Να έρθουν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σε επαφή οι μαθητές με ιστορικά στοιχεία ερευνήσιμα και κατανοητά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Να κατανοήσουν ότι η Ιστορία 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είναι ανθρώπινη δραστηριότητα με ανθρώπινα κίνητρα,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 ενταγμένη μέσα σε ανθρώπινα μέτρ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Να εθιστούν στην παρατήρηση, στην έρευνα και την ερμηνεία συγκεκριμένων ιστορικών μνημείων, ξεκινώντας από τα ίχνη του και από πρωτογενές υλικ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Να εθιστούν στην ακρόαση </a:t>
            </a: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αντίθετων πληροφοριών</a:t>
            </a: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 και εκτιμήσεων για το ίδιο θέμα, και να νιώθουν την ανάγκη και την ευθύνη απόφανση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Times New Roman"/>
              </a:rPr>
              <a:t>Να ευαισθητοποιηθούν για προβλήματα της τοπικής κοινωνίας μέσα στην οποία ζουν και για την ανάγκη συμμετοχής τους προς αναζήτηση λύσης των προβλημάτων αυτών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Times New Roman"/>
              </a:rPr>
              <a:t>Να προετοιμαστούν ή να διευκολυνθούν στην κατανόηση της Γενικής ιστορίας και της ευρύτερης κοινωνίας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0"/>
            <a:ext cx="0" cy="685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4140360" y="5157720"/>
            <a:ext cx="100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40000" y="1628640"/>
            <a:ext cx="1152360" cy="35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924360" y="2133360"/>
            <a:ext cx="129528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850920" y="3284640"/>
            <a:ext cx="1368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276360" y="3284640"/>
            <a:ext cx="194292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140360" y="4365720"/>
            <a:ext cx="107928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971640" y="1052640"/>
          <a:ext cx="7632720" cy="4681440"/>
        </p:xfrm>
        <a:graphic>
          <a:graphicData uri="http://schemas.openxmlformats.org/drawingml/2006/table">
            <a:tbl>
              <a:tblPr/>
              <a:tblGrid>
                <a:gridCol w="3816360"/>
                <a:gridCol w="3816360"/>
              </a:tblGrid>
              <a:tr h="13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πό την «Διακήρυξη της Τιφλίδας» για την Π.Ε. (1977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πό το Ενιαίο Πλαίσιο Προγράμματος Σπουδών του ΥΠΕΠΘ (199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Στόχοι της Π.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Δεξιότητες:</a:t>
                      </a:r>
                      <a:r>
                        <a:rPr b="1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Να βοηθήσει άτομα και κοινωνικές ομάδες να αποκτήσουν τις απαραίτητες δεξιότητες για την επίλυση των περιβαλλοντικών προβλημάτω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Στόχοι της Τοπικής Ιστορί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Να ευαισθητοποιηθούν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οι μαθητές]</a:t>
                      </a:r>
                      <a:r>
                        <a:rPr b="1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για τα προβλήματα της τοπικής κοινωνίας μέσα στην οποία ζουν και για την ανάγκη συμμετοχής τους στην αναζήτηση λύσης των προβλημάτων αυτώ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663300"/>
                </a:solidFill>
                <a:uFillTx/>
                <a:latin typeface="Times New Roman"/>
              </a:rPr>
              <a:t>ΠΕΡΙΒΑΛΛΟΝΤΙΚΗ ΕΚΠ/ΣΗ &lt;==&gt; ΤΟΠΙΚΗ ΙΣΤΟΡΙΑ +…+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3886200" cy="601992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3300"/>
                </a:solidFill>
                <a:latin typeface="Times New Roman"/>
              </a:rPr>
              <a:t>Παράμετροι Περιβάλλοντος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Φυσικό, Ανθρωπογενές ( κοινωνικό, τεχνητό,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</a:rPr>
              <a:t>ιστορικό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3300"/>
                </a:solidFill>
                <a:latin typeface="Times New Roman"/>
              </a:rPr>
              <a:t>Ορισμός Π.Ε.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(Εκπαίδευση μέσα στο, για το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και για χάρη του Περιβάλλοντο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3300"/>
                </a:solidFill>
                <a:latin typeface="Times New Roman"/>
              </a:rPr>
              <a:t>Στόχοι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3300"/>
                </a:solidFill>
                <a:latin typeface="Times New Roman"/>
              </a:rPr>
              <a:t>Κριτήρια Επιλογής Θέματος Π.Ε.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i="1" lang="el-GR" sz="2400" spc="-1" strike="noStrike" u="sng">
                <a:solidFill>
                  <a:srgbClr val="ff0000"/>
                </a:solidFill>
                <a:uFillTx/>
                <a:latin typeface="Times New Roman"/>
              </a:rPr>
              <a:t>Τοπικό περιβάλλον</a:t>
            </a: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εύκολη πρόσβαση, η δυνατότητα βιωματικής προσέγγισης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διεπιστημονική προσέγγιση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ενδιαφέροντα και εμπειρίες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σύνδεση του σχολείου με την τοπική κοινωνία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715000" y="1180800"/>
            <a:ext cx="3124080" cy="4686120"/>
          </a:xfrm>
          <a:prstGeom prst="rect">
            <a:avLst/>
          </a:prstGeom>
          <a:noFill/>
          <a:ln w="28440">
            <a:solidFill>
              <a:srgbClr val="66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ff0000"/>
                </a:solidFill>
                <a:uFillTx/>
                <a:latin typeface="Times New Roman"/>
              </a:rPr>
              <a:t>ΚΑΙ ΤΟΠΙΚΗ ΙΣΤΟΡΙ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</a:rPr>
              <a:t>που είνα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Η Γνώση και Κατανόηση όλων των παραμέτρω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(στο διάβα του χρόνου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κατ’ αρχήν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Times New Roman"/>
              </a:rPr>
              <a:t>της ιδιαίτερης πατρίδας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( Γεωμορφία, Οικονομία, Τεχνικά έργα, Κοινωνική-Πολιτιστική ζωή…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143160"/>
            <a:ext cx="1371600" cy="571680"/>
          </a:xfrm>
          <a:prstGeom prst="leftRightArrow">
            <a:avLst>
              <a:gd name="adj1" fmla="val 50000"/>
              <a:gd name="adj2" fmla="val 47763"/>
            </a:avLst>
          </a:prstGeom>
          <a:solidFill>
            <a:srgbClr val="663300">
              <a:alpha val="50000"/>
            </a:srgbClr>
          </a:solidFill>
          <a:ln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53352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Περιβαλλοντική Εκπαίδευση και Τοπική Ιστορί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Κοινά Χαρακτηριστικ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20574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Είναι  διεπιστημονικές – διαθεματικέ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895480"/>
            <a:ext cx="6858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Times New Roman"/>
              </a:rPr>
              <a:t>Παρουσιάζουν ομοιότητες και συγκλίσει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Στους παιδαγωγικούς στόχου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Στα περιεχόμεν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</a:rPr>
              <a:t>Στην παιδαγωγικ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9:14:08Z</dcterms:created>
  <dc:creator>*</dc:creator>
  <dc:description/>
  <dc:language>en-US</dc:language>
  <cp:lastModifiedBy>*</cp:lastModifiedBy>
  <dcterms:modified xsi:type="dcterms:W3CDTF">2004-01-12T09:14:26Z</dcterms:modified>
  <cp:revision>1</cp:revision>
  <dc:subject/>
  <dc:title>Παρουσίαση του PowerPoint</dc:title>
</cp:coreProperties>
</file>