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0.gif" ContentType="image/gif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A57B-905A-4FF6-903C-C4BA8F94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A28F-2E71-4E56-904E-2872744C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72B2-6D88-4C65-A101-7899ACCE2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BA97-295B-4A67-B701-42E37541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AF30-5D35-4E02-9ADE-3086726C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4617-6940-49FB-8208-63659189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4463-171A-41F6-AA7A-A28B0E17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E794-F18C-4482-B805-CE33CE63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51FF-F32E-40A3-894F-DA162FB2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75ED-EBCB-4CE3-B8AD-9F169509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1907-3C94-4A15-9233-C4C11CE8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E263-536E-400F-93AE-7D4C1787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4E6B-5F07-4627-8999-BED4973566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3351240" y="2440080"/>
              <a:ext cx="2459160" cy="177300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sp>
          <p:nvSpPr>
            <p:cNvPr id="43" name=""/>
            <p:cNvSpPr/>
            <p:nvPr/>
          </p:nvSpPr>
          <p:spPr>
            <a:xfrm>
              <a:off x="3890880" y="2592360"/>
              <a:ext cx="839880" cy="836640"/>
            </a:xfrm>
            <a:prstGeom prst="ellipse">
              <a:avLst/>
            </a:prstGeom>
            <a:solidFill>
              <a:srgbClr val="0000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13240" y="2592360"/>
              <a:ext cx="843120" cy="83664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890880" y="3122640"/>
              <a:ext cx="839880" cy="839880"/>
            </a:xfrm>
            <a:prstGeom prst="ellipse">
              <a:avLst/>
            </a:prstGeom>
            <a:solidFill>
              <a:srgbClr val="99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13240" y="3122640"/>
              <a:ext cx="843120" cy="839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75120" y="3962520"/>
              <a:ext cx="0" cy="9903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256360" y="3122640"/>
              <a:ext cx="8395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3047760" y="3583080"/>
              <a:ext cx="8427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4349880" y="1979280"/>
              <a:ext cx="0" cy="6872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27360" y="2819520"/>
              <a:ext cx="1220760" cy="114300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i="1" lang="el-GR" sz="1400" spc="-1" strike="noStrike">
                  <a:solidFill>
                    <a:srgbClr val="ffcc66"/>
                  </a:solidFill>
                  <a:latin typeface="Times New Roman"/>
                </a:rPr>
                <a:t>ΙΣΤΟΡΙΚ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i="1" lang="el-GR" sz="1400" spc="-1" strike="noStrike">
                  <a:solidFill>
                    <a:srgbClr val="ffcc66"/>
                  </a:solidFill>
                  <a:latin typeface="Times New Roman"/>
                </a:rPr>
                <a:t>ΠΕΡΙΒΑΛΛΟ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32120" y="762120"/>
              <a:ext cx="1220760" cy="12175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i="1" lang="el-GR" sz="1400" spc="-1" strike="noStrike">
                  <a:solidFill>
                    <a:srgbClr val="ffcc66"/>
                  </a:solidFill>
                  <a:latin typeface="Times New Roman"/>
                </a:rPr>
                <a:t>ΤΕΧΝΗΤ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i="1" lang="el-GR" sz="1400" spc="-1" strike="noStrike">
                  <a:solidFill>
                    <a:srgbClr val="ffcc66"/>
                  </a:solidFill>
                  <a:latin typeface="Times New Roman"/>
                </a:rPr>
                <a:t>ΠΕΡΙΒΑΛΛΟ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2514600"/>
              <a:ext cx="1224000" cy="12207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i="1" lang="el-GR" sz="1400" spc="-1" strike="noStrike">
                  <a:solidFill>
                    <a:srgbClr val="ffcc66"/>
                  </a:solidFill>
                  <a:latin typeface="Times New Roman"/>
                </a:rPr>
                <a:t>ΚΟΙΝΩΝΙΚ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i="1" lang="el-GR" sz="1400" spc="-1" strike="noStrike">
                  <a:solidFill>
                    <a:srgbClr val="ffcc66"/>
                  </a:solidFill>
                  <a:latin typeface="Times New Roman"/>
                </a:rPr>
                <a:t>ΠΕΡΙΒΑΛΛΟ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91120" y="4952880"/>
              <a:ext cx="1224000" cy="12178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i="1" lang="el-GR" sz="1400" spc="-1" strike="noStrike">
                  <a:solidFill>
                    <a:srgbClr val="ffcc66"/>
                  </a:solidFill>
                  <a:latin typeface="Times New Roman"/>
                </a:rPr>
                <a:t>ΦΥΣΙΚ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i="1" lang="el-GR" sz="1400" spc="-1" strike="noStrike">
                  <a:solidFill>
                    <a:srgbClr val="ffcc66"/>
                  </a:solidFill>
                  <a:latin typeface="Times New Roman"/>
                </a:rPr>
                <a:t>ΠΕΡΙΒΑΛΛΟ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6" name=""/>
              <p:cNvSpPr/>
              <p:nvPr/>
            </p:nvSpPr>
            <p:spPr>
              <a:xfrm>
                <a:off x="5334120" y="5715000"/>
                <a:ext cx="380880" cy="7452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3510000" y="5486400"/>
                <a:ext cx="68112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3732120" y="5869080"/>
                <a:ext cx="617760" cy="4554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033880" y="5715000"/>
                <a:ext cx="603360" cy="53352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730760" y="6095880"/>
                <a:ext cx="0" cy="45576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3510000" y="5715000"/>
                <a:ext cx="603360" cy="1540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>
                <a:off x="1604880" y="3583080"/>
                <a:ext cx="603360" cy="4554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2590920" y="2285640"/>
                <a:ext cx="0" cy="60948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flipV="1">
                <a:off x="1365120" y="2895120"/>
                <a:ext cx="462240" cy="30492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6635880" y="2360160"/>
                <a:ext cx="984240" cy="306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7080120" y="2972880"/>
                <a:ext cx="540000" cy="149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699240" y="3583080"/>
                <a:ext cx="539640" cy="379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grpSp>
              <p:nvGrpSpPr>
                <p:cNvPr id="69" name=""/>
                <p:cNvGrpSpPr/>
                <p:nvPr/>
              </p:nvGrpSpPr>
              <p:grpSpPr>
                <a:xfrm>
                  <a:off x="1143000" y="0"/>
                  <a:ext cx="7842240" cy="1449360"/>
                  <a:chOff x="1143000" y="0"/>
                  <a:chExt cx="7842240" cy="14493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V="1">
                    <a:off x="4572000" y="455760"/>
                    <a:ext cx="603360" cy="380880"/>
                  </a:xfrm>
                  <a:prstGeom prst="line">
                    <a:avLst/>
                  </a:prstGeom>
                  <a:ln w="9360">
                    <a:solidFill>
                      <a:srgbClr val="00008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flipV="1">
                    <a:off x="3890520" y="455400"/>
                    <a:ext cx="381240" cy="533160"/>
                  </a:xfrm>
                  <a:prstGeom prst="line">
                    <a:avLst/>
                  </a:prstGeom>
                  <a:ln w="9360">
                    <a:solidFill>
                      <a:srgbClr val="00008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4730760" y="1297080"/>
                    <a:ext cx="984240" cy="0"/>
                  </a:xfrm>
                  <a:prstGeom prst="line">
                    <a:avLst/>
                  </a:prstGeom>
                  <a:ln w="9360">
                    <a:solidFill>
                      <a:srgbClr val="00008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flipH="1" flipV="1">
                    <a:off x="3270240" y="914040"/>
                    <a:ext cx="843120" cy="382680"/>
                  </a:xfrm>
                  <a:prstGeom prst="line">
                    <a:avLst/>
                  </a:prstGeom>
                  <a:ln w="9360">
                    <a:solidFill>
                      <a:srgbClr val="00008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4" name=""/>
                  <p:cNvGrpSpPr/>
                  <p:nvPr/>
                </p:nvGrpSpPr>
                <p:grpSpPr>
                  <a:xfrm>
                    <a:off x="1143000" y="0"/>
                    <a:ext cx="7842240" cy="1449360"/>
                    <a:chOff x="1143000" y="0"/>
                    <a:chExt cx="7842240" cy="1449360"/>
                  </a:xfrm>
                </p:grpSpPr>
                <p:sp>
                  <p:nvSpPr>
                    <p:cNvPr id="75" name=""/>
                    <p:cNvSpPr/>
                    <p:nvPr/>
                  </p:nvSpPr>
                  <p:spPr>
                    <a:xfrm>
                      <a:off x="3048120" y="154080"/>
                      <a:ext cx="1746000" cy="301680"/>
                    </a:xfrm>
                    <a:prstGeom prst="rect">
                      <a:avLst/>
                    </a:prstGeom>
                    <a:solidFill>
                      <a:srgbClr val="000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87120" rIns="87120" tIns="43560" bIns="4356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1" i="1" lang="el-GR" sz="14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Πόλη-Οικισμό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" name=""/>
                    <p:cNvSpPr/>
                    <p:nvPr/>
                  </p:nvSpPr>
                  <p:spPr>
                    <a:xfrm>
                      <a:off x="1143000" y="838080"/>
                      <a:ext cx="2127240" cy="381240"/>
                    </a:xfrm>
                    <a:prstGeom prst="rect">
                      <a:avLst/>
                    </a:prstGeom>
                    <a:solidFill>
                      <a:srgbClr val="000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87120" rIns="87120" tIns="43560" bIns="4356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1" i="1" lang="el-GR" sz="14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Μεμονωμένες κατασκευέ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" name=""/>
                    <p:cNvSpPr/>
                    <p:nvPr/>
                  </p:nvSpPr>
                  <p:spPr>
                    <a:xfrm>
                      <a:off x="5175360" y="0"/>
                      <a:ext cx="3809880" cy="914400"/>
                    </a:xfrm>
                    <a:prstGeom prst="rect">
                      <a:avLst/>
                    </a:prstGeom>
                    <a:solidFill>
                      <a:srgbClr val="000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87120" rIns="87120" tIns="43560" bIns="4356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1" i="1" lang="el-GR" sz="1400" spc="-1" strike="noStrike" u="sng">
                          <a:solidFill>
                            <a:srgbClr val="ffcc66"/>
                          </a:solidFill>
                          <a:uFillTx/>
                          <a:latin typeface="Times New Roman"/>
                        </a:rPr>
                        <a:t>Υπερτοπικά τεχνικά έργα</a:t>
                      </a:r>
                      <a:r>
                        <a:rPr b="1" i="1" lang="el-GR" sz="14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(δίκτυα συγκοινωνίας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1" i="1" lang="el-GR" sz="14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μεταφοράς, υδραυλικά, ενέργεια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" name=""/>
                    <p:cNvSpPr/>
                    <p:nvPr/>
                  </p:nvSpPr>
                  <p:spPr>
                    <a:xfrm>
                      <a:off x="5715000" y="1068480"/>
                      <a:ext cx="2889360" cy="380880"/>
                    </a:xfrm>
                    <a:prstGeom prst="rect">
                      <a:avLst/>
                    </a:prstGeom>
                    <a:solidFill>
                      <a:srgbClr val="000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87120" rIns="87120" tIns="43560" bIns="4356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873000"/>
                          <a:tab algn="l" pos="1746360"/>
                          <a:tab algn="l" pos="2619360"/>
                          <a:tab algn="l" pos="3492360"/>
                          <a:tab algn="l" pos="4365720"/>
                          <a:tab algn="l" pos="5238720"/>
                          <a:tab algn="l" pos="6111720"/>
                          <a:tab algn="l" pos="6985080"/>
                          <a:tab algn="l" pos="7858080"/>
                          <a:tab algn="l" pos="8731080"/>
                          <a:tab algn="l" pos="9604440"/>
                          <a:tab algn="l" pos="10477440"/>
                        </a:tabLst>
                      </a:pPr>
                      <a:r>
                        <a:rPr b="1" i="1" lang="el-GR" sz="14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Μεμονωμένα τεχνικά έργ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9" name=""/>
                <p:cNvGrpSpPr/>
                <p:nvPr/>
              </p:nvGrpSpPr>
              <p:grpSpPr>
                <a:xfrm>
                  <a:off x="0" y="1981080"/>
                  <a:ext cx="3732120" cy="2745000"/>
                  <a:chOff x="0" y="1981080"/>
                  <a:chExt cx="3732120" cy="2745000"/>
                </a:xfrm>
              </p:grpSpPr>
              <p:sp>
                <p:nvSpPr>
                  <p:cNvPr id="80" name=""/>
                  <p:cNvSpPr/>
                  <p:nvPr/>
                </p:nvSpPr>
                <p:spPr>
                  <a:xfrm>
                    <a:off x="1604880" y="1981080"/>
                    <a:ext cx="2127240" cy="306360"/>
                  </a:xfrm>
                  <a:prstGeom prst="rect">
                    <a:avLst/>
                  </a:prstGeom>
                  <a:solidFill>
                    <a:srgbClr val="99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87120" rIns="87120" tIns="43560" bIns="43560" anchor="ctr">
                    <a:no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873000"/>
                        <a:tab algn="l" pos="1746360"/>
                        <a:tab algn="l" pos="2619360"/>
                        <a:tab algn="l" pos="3492360"/>
                        <a:tab algn="l" pos="4365720"/>
                        <a:tab algn="l" pos="5238720"/>
                        <a:tab algn="l" pos="6111720"/>
                        <a:tab algn="l" pos="6985080"/>
                        <a:tab algn="l" pos="7858080"/>
                        <a:tab algn="l" pos="8731080"/>
                        <a:tab algn="l" pos="9604440"/>
                        <a:tab algn="l" pos="10477440"/>
                      </a:tabLst>
                    </a:pPr>
                    <a:r>
                      <a:rPr b="1" i="1" lang="el-GR" sz="1400" spc="-1" strike="noStrike">
                        <a:solidFill>
                          <a:srgbClr val="ffcc66"/>
                        </a:solidFill>
                        <a:latin typeface="Times New Roman"/>
                      </a:rPr>
                      <a:t>Ιστορία δραστηριοτήτων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158760" y="2514600"/>
                    <a:ext cx="1206360" cy="914400"/>
                  </a:xfrm>
                  <a:prstGeom prst="rect">
                    <a:avLst/>
                  </a:prstGeom>
                  <a:solidFill>
                    <a:srgbClr val="99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87120" rIns="87120" tIns="43560" bIns="43560" anchor="ctr">
                    <a:no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873000"/>
                        <a:tab algn="l" pos="1746360"/>
                        <a:tab algn="l" pos="2619360"/>
                        <a:tab algn="l" pos="3492360"/>
                        <a:tab algn="l" pos="4365720"/>
                        <a:tab algn="l" pos="5238720"/>
                        <a:tab algn="l" pos="6111720"/>
                        <a:tab algn="l" pos="6985080"/>
                        <a:tab algn="l" pos="7858080"/>
                        <a:tab algn="l" pos="8731080"/>
                        <a:tab algn="l" pos="9604440"/>
                        <a:tab algn="l" pos="10477440"/>
                      </a:tabLst>
                    </a:pPr>
                    <a:r>
                      <a:rPr b="1" i="1" lang="el-GR" sz="1400" spc="-1" strike="noStrike">
                        <a:solidFill>
                          <a:srgbClr val="ffcc66"/>
                        </a:solidFill>
                        <a:latin typeface="Times New Roman"/>
                      </a:rPr>
                      <a:t>Ιστορία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873000"/>
                        <a:tab algn="l" pos="1746360"/>
                        <a:tab algn="l" pos="2619360"/>
                        <a:tab algn="l" pos="3492360"/>
                        <a:tab algn="l" pos="4365720"/>
                        <a:tab algn="l" pos="5238720"/>
                        <a:tab algn="l" pos="6111720"/>
                        <a:tab algn="l" pos="6985080"/>
                        <a:tab algn="l" pos="7858080"/>
                        <a:tab algn="l" pos="8731080"/>
                        <a:tab algn="l" pos="9604440"/>
                        <a:tab algn="l" pos="10477440"/>
                      </a:tabLst>
                    </a:pPr>
                    <a:r>
                      <a:rPr b="1" i="1" lang="el-GR" sz="1400" spc="-1" strike="noStrike">
                        <a:solidFill>
                          <a:srgbClr val="ffcc66"/>
                        </a:solidFill>
                        <a:latin typeface="Times New Roman"/>
                      </a:rPr>
                      <a:t>Γεωγραφικών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873000"/>
                        <a:tab algn="l" pos="1746360"/>
                        <a:tab algn="l" pos="2619360"/>
                        <a:tab algn="l" pos="3492360"/>
                        <a:tab algn="l" pos="4365720"/>
                        <a:tab algn="l" pos="5238720"/>
                        <a:tab algn="l" pos="6111720"/>
                        <a:tab algn="l" pos="6985080"/>
                        <a:tab algn="l" pos="7858080"/>
                        <a:tab algn="l" pos="8731080"/>
                        <a:tab algn="l" pos="9604440"/>
                        <a:tab algn="l" pos="10477440"/>
                      </a:tabLst>
                    </a:pPr>
                    <a:r>
                      <a:rPr b="1" i="1" lang="el-GR" sz="1400" spc="-1" strike="noStrike">
                        <a:solidFill>
                          <a:srgbClr val="ffcc66"/>
                        </a:solidFill>
                        <a:latin typeface="Times New Roman"/>
                      </a:rPr>
                      <a:t>Τόπων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0" y="4038480"/>
                    <a:ext cx="3048120" cy="687600"/>
                  </a:xfrm>
                  <a:prstGeom prst="rect">
                    <a:avLst/>
                  </a:prstGeom>
                  <a:solidFill>
                    <a:srgbClr val="99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87120" rIns="87120" tIns="43560" bIns="43560" anchor="ctr">
                    <a:no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873000"/>
                        <a:tab algn="l" pos="1746360"/>
                        <a:tab algn="l" pos="2619360"/>
                        <a:tab algn="l" pos="3492360"/>
                        <a:tab algn="l" pos="4365720"/>
                        <a:tab algn="l" pos="5238720"/>
                        <a:tab algn="l" pos="6111720"/>
                        <a:tab algn="l" pos="6985080"/>
                        <a:tab algn="l" pos="7858080"/>
                        <a:tab algn="l" pos="8731080"/>
                        <a:tab algn="l" pos="9604440"/>
                        <a:tab algn="l" pos="10477440"/>
                      </a:tabLst>
                    </a:pPr>
                    <a:r>
                      <a:rPr b="1" i="1" lang="el-GR" sz="1400" spc="-1" strike="noStrike">
                        <a:solidFill>
                          <a:srgbClr val="ffcc66"/>
                        </a:solidFill>
                        <a:latin typeface="Times New Roman"/>
                      </a:rPr>
                      <a:t>Ιστορία αστικών τμημάτων ή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873000"/>
                        <a:tab algn="l" pos="1746360"/>
                        <a:tab algn="l" pos="2619360"/>
                        <a:tab algn="l" pos="3492360"/>
                        <a:tab algn="l" pos="4365720"/>
                        <a:tab algn="l" pos="5238720"/>
                        <a:tab algn="l" pos="6111720"/>
                        <a:tab algn="l" pos="6985080"/>
                        <a:tab algn="l" pos="7858080"/>
                        <a:tab algn="l" pos="8731080"/>
                        <a:tab algn="l" pos="9604440"/>
                        <a:tab algn="l" pos="10477440"/>
                      </a:tabLst>
                    </a:pPr>
                    <a:r>
                      <a:rPr b="1" i="1" lang="el-GR" sz="1400" spc="-1" strike="noStrike">
                        <a:solidFill>
                          <a:srgbClr val="ffcc66"/>
                        </a:solidFill>
                        <a:latin typeface="Times New Roman"/>
                      </a:rPr>
                      <a:t>κατασκευών ( τεχνητού περιβάλλοντος)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2589120" y="5334120"/>
                  <a:ext cx="3888000" cy="1523880"/>
                  <a:chOff x="2589120" y="5334120"/>
                  <a:chExt cx="3888000" cy="15238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>
                    <a:off x="3048120" y="6324480"/>
                    <a:ext cx="920520" cy="304920"/>
                  </a:xfrm>
                  <a:prstGeom prst="rect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87120" rIns="87120" tIns="43560" bIns="43560" anchor="ctr">
                    <a:no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873000"/>
                        <a:tab algn="l" pos="1746360"/>
                        <a:tab algn="l" pos="2619360"/>
                        <a:tab algn="l" pos="3492360"/>
                        <a:tab algn="l" pos="4365720"/>
                        <a:tab algn="l" pos="5238720"/>
                        <a:tab algn="l" pos="6111720"/>
                        <a:tab algn="l" pos="6985080"/>
                        <a:tab algn="l" pos="7858080"/>
                        <a:tab algn="l" pos="8731080"/>
                        <a:tab algn="l" pos="9604440"/>
                        <a:tab algn="l" pos="10477440"/>
                      </a:tabLst>
                    </a:pPr>
                    <a:r>
                      <a:rPr b="1" i="1" lang="el-GR" sz="1400" spc="-1" strike="noStrike">
                        <a:solidFill>
                          <a:srgbClr val="ffcc66"/>
                        </a:solidFill>
                        <a:latin typeface="Times New Roman"/>
                      </a:rPr>
                      <a:t>Πανίδα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5715000" y="5640480"/>
                    <a:ext cx="762120" cy="303120"/>
                  </a:xfrm>
                  <a:prstGeom prst="rect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87120" rIns="87120" tIns="43560" bIns="43560" anchor="ctr">
                    <a:no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873000"/>
                        <a:tab algn="l" pos="1746360"/>
                        <a:tab algn="l" pos="2619360"/>
                        <a:tab algn="l" pos="3492360"/>
                        <a:tab algn="l" pos="4365720"/>
                        <a:tab algn="l" pos="5238720"/>
                        <a:tab algn="l" pos="6111720"/>
                        <a:tab algn="l" pos="6985080"/>
                        <a:tab algn="l" pos="7858080"/>
                        <a:tab algn="l" pos="8731080"/>
                        <a:tab algn="l" pos="9604440"/>
                        <a:tab algn="l" pos="10477440"/>
                      </a:tabLst>
                    </a:pPr>
                    <a:r>
                      <a:rPr b="1" i="1" lang="el-GR" sz="1400" spc="-1" strike="noStrike">
                        <a:solidFill>
                          <a:srgbClr val="ffcc66"/>
                        </a:solidFill>
                        <a:latin typeface="Times New Roman"/>
                      </a:rPr>
                      <a:t>Αέρας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5334120" y="6248520"/>
                    <a:ext cx="842760" cy="303120"/>
                  </a:xfrm>
                  <a:prstGeom prst="rect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87120" rIns="87120" tIns="43560" bIns="43560" anchor="ctr">
                    <a:no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873000"/>
                        <a:tab algn="l" pos="1746360"/>
                        <a:tab algn="l" pos="2619360"/>
                        <a:tab algn="l" pos="3492360"/>
                        <a:tab algn="l" pos="4365720"/>
                        <a:tab algn="l" pos="5238720"/>
                        <a:tab algn="l" pos="6111720"/>
                        <a:tab algn="l" pos="6985080"/>
                        <a:tab algn="l" pos="7858080"/>
                        <a:tab algn="l" pos="8731080"/>
                        <a:tab algn="l" pos="9604440"/>
                        <a:tab algn="l" pos="10477440"/>
                      </a:tabLst>
                    </a:pPr>
                    <a:r>
                      <a:rPr b="1" i="1" lang="el-GR" sz="1400" spc="-1" strike="noStrike">
                        <a:solidFill>
                          <a:srgbClr val="ffcc66"/>
                        </a:solidFill>
                        <a:latin typeface="Times New Roman"/>
                      </a:rPr>
                      <a:t>Νερό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4272120" y="6551640"/>
                    <a:ext cx="839520" cy="306360"/>
                  </a:xfrm>
                  <a:prstGeom prst="rect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87120" rIns="87120" tIns="43560" bIns="43560" anchor="ctr">
                    <a:no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873000"/>
                        <a:tab algn="l" pos="1746360"/>
                        <a:tab algn="l" pos="2619360"/>
                        <a:tab algn="l" pos="3492360"/>
                        <a:tab algn="l" pos="4365720"/>
                        <a:tab algn="l" pos="5238720"/>
                        <a:tab algn="l" pos="6111720"/>
                        <a:tab algn="l" pos="6985080"/>
                        <a:tab algn="l" pos="7858080"/>
                        <a:tab algn="l" pos="8731080"/>
                        <a:tab algn="l" pos="9604440"/>
                        <a:tab algn="l" pos="10477440"/>
                      </a:tabLst>
                    </a:pPr>
                    <a:r>
                      <a:rPr b="1" i="1" lang="el-GR" sz="1400" spc="-1" strike="noStrike">
                        <a:solidFill>
                          <a:srgbClr val="ffcc66"/>
                        </a:solidFill>
                        <a:latin typeface="Times New Roman"/>
                      </a:rPr>
                      <a:t>Χλωρίδα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2666880" y="5869080"/>
                    <a:ext cx="843120" cy="301680"/>
                  </a:xfrm>
                  <a:prstGeom prst="rect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87120" rIns="87120" tIns="43560" bIns="43560" anchor="ctr">
                    <a:no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873000"/>
                        <a:tab algn="l" pos="1746360"/>
                        <a:tab algn="l" pos="2619360"/>
                        <a:tab algn="l" pos="3492360"/>
                        <a:tab algn="l" pos="4365720"/>
                        <a:tab algn="l" pos="5238720"/>
                        <a:tab algn="l" pos="6111720"/>
                        <a:tab algn="l" pos="6985080"/>
                        <a:tab algn="l" pos="7858080"/>
                        <a:tab algn="l" pos="8731080"/>
                        <a:tab algn="l" pos="9604440"/>
                        <a:tab algn="l" pos="10477440"/>
                      </a:tabLst>
                    </a:pPr>
                    <a:r>
                      <a:rPr b="1" i="1" lang="el-GR" sz="1400" spc="-1" strike="noStrike">
                        <a:solidFill>
                          <a:srgbClr val="ffcc66"/>
                        </a:solidFill>
                        <a:latin typeface="Times New Roman"/>
                      </a:rPr>
                      <a:t>Έδαφος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2589120" y="5334120"/>
                    <a:ext cx="839880" cy="306360"/>
                  </a:xfrm>
                  <a:prstGeom prst="rect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87120" rIns="87120" tIns="43560" bIns="43560" anchor="ctr">
                    <a:no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873000"/>
                        <a:tab algn="l" pos="1746360"/>
                        <a:tab algn="l" pos="2619360"/>
                        <a:tab algn="l" pos="3492360"/>
                        <a:tab algn="l" pos="4365720"/>
                        <a:tab algn="l" pos="5238720"/>
                        <a:tab algn="l" pos="6111720"/>
                        <a:tab algn="l" pos="6985080"/>
                        <a:tab algn="l" pos="7858080"/>
                        <a:tab algn="l" pos="8731080"/>
                        <a:tab algn="l" pos="9604440"/>
                        <a:tab algn="l" pos="104774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" name=""/>
                <p:cNvGrpSpPr/>
                <p:nvPr/>
              </p:nvGrpSpPr>
              <p:grpSpPr>
                <a:xfrm>
                  <a:off x="6635880" y="2057400"/>
                  <a:ext cx="2508120" cy="2743200"/>
                  <a:chOff x="6635880" y="2057400"/>
                  <a:chExt cx="2508120" cy="2743200"/>
                </a:xfrm>
              </p:grpSpPr>
              <p:sp>
                <p:nvSpPr>
                  <p:cNvPr id="91" name=""/>
                  <p:cNvSpPr/>
                  <p:nvPr/>
                </p:nvSpPr>
                <p:spPr>
                  <a:xfrm>
                    <a:off x="6635880" y="2057400"/>
                    <a:ext cx="1827000" cy="3031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87120" rIns="87120" tIns="43560" bIns="43560" anchor="ctr">
                    <a:no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873000"/>
                        <a:tab algn="l" pos="1746360"/>
                        <a:tab algn="l" pos="2619360"/>
                        <a:tab algn="l" pos="3492360"/>
                        <a:tab algn="l" pos="4365720"/>
                        <a:tab algn="l" pos="5238720"/>
                        <a:tab algn="l" pos="6111720"/>
                        <a:tab algn="l" pos="6985080"/>
                        <a:tab algn="l" pos="7858080"/>
                        <a:tab algn="l" pos="8731080"/>
                        <a:tab algn="l" pos="9604440"/>
                        <a:tab algn="l" pos="10477440"/>
                      </a:tabLst>
                    </a:pPr>
                    <a:r>
                      <a:rPr b="1" i="1" lang="el-GR" sz="1400" spc="-1" strike="noStrike">
                        <a:solidFill>
                          <a:srgbClr val="ffcc66"/>
                        </a:solidFill>
                        <a:latin typeface="Times New Roman"/>
                      </a:rPr>
                      <a:t>Σχέσεις επικοινωνίας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620120" y="2819520"/>
                    <a:ext cx="1523880" cy="60948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87120" rIns="87120" tIns="43560" bIns="43560" anchor="ctr">
                    <a:no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873000"/>
                        <a:tab algn="l" pos="1746360"/>
                        <a:tab algn="l" pos="2619360"/>
                        <a:tab algn="l" pos="3492360"/>
                        <a:tab algn="l" pos="4365720"/>
                        <a:tab algn="l" pos="5238720"/>
                        <a:tab algn="l" pos="6111720"/>
                        <a:tab algn="l" pos="6985080"/>
                        <a:tab algn="l" pos="7858080"/>
                        <a:tab algn="l" pos="8731080"/>
                        <a:tab algn="l" pos="9604440"/>
                        <a:tab algn="l" pos="10477440"/>
                      </a:tabLst>
                    </a:pPr>
                    <a:r>
                      <a:rPr b="1" i="1" lang="el-GR" sz="1400" spc="-1" strike="noStrike">
                        <a:solidFill>
                          <a:srgbClr val="ffcc66"/>
                        </a:solidFill>
                        <a:latin typeface="Times New Roman"/>
                      </a:rPr>
                      <a:t>Άνθρωπος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873000"/>
                        <a:tab algn="l" pos="1746360"/>
                        <a:tab algn="l" pos="2619360"/>
                        <a:tab algn="l" pos="3492360"/>
                        <a:tab algn="l" pos="4365720"/>
                        <a:tab algn="l" pos="5238720"/>
                        <a:tab algn="l" pos="6111720"/>
                        <a:tab algn="l" pos="6985080"/>
                        <a:tab algn="l" pos="7858080"/>
                        <a:tab algn="l" pos="8731080"/>
                        <a:tab algn="l" pos="9604440"/>
                        <a:tab algn="l" pos="10477440"/>
                      </a:tabLst>
                    </a:pPr>
                    <a:r>
                      <a:rPr b="1" i="1" lang="el-GR" sz="1400" spc="-1" strike="noStrike">
                        <a:solidFill>
                          <a:srgbClr val="ffcc66"/>
                        </a:solidFill>
                        <a:latin typeface="Times New Roman"/>
                      </a:rPr>
                      <a:t>(Υγεία-Πολιτισμός)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16760" y="3809880"/>
                    <a:ext cx="2127240" cy="9907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87120" rIns="87120" tIns="43560" bIns="43560" anchor="ctr">
                    <a:no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873000"/>
                        <a:tab algn="l" pos="1746360"/>
                        <a:tab algn="l" pos="2619360"/>
                        <a:tab algn="l" pos="3492360"/>
                        <a:tab algn="l" pos="4365720"/>
                        <a:tab algn="l" pos="5238720"/>
                        <a:tab algn="l" pos="6111720"/>
                        <a:tab algn="l" pos="6985080"/>
                        <a:tab algn="l" pos="7858080"/>
                        <a:tab algn="l" pos="8731080"/>
                        <a:tab algn="l" pos="9604440"/>
                        <a:tab algn="l" pos="10477440"/>
                      </a:tabLst>
                    </a:pPr>
                    <a:r>
                      <a:rPr b="1" i="1" lang="el-GR" sz="1400" spc="-1" strike="noStrike">
                        <a:solidFill>
                          <a:srgbClr val="ffcc66"/>
                        </a:solidFill>
                        <a:latin typeface="Times New Roman"/>
                      </a:rPr>
                      <a:t>Κοινωνικές δραστηριότητες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873000"/>
                        <a:tab algn="l" pos="1746360"/>
                        <a:tab algn="l" pos="2619360"/>
                        <a:tab algn="l" pos="3492360"/>
                        <a:tab algn="l" pos="4365720"/>
                        <a:tab algn="l" pos="5238720"/>
                        <a:tab algn="l" pos="6111720"/>
                        <a:tab algn="l" pos="6985080"/>
                        <a:tab algn="l" pos="7858080"/>
                        <a:tab algn="l" pos="8731080"/>
                        <a:tab algn="l" pos="9604440"/>
                        <a:tab algn="l" pos="10477440"/>
                      </a:tabLst>
                    </a:pPr>
                    <a:r>
                      <a:rPr b="1" i="1" lang="el-GR" sz="1400" spc="-1" strike="noStrike">
                        <a:solidFill>
                          <a:srgbClr val="ffcc66"/>
                        </a:solidFill>
                        <a:latin typeface="Times New Roman"/>
                      </a:rPr>
                      <a:t>( χωροταξική οργάνωση,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873000"/>
                        <a:tab algn="l" pos="1746360"/>
                        <a:tab algn="l" pos="2619360"/>
                        <a:tab algn="l" pos="3492360"/>
                        <a:tab algn="l" pos="4365720"/>
                        <a:tab algn="l" pos="5238720"/>
                        <a:tab algn="l" pos="6111720"/>
                        <a:tab algn="l" pos="6985080"/>
                        <a:tab algn="l" pos="7858080"/>
                        <a:tab algn="l" pos="8731080"/>
                        <a:tab algn="l" pos="9604440"/>
                        <a:tab algn="l" pos="10477440"/>
                      </a:tabLst>
                    </a:pPr>
                    <a:r>
                      <a:rPr b="1" i="1" lang="el-GR" sz="1400" spc="-1" strike="noStrike">
                        <a:solidFill>
                          <a:srgbClr val="ffcc66"/>
                        </a:solidFill>
                        <a:latin typeface="Times New Roman"/>
                      </a:rPr>
                      <a:t>οικονομία κ.λ.π. )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94" name=""/>
            <p:cNvSpPr txBox="1"/>
            <p:nvPr/>
          </p:nvSpPr>
          <p:spPr>
            <a:xfrm>
              <a:off x="3505320" y="2590920"/>
              <a:ext cx="2127240" cy="1143000"/>
            </a:xfrm>
            <a:prstGeom prst="rect">
              <a:avLst/>
            </a:prstGeom>
          </p:spPr>
          <p:txBody>
            <a:bodyPr wrap="none" fromWordArt="1" lIns="90000" rIns="90000" tIns="46800" bIns="46800" anchor="ctr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ΤΟ ΠΕΡΙΒΑΛΛΟΝ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4272120" y="3048120"/>
              <a:ext cx="522000" cy="2268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ΚΑΙ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3510000" y="3583080"/>
              <a:ext cx="2205000" cy="455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ΟΙ ΠΑΡΑΜΕΤΡΟΙ ΤΟΥ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19720" y="2438280"/>
            <a:ext cx="1066680" cy="990720"/>
          </a:xfrm>
          <a:prstGeom prst="ellipse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2438280"/>
            <a:ext cx="990720" cy="99072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3240" y="3122640"/>
            <a:ext cx="996840" cy="992160"/>
          </a:xfrm>
          <a:prstGeom prst="ellips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75120" y="3962520"/>
            <a:ext cx="0" cy="9903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2895480"/>
            <a:ext cx="1066680" cy="7632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590560" y="3429000"/>
            <a:ext cx="995400" cy="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809880" y="1676160"/>
            <a:ext cx="0" cy="99036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467080"/>
            <a:ext cx="2057400" cy="2104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i="1" lang="el-GR" sz="1800" spc="-1" strike="noStrike">
                <a:solidFill>
                  <a:srgbClr val="000000"/>
                </a:solidFill>
                <a:latin typeface="Times New Roman"/>
              </a:rPr>
              <a:t>ΤΟΠΙΚΟ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i="1" lang="el-GR" sz="1800" spc="-1" strike="noStrike">
                <a:solidFill>
                  <a:srgbClr val="000000"/>
                </a:solidFill>
                <a:latin typeface="Times New Roman"/>
              </a:rPr>
              <a:t>ΙΣΤΟΡΙΚ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i="1" lang="el-GR" sz="1800" spc="-1" strike="noStrike">
                <a:solidFill>
                  <a:srgbClr val="000000"/>
                </a:solidFill>
                <a:latin typeface="Times New Roman"/>
              </a:rPr>
              <a:t>ΠΕΡΙΒΑΛΛΟ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0"/>
            <a:ext cx="2019240" cy="18288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i="1" lang="el-GR" sz="1800" spc="-1" strike="noStrike">
                <a:solidFill>
                  <a:srgbClr val="333333"/>
                </a:solidFill>
                <a:latin typeface="Times New Roman"/>
              </a:rPr>
              <a:t>ΤΟΠΙΚΟ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i="1" lang="el-GR" sz="1800" spc="-1" strike="noStrike">
                <a:solidFill>
                  <a:srgbClr val="333333"/>
                </a:solidFill>
                <a:latin typeface="Times New Roman"/>
              </a:rPr>
              <a:t>ΤΕΧΝΗΤ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i="1" lang="el-GR" sz="1800" spc="-1" strike="noStrike">
                <a:solidFill>
                  <a:srgbClr val="333333"/>
                </a:solidFill>
                <a:latin typeface="Times New Roman"/>
              </a:rPr>
              <a:t>ΠΕΡΙΒΑΛΛΟ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53080" y="2286000"/>
            <a:ext cx="2057400" cy="20192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i="1" lang="el-GR" sz="1800" spc="-1" strike="noStrike">
                <a:solidFill>
                  <a:srgbClr val="ffff00"/>
                </a:solidFill>
                <a:latin typeface="Times New Roman"/>
              </a:rPr>
              <a:t>ΤΟΠΙΚΟ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i="1" lang="el-GR" sz="1800" spc="-1" strike="noStrike">
                <a:solidFill>
                  <a:srgbClr val="ffff00"/>
                </a:solidFill>
                <a:latin typeface="Times New Roman"/>
              </a:rPr>
              <a:t>ΚΟΙΝΩΝΙΚ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i="1" lang="el-GR" sz="1800" spc="-1" strike="noStrike">
                <a:solidFill>
                  <a:srgbClr val="ffff00"/>
                </a:solidFill>
                <a:latin typeface="Times New Roman"/>
              </a:rPr>
              <a:t>ΠΕΡΙΒΑΛΛΟ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4952880"/>
            <a:ext cx="2057400" cy="19051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i="1" lang="el-GR" sz="1800" spc="-1" strike="noStrike">
                <a:solidFill>
                  <a:srgbClr val="336600"/>
                </a:solidFill>
                <a:latin typeface="Times New Roman"/>
              </a:rPr>
              <a:t>ΤΟΠΙΚΟ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i="1" lang="el-GR" sz="1800" spc="-1" strike="noStrike">
                <a:solidFill>
                  <a:srgbClr val="336600"/>
                </a:solidFill>
                <a:latin typeface="Times New Roman"/>
              </a:rPr>
              <a:t>ΦΥΣΙΚ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i="1" lang="el-GR" sz="1800" spc="-1" strike="noStrike">
                <a:solidFill>
                  <a:srgbClr val="336600"/>
                </a:solidFill>
                <a:latin typeface="Times New Roman"/>
              </a:rPr>
              <a:t>ΠΕΡΙΒΑΛΛΟ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508200" y="2057400"/>
            <a:ext cx="2127600" cy="11430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12420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Ο ΤΟΠΟΣ ΜΑ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468600" y="4267080"/>
            <a:ext cx="2205000" cy="455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ΟΙ ΠΑΡΑΜΕΤΡΟΙ ΤΟ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3008160"/>
            <a:ext cx="990720" cy="1030320"/>
          </a:xfrm>
          <a:prstGeom prst="ellipse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249800" y="3276720"/>
            <a:ext cx="703080" cy="303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ΚΑΙ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12" name=""/>
          <p:cNvSpPr/>
          <p:nvPr/>
        </p:nvSpPr>
        <p:spPr>
          <a:xfrm>
            <a:off x="3314880" y="2209680"/>
            <a:ext cx="2514600" cy="2133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95280" y="473040"/>
            <a:ext cx="8424720" cy="5977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ΑΡΙΘΜΟΣ ΕΡΓΑΣΙΩΝ ΠΕΡΙΒΑΛΛΟΝΤΙΚΗΣ ΕΚΠΑΙΔΕΥΣΗΣ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ΠΟΥ ΣΧΕΤΙΖΟΝΤΑΙ ΜΕ ΤΗΝ ΤΟΠΙΚΗ ΙΣΤΟΡΙ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000000"/>
                </a:solidFill>
                <a:uFillTx/>
                <a:latin typeface="Times New Roman"/>
              </a:rPr>
              <a:t>Α΄. ΣΧΟΛΙΚΕΣ ΧΡΟΝΙΕΣ: ΑΠΟ 1995 ΜΕΧΡΙ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0000"/>
                </a:solidFill>
                <a:uFillTx/>
                <a:latin typeface="Times New Roman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000000"/>
                </a:solidFill>
                <a:uFillTx/>
                <a:latin typeface="Times New Roman"/>
              </a:rPr>
              <a:t>Β΄. ΣΧΟΛΙΚΗ ΧΡΟΝΙΑ: 1999 –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0000"/>
                </a:solidFill>
                <a:uFillTx/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000000"/>
                </a:solidFill>
                <a:uFillTx/>
                <a:latin typeface="Times New Roman"/>
              </a:rPr>
              <a:t>Γ΄. ΣΧΟΛΙΚΗ ΧΡΟΝΙΑ: 2000 –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0000"/>
                </a:solidFill>
                <a:uFillTx/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000000"/>
                </a:solidFill>
                <a:uFillTx/>
                <a:latin typeface="Times New Roman"/>
              </a:rPr>
              <a:t>Δ΄. ΣΧΟΛΙΚΗ ΧΡΟΝΙΑ: 2001 –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000000"/>
                </a:solidFill>
                <a:uFillTx/>
                <a:latin typeface="Times New Roman"/>
              </a:rPr>
              <a:t>Ε΄. ΣΧΟΛΙΚΗ ΧΡΟΝΙΑ: 2002 –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" y="1522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ΕΜΑΤΟΛΟΓΙΑ Π.Ε. ΣΧΕΤΙΚΗ ΚΑΙ ΜΕ ΤΟΠΙΚΗ ΙΣΤΟΡΙ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838080"/>
            <a:ext cx="7162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ΟΛΥΜΠΟΣ 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</a:rPr>
              <a:t>( Θέση, Ιστορία, Μυθολογία, Χλωρίδα, Πανίδα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ΠΙΕΡΙΑ       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</a:rPr>
              <a:t>(Θέση, Ιστορία, Μυθολογία, Χλωρίδα, Πανίδα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Η ΘΑΛΑΣΣΑ – ΟΙ ΑΚΤΟΓΡΑΜΜΕΣ ΤΗΣ ΠΙΕΡΙΑ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ΑΡΧΑΙΟΛΟΓΙΚΟΙ ΧΩΡΟΙ ΤΗΣ ΠΕΡΙΟΧΗΣ ΜΑ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ΠΑΡΑΔΟΣΙΑΚΟΙ ΟΙΚΙΣΜΟΙ ΚΑΙ ΦΥΣ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ΤΟ ΠΑΛΙΟ ΚΑΙ ΤΟ ΣΗΜΕΡΙΝΟ ΧΩΡΙΟ ΜΑ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ΞΩΚΚΛΗΣΙΑ ΤΗΣ ΠΕΡΙΟΧΗΣ ΜΑ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ΝΑΥΤΙΚΗ ΠΑΡΑΔΟΣΗ ΤΟΥ ΤΟΠΟΥ ΜΑ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ΛΑΟΓΡΑΦΙΑ – ΠΟΛΙΤΙΣΜΟΣ ΤΟΥ ΤΟΠΟΥ ΜΑ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</a:rPr>
              <a:t>(Κάτοικοι και καταγωγή,Ήθη, έθιμα, παραδόσεις,δημοτικά τραγούδια, δραστηριότητες άλλοτε και τώρα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0"/>
            <a:ext cx="781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ffff00"/>
                </a:solidFill>
                <a:uFillTx/>
                <a:latin typeface="Times New Roman"/>
              </a:rPr>
              <a:t>ΕΡΓΑΣΙΕΣ Π.Ε. ΣΧΕΤΙΚΕΣ ΚΑΙ ΜΕ ΤΟΠΙΚΗ ΙΣΤΟΡΙ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09480" y="990720"/>
            <a:ext cx="8177400" cy="5333760"/>
            <a:chOff x="609480" y="990720"/>
            <a:chExt cx="8177400" cy="533376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5105520" y="990720"/>
              <a:ext cx="3681360" cy="533376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pic>
          <p:nvPicPr>
            <p:cNvPr id="119" name="" descr=""/>
            <p:cNvPicPr/>
            <p:nvPr/>
          </p:nvPicPr>
          <p:blipFill>
            <a:blip r:embed="rId3"/>
            <a:srcRect l="3967" t="0" r="0" b="0"/>
            <a:stretch/>
          </p:blipFill>
          <p:spPr>
            <a:xfrm>
              <a:off x="609480" y="1066680"/>
              <a:ext cx="3438720" cy="5257800"/>
            </a:xfrm>
            <a:prstGeom prst="rect">
              <a:avLst/>
            </a:prstGeom>
            <a:ln w="19080">
              <a:solidFill>
                <a:srgbClr val="ffff00"/>
              </a:solidFill>
              <a:miter/>
            </a:ln>
          </p:spPr>
        </p:pic>
      </p:grp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09:15:22Z</dcterms:created>
  <dc:creator>*</dc:creator>
  <dc:description/>
  <dc:language>en-US</dc:language>
  <cp:lastModifiedBy>*</cp:lastModifiedBy>
  <dcterms:modified xsi:type="dcterms:W3CDTF">2004-01-12T09:15:52Z</dcterms:modified>
  <cp:revision>2</cp:revision>
  <dc:subject/>
  <dc:title>Παρουσίαση του PowerPoint</dc:title>
</cp:coreProperties>
</file>