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56C4-B540-4493-9E65-ABE52BA72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CDDB-50ED-41C8-91FB-05F1DA7A5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874D-BC22-43EE-8300-11795C631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34AD-F9E5-47EB-A2CC-3EB28F2A3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413D-C1E5-4948-B725-C6CBCB71D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3DBF-D87F-48F6-B4F6-C2BB8F790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8E58-B310-46BB-88FB-59F5C04F3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C31A-B47A-4184-9B19-8F80916E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AFA6-1D89-423B-82BE-C9962B3AB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3446-7AFC-4638-9CFA-0E63B29D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08D7-B718-4933-9944-423C97371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D6DC-B071-4BCF-B89E-472167F0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82EBF-4D85-4B29-817F-BEC6A8DBED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87480" y="0"/>
            <a:ext cx="667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 u="sng">
                <a:solidFill>
                  <a:srgbClr val="000099"/>
                </a:solidFill>
                <a:uFillTx/>
                <a:latin typeface="Times New Roman"/>
              </a:rPr>
              <a:t>ΕΡΓΑΣΙΕΣ Π.Ε. ΣΧΕΤΙΚΕΣ ΚΑΙ ΜΕ ΤΟΠΙΚΗ ΙΣΤΟΡΙ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62120" y="1143000"/>
            <a:ext cx="3274920" cy="500364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029200" y="743040"/>
            <a:ext cx="3665520" cy="5371920"/>
          </a:xfrm>
          <a:prstGeom prst="rect">
            <a:avLst/>
          </a:prstGeom>
          <a:ln w="31680">
            <a:solidFill>
              <a:srgbClr val="000000"/>
            </a:solidFill>
            <a:miter/>
          </a:ln>
        </p:spPr>
      </p:pic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ff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112760" y="0"/>
            <a:ext cx="667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ΕΡΓΑΣΙΕΣ Π.Ε. ΣΧΕΤΙΚΕΣ ΚΑΙ ΜΕ ΤΟΠΙΚΗ ΙΣΤΟΡΙ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3919320" cy="518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716360" y="692280"/>
            <a:ext cx="3733920" cy="537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33"/>
            </a:gs>
            <a:gs pos="50000">
              <a:srgbClr val="ffff00"/>
            </a:gs>
            <a:gs pos="100000">
              <a:srgbClr val="ccff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857840" y="1052640"/>
            <a:ext cx="4065480" cy="5373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95280" y="907920"/>
            <a:ext cx="4102200" cy="554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1063440" y="0"/>
            <a:ext cx="667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ΕΡΓΑΣΙΕΣ Π.Ε. ΣΧΕΤΙΚΕΣ ΚΑΙ ΜΕ ΤΟΠΙΚΗ ΙΣΤΟΡΙ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2T09:18:44Z</dcterms:created>
  <dc:creator>*</dc:creator>
  <dc:description/>
  <dc:language>en-US</dc:language>
  <cp:lastModifiedBy>*</cp:lastModifiedBy>
  <dcterms:modified xsi:type="dcterms:W3CDTF">2004-01-12T09:18:55Z</dcterms:modified>
  <cp:revision>1</cp:revision>
  <dc:subject/>
  <dc:title>Παρουσίαση του PowerPoint</dc:title>
</cp:coreProperties>
</file>