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14DD-5A5F-4988-AB05-1E898442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FBA-EDCC-4B64-965E-2E74BBE5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BBB-E012-4154-BCF4-A4ADB0A6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359-FD86-419C-9991-7FBFA8A9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2D51-CD84-443A-AE24-19D0D86D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9975-6261-43B1-9EE5-266EE826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B4E-12EB-4B03-927D-3193C249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1FC3-8B03-400C-A4E9-C0A89E67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C179-09EB-49EC-853C-432ADE58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14AA-99D6-469A-B26B-250DC3D6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BAE-CA1C-444B-B7D6-E652180F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E0C-ECAA-4139-A214-F37DAF54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F698-33A1-4748-8DEA-26BD7CDA1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image" Target="../media/image11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1.jpeg"/><Relationship Id="rId21" Type="http://schemas.openxmlformats.org/officeDocument/2006/relationships/image" Target="../media/image11.jpeg"/><Relationship Id="rId22" Type="http://schemas.openxmlformats.org/officeDocument/2006/relationships/image" Target="../media/image11.jpeg"/><Relationship Id="rId23" Type="http://schemas.openxmlformats.org/officeDocument/2006/relationships/image" Target="../media/image11.jpeg"/><Relationship Id="rId24" Type="http://schemas.openxmlformats.org/officeDocument/2006/relationships/image" Target="../media/image11.jpeg"/><Relationship Id="rId25" Type="http://schemas.openxmlformats.org/officeDocument/2006/relationships/image" Target="../media/image11.jpeg"/><Relationship Id="rId26" Type="http://schemas.openxmlformats.org/officeDocument/2006/relationships/image" Target="../media/image11.jpeg"/><Relationship Id="rId27" Type="http://schemas.openxmlformats.org/officeDocument/2006/relationships/image" Target="../media/image11.jpeg"/><Relationship Id="rId28" Type="http://schemas.openxmlformats.org/officeDocument/2006/relationships/image" Target="../media/image11.jpe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228600"/>
            <a:ext cx="8991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ΑΝΤΙΓΡΑΦ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5284080" y="187956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83080" y="1879560"/>
            <a:ext cx="507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3160" y="1879560"/>
            <a:ext cx="507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883120" y="1879560"/>
            <a:ext cx="150840" cy="434880"/>
            <a:chOff x="5883120" y="1879560"/>
            <a:chExt cx="150840" cy="434880"/>
          </a:xfrm>
        </p:grpSpPr>
        <p:sp>
          <p:nvSpPr>
            <p:cNvPr id="46" name=""/>
            <p:cNvSpPr/>
            <p:nvPr/>
          </p:nvSpPr>
          <p:spPr>
            <a:xfrm>
              <a:off x="5883120" y="1879560"/>
              <a:ext cx="50040" cy="434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83560" y="1879560"/>
              <a:ext cx="50400" cy="434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334800" y="1879560"/>
            <a:ext cx="511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583880" y="187956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4680" y="187956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82960" y="1879560"/>
            <a:ext cx="511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885960" y="1879560"/>
            <a:ext cx="489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85680" y="187956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5760" y="187956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783880" y="1879560"/>
            <a:ext cx="507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84320" y="1879560"/>
            <a:ext cx="511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4400" y="1879560"/>
            <a:ext cx="507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033080" y="1879560"/>
            <a:ext cx="507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35320" y="187956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585080" y="187956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84440" y="1879560"/>
            <a:ext cx="507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183760" y="1879560"/>
            <a:ext cx="507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187956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384000" y="1879560"/>
            <a:ext cx="507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84440" y="187956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6680" y="1879560"/>
            <a:ext cx="489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52280" y="1371600"/>
            <a:ext cx="7086600" cy="399960"/>
            <a:chOff x="152280" y="1371600"/>
            <a:chExt cx="7086600" cy="399960"/>
          </a:xfrm>
        </p:grpSpPr>
        <p:sp>
          <p:nvSpPr>
            <p:cNvPr id="68" name=""/>
            <p:cNvSpPr txBox="1"/>
            <p:nvPr/>
          </p:nvSpPr>
          <p:spPr>
            <a:xfrm>
              <a:off x="152280" y="1371600"/>
              <a:ext cx="5997600" cy="3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5000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A G C T G T A C G T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6323040" y="1371600"/>
              <a:ext cx="91584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0082"/>
                      </a:gs>
                      <a:gs pos="5000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G T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12760" y="2387520"/>
            <a:ext cx="6966000" cy="412920"/>
            <a:chOff x="212760" y="2387520"/>
            <a:chExt cx="6966000" cy="412920"/>
          </a:xfrm>
        </p:grpSpPr>
        <p:sp>
          <p:nvSpPr>
            <p:cNvPr id="71" name=""/>
            <p:cNvSpPr txBox="1"/>
            <p:nvPr/>
          </p:nvSpPr>
          <p:spPr>
            <a:xfrm>
              <a:off x="212760" y="2387520"/>
              <a:ext cx="6303960" cy="38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 Black"/>
                </a:rPr>
                <a:t>T C G A C A T G C A 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6383160" y="2387520"/>
              <a:ext cx="79560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C A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73" name=""/>
          <p:cNvSpPr/>
          <p:nvPr/>
        </p:nvSpPr>
        <p:spPr>
          <a:xfrm flipH="1">
            <a:off x="6334200" y="1879560"/>
            <a:ext cx="489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34280" y="1879560"/>
            <a:ext cx="507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34000" y="187956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934320" y="1879560"/>
            <a:ext cx="149040" cy="434880"/>
            <a:chOff x="6934320" y="1879560"/>
            <a:chExt cx="149040" cy="434880"/>
          </a:xfrm>
        </p:grpSpPr>
        <p:sp>
          <p:nvSpPr>
            <p:cNvPr id="77" name=""/>
            <p:cNvSpPr/>
            <p:nvPr/>
          </p:nvSpPr>
          <p:spPr>
            <a:xfrm>
              <a:off x="6934320" y="1879560"/>
              <a:ext cx="49320" cy="434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33680" y="1879560"/>
              <a:ext cx="49680" cy="434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 flipH="1">
            <a:off x="5295240" y="283212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4240" y="2832120"/>
            <a:ext cx="507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95760" y="283212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894280" y="2832120"/>
            <a:ext cx="150840" cy="434880"/>
            <a:chOff x="5894280" y="2832120"/>
            <a:chExt cx="150840" cy="434880"/>
          </a:xfrm>
        </p:grpSpPr>
        <p:sp>
          <p:nvSpPr>
            <p:cNvPr id="83" name=""/>
            <p:cNvSpPr/>
            <p:nvPr/>
          </p:nvSpPr>
          <p:spPr>
            <a:xfrm>
              <a:off x="5894280" y="2832120"/>
              <a:ext cx="50040" cy="434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94720" y="2832120"/>
              <a:ext cx="50400" cy="434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47760" y="2832120"/>
            <a:ext cx="489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595040" y="283212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5840" y="283212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95920" y="2832120"/>
            <a:ext cx="489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896040" y="283212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6840" y="2832120"/>
            <a:ext cx="507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96920" y="283212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795040" y="2832120"/>
            <a:ext cx="507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7280" y="2832120"/>
            <a:ext cx="489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95560" y="2832120"/>
            <a:ext cx="507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044240" y="2832120"/>
            <a:ext cx="507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46480" y="283212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596240" y="283212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95600" y="2832120"/>
            <a:ext cx="5220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196360" y="283212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97160" y="283212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396600" y="283212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83212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7840" y="2832120"/>
            <a:ext cx="489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52280" y="3332160"/>
            <a:ext cx="7086600" cy="476280"/>
            <a:chOff x="152280" y="3332160"/>
            <a:chExt cx="7086600" cy="476280"/>
          </a:xfrm>
        </p:grpSpPr>
        <p:sp>
          <p:nvSpPr>
            <p:cNvPr id="105" name=""/>
            <p:cNvSpPr txBox="1"/>
            <p:nvPr/>
          </p:nvSpPr>
          <p:spPr>
            <a:xfrm>
              <a:off x="152280" y="3332160"/>
              <a:ext cx="5997600" cy="3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5000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A G C T G T A C G T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6323040" y="3332160"/>
              <a:ext cx="91584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0082"/>
                      </a:gs>
                      <a:gs pos="5000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G T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64960" y="4411800"/>
            <a:ext cx="6821640" cy="388800"/>
            <a:chOff x="264960" y="4411800"/>
            <a:chExt cx="6821640" cy="388800"/>
          </a:xfrm>
        </p:grpSpPr>
        <p:sp>
          <p:nvSpPr>
            <p:cNvPr id="108" name=""/>
            <p:cNvSpPr txBox="1"/>
            <p:nvPr/>
          </p:nvSpPr>
          <p:spPr>
            <a:xfrm>
              <a:off x="264960" y="4411800"/>
              <a:ext cx="6302520" cy="388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 Black"/>
                </a:rPr>
                <a:t>T C G A C A T G C A 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6291360" y="4419720"/>
              <a:ext cx="795240" cy="33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C A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10" name=""/>
          <p:cNvSpPr/>
          <p:nvPr/>
        </p:nvSpPr>
        <p:spPr>
          <a:xfrm flipH="1">
            <a:off x="6345360" y="2832120"/>
            <a:ext cx="489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45080" y="2832120"/>
            <a:ext cx="511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45160" y="283212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945480" y="2832120"/>
            <a:ext cx="149040" cy="434880"/>
            <a:chOff x="6945480" y="2832120"/>
            <a:chExt cx="149040" cy="434880"/>
          </a:xfrm>
        </p:grpSpPr>
        <p:sp>
          <p:nvSpPr>
            <p:cNvPr id="114" name=""/>
            <p:cNvSpPr/>
            <p:nvPr/>
          </p:nvSpPr>
          <p:spPr>
            <a:xfrm>
              <a:off x="6945480" y="2832120"/>
              <a:ext cx="49320" cy="434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44840" y="2832120"/>
              <a:ext cx="49680" cy="434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5288760" y="384804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88120" y="3848040"/>
            <a:ext cx="507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9640" y="384804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888160" y="3848040"/>
            <a:ext cx="150840" cy="434880"/>
            <a:chOff x="5888160" y="3848040"/>
            <a:chExt cx="150840" cy="434880"/>
          </a:xfrm>
        </p:grpSpPr>
        <p:sp>
          <p:nvSpPr>
            <p:cNvPr id="120" name=""/>
            <p:cNvSpPr/>
            <p:nvPr/>
          </p:nvSpPr>
          <p:spPr>
            <a:xfrm>
              <a:off x="5888160" y="3848040"/>
              <a:ext cx="50040" cy="434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88600" y="3848040"/>
              <a:ext cx="50400" cy="434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41280" y="384804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589640" y="3848040"/>
            <a:ext cx="489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9360" y="384804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9440" y="384804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889920" y="384804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848040"/>
            <a:ext cx="507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90440" y="384804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788560" y="3848040"/>
            <a:ext cx="507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0800" y="384804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89440" y="3848040"/>
            <a:ext cx="507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037760" y="3848040"/>
            <a:ext cx="507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40360" y="3848040"/>
            <a:ext cx="489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90840" y="3848040"/>
            <a:ext cx="489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89120" y="3848040"/>
            <a:ext cx="5220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189880" y="384804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90680" y="384804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390120" y="384804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3848040"/>
            <a:ext cx="489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360" y="384804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338160" y="3848040"/>
            <a:ext cx="4932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38960" y="3848040"/>
            <a:ext cx="507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39040" y="3848040"/>
            <a:ext cx="48960" cy="43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939000" y="3848040"/>
            <a:ext cx="149040" cy="434880"/>
            <a:chOff x="6939000" y="3848040"/>
            <a:chExt cx="149040" cy="434880"/>
          </a:xfrm>
        </p:grpSpPr>
        <p:sp>
          <p:nvSpPr>
            <p:cNvPr id="145" name=""/>
            <p:cNvSpPr/>
            <p:nvPr/>
          </p:nvSpPr>
          <p:spPr>
            <a:xfrm>
              <a:off x="6939000" y="3848040"/>
              <a:ext cx="49320" cy="434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38360" y="3848040"/>
              <a:ext cx="49680" cy="434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238880" y="2362320"/>
            <a:ext cx="304920" cy="1371600"/>
          </a:xfrm>
          <a:custGeom>
            <a:avLst/>
            <a:gdLst>
              <a:gd name="textAreaLeft" fmla="*/ 0 w 304920"/>
              <a:gd name="textAreaRight" fmla="*/ 11016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543800" y="2895480"/>
            <a:ext cx="144792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AΡΧΙΚΟ ΜΟΡΙΟ DNA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96080" y="3733920"/>
            <a:ext cx="1447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ΑΔΕΛΦΕΣ ΧΡΩΜΑΤΙΔΕΣ</a:t>
            </a:r>
            <a:endParaRPr b="1" lang="en-US" sz="24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281952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2920" y="1676520"/>
            <a:ext cx="4572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86600" y="37339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162920" y="388620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4876920"/>
            <a:ext cx="67816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80"/>
                </a:solidFill>
                <a:latin typeface="Arial Black"/>
              </a:rPr>
              <a:t>Αντιγραφή: είναι διαδικασία στην οποία το</a:t>
            </a:r>
            <a:endParaRPr b="1" lang="en-US" sz="2400" spc="1" strike="noStrike">
              <a:ln w="0">
                <a:noFill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80"/>
                </a:solidFill>
                <a:latin typeface="Arial Black"/>
              </a:rPr>
              <a:t>  </a:t>
            </a:r>
            <a:r>
              <a:rPr b="1" lang="en-US" sz="2400" spc="1" strike="noStrike">
                <a:ln w="0">
                  <a:noFill/>
                </a:ln>
                <a:solidFill>
                  <a:srgbClr val="000080"/>
                </a:solidFill>
                <a:latin typeface="Arial Black"/>
              </a:rPr>
              <a:t>DNA δημιουργεί το DNA (αδελφές χρωματίδες). </a:t>
            </a:r>
            <a:endParaRPr b="1" lang="en-US" sz="2400" spc="1" strike="noStrike">
              <a:ln w="0">
                <a:noFill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80"/>
                </a:solidFill>
                <a:latin typeface="Arial Black"/>
              </a:rPr>
              <a:t>Γίνετε με βάση το κανόνα της </a:t>
            </a:r>
            <a:endParaRPr b="1" lang="en-US" sz="2400" spc="1" strike="noStrike">
              <a:ln w="0">
                <a:noFill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80"/>
                </a:solidFill>
                <a:latin typeface="Arial Black"/>
              </a:rPr>
              <a:t>συμπληρωματικότητας (Α=Τ,G  C).Οι δυό αλυσίδες γίνονται τέσσερις </a:t>
            </a:r>
            <a:endParaRPr b="1" lang="en-US" sz="2400" spc="1" strike="noStrike">
              <a:ln w="0">
                <a:noFill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438280" y="1143000"/>
            <a:ext cx="3962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N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2280" y="1828800"/>
            <a:ext cx="8762760" cy="2743200"/>
            <a:chOff x="152280" y="1828800"/>
            <a:chExt cx="8762760" cy="2743200"/>
          </a:xfrm>
        </p:grpSpPr>
        <p:sp>
          <p:nvSpPr>
            <p:cNvPr id="157" name=""/>
            <p:cNvSpPr txBox="1"/>
            <p:nvPr/>
          </p:nvSpPr>
          <p:spPr>
            <a:xfrm>
              <a:off x="290520" y="2925720"/>
              <a:ext cx="779328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 Black"/>
                </a:rPr>
                <a:t>T C G A C A T G C A 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6497640" y="234504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20400" y="2345040"/>
              <a:ext cx="630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44960" y="234504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7238880" y="2345040"/>
              <a:ext cx="185400" cy="442440"/>
              <a:chOff x="7238880" y="2345040"/>
              <a:chExt cx="185400" cy="442440"/>
            </a:xfrm>
          </p:grpSpPr>
          <p:sp>
            <p:nvSpPr>
              <p:cNvPr id="162" name=""/>
              <p:cNvSpPr/>
              <p:nvPr/>
            </p:nvSpPr>
            <p:spPr>
              <a:xfrm>
                <a:off x="7238880" y="2345040"/>
                <a:ext cx="61560" cy="442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362360" y="2345040"/>
                <a:ext cx="61920" cy="442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378720" y="234504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32200" y="234504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56400" y="234504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79160" y="234504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058760" y="234504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3320" y="234504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06080" y="234504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407040" y="2345040"/>
              <a:ext cx="6264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31240" y="234504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54000" y="2345040"/>
              <a:ext cx="6264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952160" y="234504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76360" y="234504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924560" y="234504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47320" y="2345040"/>
              <a:ext cx="6264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665800" y="234504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90000" y="234504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149720" y="234504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72480" y="234504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3280" y="234504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152280" y="1828800"/>
              <a:ext cx="7415640" cy="39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5000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A G C T G T A C G T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497640" y="350676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0400" y="3506760"/>
              <a:ext cx="630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44960" y="350676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7238880" y="3506760"/>
              <a:ext cx="185400" cy="442440"/>
              <a:chOff x="7238880" y="3506760"/>
              <a:chExt cx="185400" cy="442440"/>
            </a:xfrm>
          </p:grpSpPr>
          <p:sp>
            <p:nvSpPr>
              <p:cNvPr id="188" name=""/>
              <p:cNvSpPr/>
              <p:nvPr/>
            </p:nvSpPr>
            <p:spPr>
              <a:xfrm>
                <a:off x="7238880" y="3506760"/>
                <a:ext cx="61560" cy="442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62360" y="3506760"/>
                <a:ext cx="61920" cy="442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378720" y="350676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632200" y="350676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56400" y="350676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79160" y="350676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058760" y="350676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83320" y="350676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06080" y="350676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407040" y="3506760"/>
              <a:ext cx="6264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31240" y="350676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4000" y="3506760"/>
              <a:ext cx="6264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952160" y="350676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76360" y="350676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924560" y="350676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47320" y="3506760"/>
              <a:ext cx="6264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665800" y="350676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90000" y="350676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149720" y="350676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72480" y="350676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3280" y="350676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7782120" y="1828800"/>
              <a:ext cx="1132920" cy="48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0082"/>
                      </a:gs>
                      <a:gs pos="5000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G T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7857360" y="2861280"/>
              <a:ext cx="982080" cy="41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C A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796160" y="234504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918920" y="2345040"/>
              <a:ext cx="630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43480" y="234504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8537400" y="2345040"/>
              <a:ext cx="185400" cy="442440"/>
              <a:chOff x="8537400" y="2345040"/>
              <a:chExt cx="185400" cy="442440"/>
            </a:xfrm>
          </p:grpSpPr>
          <p:sp>
            <p:nvSpPr>
              <p:cNvPr id="215" name=""/>
              <p:cNvSpPr/>
              <p:nvPr/>
            </p:nvSpPr>
            <p:spPr>
              <a:xfrm>
                <a:off x="8537400" y="2345040"/>
                <a:ext cx="61560" cy="442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660880" y="2345040"/>
                <a:ext cx="61920" cy="442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 flipH="1">
              <a:off x="7796160" y="350676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18920" y="3506760"/>
              <a:ext cx="630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43480" y="3506760"/>
              <a:ext cx="61200" cy="4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8537400" y="3506760"/>
              <a:ext cx="185400" cy="442440"/>
              <a:chOff x="8537400" y="3506760"/>
              <a:chExt cx="185400" cy="442440"/>
            </a:xfrm>
          </p:grpSpPr>
          <p:sp>
            <p:nvSpPr>
              <p:cNvPr id="221" name=""/>
              <p:cNvSpPr/>
              <p:nvPr/>
            </p:nvSpPr>
            <p:spPr>
              <a:xfrm>
                <a:off x="8537400" y="3506760"/>
                <a:ext cx="61560" cy="442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660880" y="3506760"/>
                <a:ext cx="61920" cy="442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378720" y="4087800"/>
              <a:ext cx="8535960" cy="484200"/>
              <a:chOff x="378720" y="4087800"/>
              <a:chExt cx="8535960" cy="484200"/>
            </a:xfrm>
          </p:grpSpPr>
          <p:sp>
            <p:nvSpPr>
              <p:cNvPr id="224" name=""/>
              <p:cNvSpPr txBox="1"/>
              <p:nvPr/>
            </p:nvSpPr>
            <p:spPr>
              <a:xfrm>
                <a:off x="378720" y="4087800"/>
                <a:ext cx="1110960" cy="484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Α G</a:t>
                </a:r>
                <a:endParaRPr b="0" lang="en-US" sz="24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2040120" y="4087800"/>
                <a:ext cx="5755680" cy="484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blipFill rotWithShape="0">
                      <a:blip r:embed="rId3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C U G U A C G U </a:t>
                </a:r>
                <a:endParaRPr b="0" lang="en-US" sz="2400" spc="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26" name=""/>
              <p:cNvSpPr txBox="1"/>
              <p:nvPr/>
            </p:nvSpPr>
            <p:spPr>
              <a:xfrm>
                <a:off x="7781760" y="4087800"/>
                <a:ext cx="1132920" cy="484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blipFill rotWithShape="0">
                      <a:blip r:embed="rId5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C U</a:t>
                </a:r>
                <a:endParaRPr b="0" lang="en-US" sz="2400" spc="1" strike="noStrike">
                  <a:ln w="0">
                    <a:noFill/>
                  </a:ln>
                  <a:blipFill rotWithShape="0">
                    <a:blip r:embed="rId6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  <p:sp>
        <p:nvSpPr>
          <p:cNvPr id="227" name=""/>
          <p:cNvSpPr txBox="1"/>
          <p:nvPr/>
        </p:nvSpPr>
        <p:spPr>
          <a:xfrm>
            <a:off x="152280" y="304920"/>
            <a:ext cx="883944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Garamond"/>
              </a:rPr>
              <a:t>ΜΕΤΑΓΡΑΦ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Garamond"/>
              <a:ea typeface="Garamond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52280" y="4648320"/>
            <a:ext cx="60199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Μεταγραφη: ειναι η διαδικασια στην οποια το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DNA  δημιουργει το M-RNA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Γινετε μες βαση τον κανονα της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σημπληρωματικοτητα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5880" y="4648320"/>
            <a:ext cx="3048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0800000"/>
                </a:gradFill>
                <a:latin typeface="Times New Roman"/>
              </a:rPr>
              <a:t>DNA     R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477120" y="5181480"/>
            <a:ext cx="2133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0800000"/>
                </a:gradFill>
                <a:latin typeface="Times New Roman"/>
              </a:rPr>
              <a:t>T    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477120" y="5562720"/>
            <a:ext cx="21333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0800000"/>
                </a:gradFill>
                <a:latin typeface="Times New Roman"/>
              </a:rPr>
              <a:t>A    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553080" y="5943600"/>
            <a:ext cx="2057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0800000"/>
                </a:gradFill>
                <a:latin typeface="Times New Roman"/>
              </a:rPr>
              <a:t>G    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629400" y="6400800"/>
            <a:ext cx="2133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0800000"/>
                </a:gradFill>
                <a:latin typeface="Arial Black"/>
              </a:rPr>
              <a:t>C    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48006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91520" y="53341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91520" y="57150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91520" y="60958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67480" y="64771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326880" y="1371600"/>
            <a:ext cx="8436240" cy="571680"/>
            <a:chOff x="326880" y="1371600"/>
            <a:chExt cx="8436240" cy="571680"/>
          </a:xfrm>
        </p:grpSpPr>
        <p:sp>
          <p:nvSpPr>
            <p:cNvPr id="240" name=""/>
            <p:cNvSpPr txBox="1"/>
            <p:nvPr/>
          </p:nvSpPr>
          <p:spPr>
            <a:xfrm>
              <a:off x="326880" y="1371600"/>
              <a:ext cx="11210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Α G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1828800" y="1371600"/>
              <a:ext cx="580536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C U G U A C G U </a:t>
              </a:r>
              <a:endPara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7620120" y="1371600"/>
              <a:ext cx="11430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C U</a:t>
              </a:r>
              <a:endPara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43" name=""/>
          <p:cNvSpPr txBox="1"/>
          <p:nvPr/>
        </p:nvSpPr>
        <p:spPr>
          <a:xfrm>
            <a:off x="1143000" y="304920"/>
            <a:ext cx="71629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ΜΕΤΑΦΡΑΣ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81000">
            <a:off x="4762440" y="1866960"/>
            <a:ext cx="1828800" cy="1905120"/>
          </a:xfrm>
          <a:custGeom>
            <a:avLst/>
            <a:gdLst>
              <a:gd name="textAreaLeft" fmla="*/ 1168560 w 1828800"/>
              <a:gd name="textAreaRight" fmla="*/ 1829160 w 18288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81000">
            <a:off x="419040" y="1866960"/>
            <a:ext cx="1828800" cy="1905120"/>
          </a:xfrm>
          <a:custGeom>
            <a:avLst/>
            <a:gdLst>
              <a:gd name="textAreaLeft" fmla="*/ 1168560 w 1828800"/>
              <a:gd name="textAreaRight" fmla="*/ 1829160 w 18288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81000">
            <a:off x="2628720" y="1866960"/>
            <a:ext cx="1828800" cy="1904760"/>
          </a:xfrm>
          <a:custGeom>
            <a:avLst/>
            <a:gdLst>
              <a:gd name="textAreaLeft" fmla="*/ 1168560 w 1828800"/>
              <a:gd name="textAreaRight" fmla="*/ 1829160 w 18288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6281000">
            <a:off x="6972120" y="1866960"/>
            <a:ext cx="1828800" cy="1904760"/>
          </a:xfrm>
          <a:custGeom>
            <a:avLst/>
            <a:gdLst>
              <a:gd name="textAreaLeft" fmla="*/ 1168560 w 1828800"/>
              <a:gd name="textAreaRight" fmla="*/ 1829160 w 18288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591000"/>
            <a:ext cx="1895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Αμινοξύ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362320" y="3657600"/>
            <a:ext cx="1895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Αμινοξύ 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0" y="3657600"/>
            <a:ext cx="1895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Αμινοξύ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705720" y="3657600"/>
            <a:ext cx="1895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Αμινοξύ 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276720" y="4343400"/>
            <a:ext cx="32763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cc"/>
                </a:solidFill>
                <a:latin typeface="Arial Black"/>
              </a:rPr>
              <a:t>Η ταυτότητα μιας πρωτείνης είναι ο αριθμός,</a:t>
            </a:r>
            <a:endParaRPr b="1" lang="en-US" sz="2400" spc="1" strike="noStrike">
              <a:ln w="0">
                <a:noFill/>
              </a:ln>
              <a:solidFill>
                <a:srgbClr val="33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cc"/>
                </a:solidFill>
                <a:latin typeface="Arial Black"/>
              </a:rPr>
              <a:t>το είδος και η σειρά διαδοχής των αμινοξέων </a:t>
            </a:r>
            <a:endParaRPr b="1" lang="en-US" sz="2400" spc="1" strike="noStrike">
              <a:ln w="0">
                <a:noFill/>
              </a:ln>
              <a:solidFill>
                <a:srgbClr val="33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cc"/>
                </a:solidFill>
                <a:latin typeface="Arial Black"/>
              </a:rPr>
              <a:t>Το κεντρικό δόγμα μοριακής βιολογίας είναι : </a:t>
            </a:r>
            <a:endParaRPr b="1" lang="en-US" sz="2400" spc="1" strike="noStrike">
              <a:ln w="0">
                <a:noFill/>
              </a:ln>
              <a:solidFill>
                <a:srgbClr val="33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cc"/>
                </a:solidFill>
                <a:latin typeface="Arial Black"/>
              </a:rPr>
              <a:t>DNA      RNA           πρωτείνη</a:t>
            </a:r>
            <a:endParaRPr b="1" lang="en-US" sz="2400" spc="1" strike="noStrike">
              <a:ln w="0">
                <a:noFill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4253040" y="6161040"/>
            <a:ext cx="209520" cy="157320"/>
          </a:xfrm>
          <a:prstGeom prst="rightArrow">
            <a:avLst>
              <a:gd name="adj1" fmla="val 50000"/>
              <a:gd name="adj2" fmla="val 33295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79800" y="6161040"/>
            <a:ext cx="349560" cy="157320"/>
          </a:xfrm>
          <a:prstGeom prst="rightArrow">
            <a:avLst>
              <a:gd name="adj1" fmla="val 50000"/>
              <a:gd name="adj2" fmla="val 55549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4267080"/>
            <a:ext cx="32004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</a:rPr>
              <a:t>Μεταφραση : Είναι η διαδικασία στην οποία  το RNA</a:t>
            </a:r>
            <a:endParaRPr b="1" lang="en-US" sz="4400" spc="1" strike="noStrike">
              <a:ln w="0">
                <a:noFill/>
              </a:ln>
              <a:solidFill>
                <a:srgbClr val="ff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</a:rPr>
              <a:t> </a:t>
            </a:r>
            <a:r>
              <a:rPr b="1" lang="en-US" sz="44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</a:rPr>
              <a:t>δημιουργεί την πρωτεϊνη,</a:t>
            </a:r>
            <a:endParaRPr b="1" lang="en-US" sz="4400" spc="1" strike="noStrike">
              <a:ln w="0">
                <a:noFill/>
              </a:ln>
              <a:solidFill>
                <a:srgbClr val="ff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</a:rPr>
              <a:t> </a:t>
            </a:r>
            <a:r>
              <a:rPr b="1" lang="en-US" sz="4400" spc="1" strike="noStrike">
                <a:ln w="0">
                  <a:noFill/>
                </a:ln>
                <a:solidFill>
                  <a:srgbClr val="ff00ff"/>
                </a:solidFill>
                <a:latin typeface="Arial Black"/>
              </a:rPr>
              <a:t>δίνετε με βάση το κανόνα της σημπληρωματικότητας</a:t>
            </a:r>
            <a:endParaRPr b="1" lang="en-US" sz="4400" spc="1" strike="noStrike">
              <a:ln w="0">
                <a:noFill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629400" y="4495680"/>
            <a:ext cx="2362320" cy="2057400"/>
            <a:chOff x="6629400" y="4495680"/>
            <a:chExt cx="2362320" cy="2057400"/>
          </a:xfrm>
        </p:grpSpPr>
        <p:sp>
          <p:nvSpPr>
            <p:cNvPr id="257" name=""/>
            <p:cNvSpPr txBox="1"/>
            <p:nvPr/>
          </p:nvSpPr>
          <p:spPr>
            <a:xfrm>
              <a:off x="6629400" y="4495680"/>
              <a:ext cx="2362320" cy="201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 Black"/>
                </a:rPr>
                <a:t>M-RNA      Y-RN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 Black"/>
                </a:rPr>
                <a:t>  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 Black"/>
                </a:rPr>
                <a:t>A              U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 Black"/>
                </a:rPr>
                <a:t>  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 Black"/>
                </a:rPr>
                <a:t>U              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 Black"/>
                </a:rPr>
                <a:t>  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 Black"/>
                </a:rPr>
                <a:t>G              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 Black"/>
                </a:rPr>
                <a:t>  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 Black"/>
                </a:rPr>
                <a:t>C              G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17960" y="4495680"/>
              <a:ext cx="439200" cy="152640"/>
            </a:xfrm>
            <a:prstGeom prst="rightArrow">
              <a:avLst>
                <a:gd name="adj1" fmla="val 50000"/>
                <a:gd name="adj2" fmla="val 71934"/>
              </a:avLst>
            </a:prstGeom>
            <a:gradFill rotWithShape="0">
              <a:gsLst>
                <a:gs pos="0">
                  <a:srgbClr val="4d0808"/>
                </a:gs>
                <a:gs pos="50000">
                  <a:srgbClr val="fff200"/>
                </a:gs>
                <a:gs pos="100000">
                  <a:srgbClr val="4d08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27760" y="4952880"/>
              <a:ext cx="439560" cy="152640"/>
            </a:xfrm>
            <a:prstGeom prst="rightArrow">
              <a:avLst>
                <a:gd name="adj1" fmla="val 50000"/>
                <a:gd name="adj2" fmla="val 71993"/>
              </a:avLst>
            </a:prstGeom>
            <a:gradFill rotWithShape="0">
              <a:gsLst>
                <a:gs pos="0">
                  <a:srgbClr val="4d0808"/>
                </a:gs>
                <a:gs pos="50000">
                  <a:srgbClr val="fff200"/>
                </a:gs>
                <a:gs pos="100000">
                  <a:srgbClr val="4d08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27760" y="5486400"/>
              <a:ext cx="439560" cy="152280"/>
            </a:xfrm>
            <a:prstGeom prst="rightArrow">
              <a:avLst>
                <a:gd name="adj1" fmla="val 50000"/>
                <a:gd name="adj2" fmla="val 72163"/>
              </a:avLst>
            </a:prstGeom>
            <a:gradFill rotWithShape="0">
              <a:gsLst>
                <a:gs pos="0">
                  <a:srgbClr val="4d0808"/>
                </a:gs>
                <a:gs pos="50000">
                  <a:srgbClr val="fff200"/>
                </a:gs>
                <a:gs pos="100000">
                  <a:srgbClr val="4d08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27760" y="5867280"/>
              <a:ext cx="439560" cy="152640"/>
            </a:xfrm>
            <a:prstGeom prst="rightArrow">
              <a:avLst>
                <a:gd name="adj1" fmla="val 50000"/>
                <a:gd name="adj2" fmla="val 71993"/>
              </a:avLst>
            </a:prstGeom>
            <a:gradFill rotWithShape="0">
              <a:gsLst>
                <a:gs pos="0">
                  <a:srgbClr val="4d0808"/>
                </a:gs>
                <a:gs pos="50000">
                  <a:srgbClr val="fff200"/>
                </a:gs>
                <a:gs pos="100000">
                  <a:srgbClr val="4d08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27760" y="6400800"/>
              <a:ext cx="439560" cy="152280"/>
            </a:xfrm>
            <a:prstGeom prst="rightArrow">
              <a:avLst>
                <a:gd name="adj1" fmla="val 50000"/>
                <a:gd name="adj2" fmla="val 72163"/>
              </a:avLst>
            </a:prstGeom>
            <a:gradFill rotWithShape="0">
              <a:gsLst>
                <a:gs pos="0">
                  <a:srgbClr val="4d0808"/>
                </a:gs>
                <a:gs pos="50000">
                  <a:srgbClr val="fff200"/>
                </a:gs>
                <a:gs pos="100000">
                  <a:srgbClr val="4d08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28600" y="0"/>
            <a:ext cx="891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Γενετικός κώδικα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057400" y="1066680"/>
            <a:ext cx="51814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Γενετικος κωδικας : Ειναι η τριπλετες βασεων που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κωδικοποιουν ενα αμινοξ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Τριπλετα εναρξης AU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Black"/>
              </a:rPr>
              <a:t>Τριπλετες ληξης UGA,UAG,UAA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2743200"/>
            <a:ext cx="8839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Impact"/>
              </a:rPr>
              <a:t>Γονίδιο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0" y="3733920"/>
            <a:ext cx="9144000" cy="3124080"/>
            <a:chOff x="0" y="3733920"/>
            <a:chExt cx="9144000" cy="3124080"/>
          </a:xfrm>
        </p:grpSpPr>
        <p:sp>
          <p:nvSpPr>
            <p:cNvPr id="267" name=""/>
            <p:cNvSpPr txBox="1"/>
            <p:nvPr/>
          </p:nvSpPr>
          <p:spPr>
            <a:xfrm>
              <a:off x="0" y="3733920"/>
              <a:ext cx="91440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3"/>
                    <a:srcRect/>
                    <a:tile tx="0" ty="0" sx="100000" sy="100000" algn="ctr"/>
                  </a:blipFill>
                  <a:latin typeface="Arial Black"/>
                </a:rPr>
                <a:t>Γονιδιο:Ειναι η μοναδα κληρονομικοτητας για ενα γνωρισμα.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5"/>
                    <a:srcRect/>
                    <a:tile tx="0" ty="0" sx="100000" sy="100000" algn="ctr"/>
                  </a:blipFill>
                  <a:latin typeface="Arial Black"/>
                </a:rPr>
                <a:t>Η ροη πληροφοριας ειναι :DNA      RNA     Πρωτεινη.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609480" y="4572000"/>
              <a:ext cx="793296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7"/>
                    <a:srcRect/>
                    <a:tile tx="0" ty="0" sx="100000" sy="100000" algn="ctr"/>
                  </a:blipFill>
                  <a:latin typeface="Arial Black"/>
                </a:rPr>
                <a:t>Αν γινει λαθος στη μεταγραφη ή στη μεταφραση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9"/>
                    <a:srcRect/>
                    <a:tile tx="0" ty="0" sx="100000" sy="100000" algn="ctr"/>
                  </a:blipFill>
                  <a:latin typeface="Arial Black"/>
                </a:rPr>
                <a:t>θα δημιουργηθει λαθος οποτε αφου αλλαζει η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1"/>
                    <a:srcRect/>
                    <a:tile tx="0" ty="0" sx="100000" sy="100000" algn="ctr"/>
                  </a:blipFill>
                  <a:latin typeface="Arial Black"/>
                </a:rPr>
                <a:t>δομη της αλλαζει και η λειτουργια της .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673200" y="5715000"/>
              <a:ext cx="793260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3"/>
                    <a:srcRect/>
                    <a:tile tx="0" ty="0" sx="100000" sy="100000" algn="ctr"/>
                  </a:blipFill>
                  <a:latin typeface="Arial Black"/>
                </a:rPr>
                <a:t>Τα χρωμοσωματα αποτελουνται απο DNA  και ιστόνες(πρωτεϊνες)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5"/>
                    <a:srcRect/>
                    <a:tile tx="0" ty="0" sx="100000" sy="100000" algn="ctr"/>
                  </a:blipFill>
                  <a:latin typeface="Arial Black"/>
                </a:rPr>
                <a:t>Ο  ρολος τους ειναι η αντιγραφη ,διατηρηση και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6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7"/>
                    <a:srcRect/>
                    <a:tile tx="0" ty="0" sx="100000" sy="100000" algn="ctr"/>
                  </a:blipFill>
                  <a:latin typeface="Arial Black"/>
                </a:rPr>
                <a:t>μεταφορα της γενετικης πληροφοριας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8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0880" y="533520"/>
            <a:ext cx="8534520" cy="83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Καρυοτυπος 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80880" y="990720"/>
            <a:ext cx="8763120" cy="5867280"/>
            <a:chOff x="380880" y="990720"/>
            <a:chExt cx="8763120" cy="5867280"/>
          </a:xfrm>
        </p:grpSpPr>
        <p:grpSp>
          <p:nvGrpSpPr>
            <p:cNvPr id="272" name=""/>
            <p:cNvGrpSpPr/>
            <p:nvPr/>
          </p:nvGrpSpPr>
          <p:grpSpPr>
            <a:xfrm>
              <a:off x="533520" y="990720"/>
              <a:ext cx="8181720" cy="3657600"/>
              <a:chOff x="533520" y="990720"/>
              <a:chExt cx="8181720" cy="3657600"/>
            </a:xfrm>
          </p:grpSpPr>
          <p:sp>
            <p:nvSpPr>
              <p:cNvPr id="273" name=""/>
              <p:cNvSpPr txBox="1"/>
              <p:nvPr/>
            </p:nvSpPr>
            <p:spPr>
              <a:xfrm>
                <a:off x="1371600" y="990720"/>
                <a:ext cx="6629400" cy="232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  <a:latin typeface="Arial Black"/>
                  </a:rPr>
                  <a:t>Καρυοτυπος : Ειναι ο αριθμος,</a:t>
                </a:r>
                <a:endPara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  <a:latin typeface="Arial Black"/>
                  </a:rPr>
                  <a:t> </a:t>
                </a:r>
                <a:r>
                  <a: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  <a:latin typeface="Arial Black"/>
                  </a:rPr>
                  <a:t>σχημα και μεγεθος των χρωμοσωματων.</a:t>
                </a:r>
                <a:endPara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  <a:latin typeface="Arial Black"/>
                  </a:rPr>
                  <a:t>Ειναι σταθερος για καθε ειδος (εκτός των περιπτωσεων</a:t>
                </a:r>
                <a:endPara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  <a:latin typeface="Arial Black"/>
                  </a:rPr>
                  <a:t> </a:t>
                </a:r>
                <a:r>
                  <a: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  <a:latin typeface="Arial Black"/>
                  </a:rPr>
                  <a:t>που υπάρχουν αριθμητικές μεταλάξεις).</a:t>
                </a:r>
                <a:endPara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  <a:ea typeface="Arial Black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>
                <a:off x="533520" y="3429000"/>
                <a:ext cx="8181720" cy="1219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1" strike="noStrike">
                    <a:ln w="9360">
                      <a:solidFill>
                        <a:srgbClr val="0000ff"/>
                      </a:solidFill>
                      <a:miter/>
                    </a:ln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  <a:latin typeface="Arial Black"/>
                  </a:rPr>
                  <a:t>Στον ανθρωπο ο αριθμος  ειναι Ν=23 (γαμετης) και στο σωματικο</a:t>
                </a:r>
                <a:endParaRPr b="0" lang="en-US" sz="4400" spc="1" strike="noStrike">
                  <a:ln w="936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1" strike="noStrike">
                    <a:ln w="9360">
                      <a:solidFill>
                        <a:srgbClr val="0000ff"/>
                      </a:solidFill>
                      <a:miter/>
                    </a:ln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  <a:latin typeface="Arial Black"/>
                  </a:rPr>
                  <a:t> </a:t>
                </a:r>
                <a:r>
                  <a:rPr b="0" lang="en-US" sz="4400" spc="1" strike="noStrike">
                    <a:ln w="9360">
                      <a:solidFill>
                        <a:srgbClr val="0000ff"/>
                      </a:solidFill>
                      <a:miter/>
                    </a:ln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  <a:latin typeface="Arial Black"/>
                  </a:rPr>
                  <a:t>κυτταρο ειναι 2Ν=46.</a:t>
                </a:r>
                <a:endParaRPr b="0" lang="en-US" sz="4400" spc="1" strike="noStrike">
                  <a:ln w="936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75" name=""/>
            <p:cNvSpPr txBox="1"/>
            <p:nvPr/>
          </p:nvSpPr>
          <p:spPr>
            <a:xfrm>
              <a:off x="380880" y="4648320"/>
              <a:ext cx="8763120" cy="220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</a:rPr>
                <a:t>Στον άντρα και τη γυναίκα τα 22 ζευγάρια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</a:rPr>
                <a:t> </a:t>
              </a: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</a:rPr>
                <a:t>είναι τα αυτοσωμικά χρωμοσώματα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</a:rPr>
                <a:t>και τα φυλετικό χψ στον άντρα και χχ στη γυναίκα.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</a:rPr>
                <a:t>Υπέυθυνος για το φύλο είναι ο άντρας.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10:45:00Z</dcterms:created>
  <dc:creator>3 ΓΥΜΝΑΣΙΟ ΠΑΤΡΩΝ</dc:creator>
  <dc:description/>
  <dc:language>en-US</dc:language>
  <cp:lastModifiedBy>RIO</cp:lastModifiedBy>
  <cp:lastPrinted>2000-03-06T11:26:05Z</cp:lastPrinted>
  <dcterms:modified xsi:type="dcterms:W3CDTF">2000-03-07T09:16:41Z</dcterms:modified>
  <cp:revision>12</cp:revision>
  <dc:subject/>
  <dc:title>Χωρίς τίτλο διαφάνειας</dc:title>
</cp:coreProperties>
</file>