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%CE%88%CE%BA%CF%81%CE%B7%CE%BE%CE%B7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004-9108-466F-BB39-C242CF43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397-2228-4B69-9633-8A882852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280-79FC-4CE4-BA46-E06A7848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85D-C5AF-4736-B28F-E8FDD8BA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987-6144-4D3E-AE88-C3ED26E7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34E-CD1C-4A67-BCA4-C35937BE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1208-276F-478F-BB93-8AFB3DB0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608-2995-4AD8-83FC-81C3EBC2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B28-CB76-458F-A573-608B5A9C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295-154C-41A5-82F1-669B709B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53F-0146-4D02-86E4-B257216A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D0D-8787-46B7-B9AF-E7E08074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D10B-C25B-4C5B-A4BC-4A6E48DC2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&#904;&#954;&#961;&#951;&#958;&#951;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&#904;&#954;&#961;&#951;&#958;&#951;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828800"/>
            <a:ext cx="1079280" cy="14400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3276720"/>
            <a:ext cx="1079280" cy="10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9402200">
            <a:off x="3419280" y="1114200"/>
            <a:ext cx="1800000" cy="1800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1828800"/>
            <a:ext cx="144000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%CE%88%CE%BA%CF%81%CE%B7%CE%BE%CE%B7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2666880"/>
            <a:ext cx="2519640" cy="2519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114800"/>
            <a:ext cx="1440000" cy="10796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80880" y="2666880"/>
            <a:ext cx="1079640" cy="144000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175400">
            <a:off x="1648440" y="3913560"/>
            <a:ext cx="1439640" cy="10796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18000">
            <a:off x="1447200" y="2666160"/>
            <a:ext cx="1439640" cy="10796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2666880"/>
            <a:ext cx="2519640" cy="2519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3733920"/>
            <a:ext cx="1079640" cy="14396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42000">
            <a:off x="5637960" y="3733200"/>
            <a:ext cx="1079640" cy="14396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6705360" y="2666520"/>
            <a:ext cx="1439640" cy="10796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2666880"/>
            <a:ext cx="1439640" cy="10796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  <p:sndAc>
      <p:stSnd>
        <p:snd r:embed="rId1" name="%CE%88%CE%BA%CF%81%CE%B7%CE%BE%CE%B7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6:31:28Z</dcterms:created>
  <dc:creator>ITY</dc:creator>
  <dc:description/>
  <dc:language>en-US</dc:language>
  <cp:lastModifiedBy>ITY</cp:lastModifiedBy>
  <dcterms:modified xsi:type="dcterms:W3CDTF">2000-02-28T09:25:40Z</dcterms:modified>
  <cp:revision>2</cp:revision>
  <dc:subject/>
  <dc:title>Χωρίς τίτλο διαφάνειας</dc:title>
</cp:coreProperties>
</file>