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2DA5-49AA-4706-A81E-E4276A935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1839-BE86-4FDB-8E1E-F3AA7C104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B2CD-91AC-4D69-AE0A-D04366BEC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1438-A081-40A3-9CE0-E02CC016E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B26A-6C65-463D-8ABF-970C289DF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2E2F-D31F-4DAB-91CB-01FFAC07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AA59-3868-4BBA-ABC3-F2B44722E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EFA4-0556-40B9-8300-010C8B255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CFB5-072B-4480-ABAA-5352A1F8C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6029-265B-4814-B0EE-E195B9D3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B650-63F9-4FAB-BCE4-23790658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0C7D-72E1-467A-9A30-BDC22842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FB8AE-299B-43C1-A8B9-209CC89C0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0"/>
            <a:ext cx="82803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33399"/>
                </a:solidFill>
                <a:latin typeface="Comic Sans MS"/>
              </a:rPr>
              <a:t>Σύνδεση με άλλα μαθήματ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33399"/>
                </a:solidFill>
                <a:latin typeface="Comic Sans MS"/>
              </a:rPr>
              <a:t>Σύνδεση με τον πολιτισμ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33399"/>
                </a:solidFill>
                <a:latin typeface="Comic Sans MS"/>
              </a:rPr>
              <a:t>Σύνδεση με την τέχν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33399"/>
                </a:solidFill>
                <a:latin typeface="Comic Sans MS"/>
              </a:rPr>
              <a:t>Σύνδεση με την καθημερινή ζω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33399"/>
                </a:solidFill>
                <a:latin typeface="Comic Sans MS"/>
              </a:rPr>
              <a:t>Σύνδεση με την τεχνολογία</a:t>
            </a:r>
            <a:r>
              <a:rPr b="1" lang="el-GR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084640"/>
            <a:ext cx="835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bbe0e3"/>
                </a:solidFill>
                <a:latin typeface="Comic Sans MS"/>
              </a:rPr>
              <a:t>Η γνώση στην ενοποίησή της αποκτάει</a:t>
            </a:r>
            <a:r>
              <a:rPr b="1" lang="el-GR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l-GR" sz="4400" spc="-1" strike="noStrike">
                <a:solidFill>
                  <a:srgbClr val="ff0000"/>
                </a:solidFill>
                <a:latin typeface="Comic Sans MS"/>
              </a:rPr>
              <a:t>νόημα</a:t>
            </a:r>
            <a:r>
              <a:rPr b="1" lang="el-G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101080" y="4294080"/>
            <a:ext cx="1042920" cy="574920"/>
          </a:xfrm>
          <a:prstGeom prst="wedgeRoundRectCallout">
            <a:avLst>
              <a:gd name="adj1" fmla="val -111949"/>
              <a:gd name="adj2" fmla="val 12016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99"/>
                </a:solidFill>
                <a:latin typeface="Comic Sans MS"/>
              </a:rPr>
              <a:t>Γιατί;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21:28:29Z</dcterms:created>
  <dc:creator>*****</dc:creator>
  <dc:description/>
  <dc:language>en-US</dc:language>
  <cp:lastModifiedBy>Αγγελική</cp:lastModifiedBy>
  <dcterms:modified xsi:type="dcterms:W3CDTF">2007-06-17T19:37:28Z</dcterms:modified>
  <cp:revision>11</cp:revision>
  <dc:subject/>
  <dc:title>Διαφάνεια 1</dc:title>
</cp:coreProperties>
</file>