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D57-EA90-4F50-87EC-D5EBCFEB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29D-AD20-4805-933D-13A99CC4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778-B05D-481C-8E6D-A0588073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EFD-AFB7-4958-B447-A6B10A31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6C9-0983-4D07-AF77-C28B0740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EF6-D0CC-4C87-AA4D-332A5FAB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8AD-5027-4477-AEC2-9B1EB1E5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CE6-A00A-42A3-A1D7-3A01D4AF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2F9-33BC-40F0-88CA-6A96282F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FE9-0A8F-4F60-B7B5-0D8F68B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698-AD2C-4094-BF09-9A665A3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5ED-9BE0-4B6C-AC19-2D7EF70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31B7-1886-41E8-9947-62A47382F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00"/>
                </a:solidFill>
                <a:latin typeface="Comic Sans MS"/>
              </a:rPr>
              <a:t>Υπερκλαδικότητ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00"/>
                </a:solidFill>
                <a:latin typeface="Comic Sans MS"/>
              </a:rPr>
              <a:t>Θεωρία συστημάτων</a:t>
            </a:r>
            <a:r>
              <a:rPr b="1" lang="el-GR" sz="36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99"/>
                </a:solidFill>
                <a:latin typeface="Comic Sans MS"/>
              </a:rPr>
              <a:t>Σύστημα: σύνολο επιμέρους τμημάτων και οι αλληλεπιδράσεις του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99"/>
                </a:solidFill>
                <a:latin typeface="Comic Sans MS"/>
              </a:rPr>
              <a:t>Αναδυόμενες ιδιότητες συστημάτω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250920" y="609300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9:43:53Z</dcterms:created>
  <dc:creator>Αγγελική</dc:creator>
  <dc:description/>
  <dc:language>en-US</dc:language>
  <cp:lastModifiedBy>Αγγελική</cp:lastModifiedBy>
  <dcterms:modified xsi:type="dcterms:W3CDTF">2007-06-17T19:44:06Z</dcterms:modified>
  <cp:revision>1</cp:revision>
  <dc:subject/>
  <dc:title>Υπερκλαδικότητα </dc:title>
</cp:coreProperties>
</file>