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7B4-3853-4691-99D0-40D9C3BC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F12-3FE0-4516-88BC-D8F496F1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CAD-1D82-4F94-A2A9-86ED211D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9E9-8573-49EE-B732-A9CE1294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A98-03C1-4F88-84BD-3BD23441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F8F-13E3-4075-AD6D-7D9CCB03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0C0-C8F5-4D31-B5EE-FF9CBF7E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676-F016-4F0B-83FC-084A5509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4F52-CBC6-43A6-BC6A-378945DD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1BB-1512-495C-A839-5499554F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CA36-5EBC-4A47-8006-D843405C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81D-E7B1-461F-8369-4A51DE8B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956F-63A4-4474-8B66-E607A3F14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74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00"/>
                </a:solidFill>
                <a:latin typeface="Comic Sans MS"/>
              </a:rPr>
              <a:t>Σύστημα, αλληλεπίδραση, ισορροπία, μεταβολή, ομοιότητα, διαφορά, επικοινωνία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0536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cc00"/>
                </a:solidFill>
                <a:latin typeface="Comic Sans MS"/>
              </a:rPr>
              <a:t>Έννοιες </a:t>
            </a:r>
            <a:r>
              <a:rPr b="1" lang="el-GR" sz="4000" spc="-1" strike="noStrike">
                <a:solidFill>
                  <a:srgbClr val="00cc00"/>
                </a:solidFill>
                <a:latin typeface="Wingdings 3"/>
                <a:ea typeface="Wingdings 3"/>
              </a:rPr>
              <a:t></a:t>
            </a:r>
            <a:r>
              <a:rPr b="1" lang="el-GR" sz="4000" spc="-1" strike="noStrike">
                <a:solidFill>
                  <a:srgbClr val="00cc00"/>
                </a:solidFill>
                <a:latin typeface="Comic Sans MS"/>
              </a:rPr>
              <a:t>Μακροέννοιες</a:t>
            </a:r>
            <a:r>
              <a:rPr b="1" lang="el-GR" sz="4000" spc="-1" strike="noStrike">
                <a:solidFill>
                  <a:srgbClr val="00cc00"/>
                </a:solidFill>
                <a:latin typeface="Wingdings 3"/>
                <a:ea typeface="Wingdings 3"/>
              </a:rPr>
              <a:t></a:t>
            </a:r>
            <a:r>
              <a:rPr b="1" lang="el-GR" sz="4000" spc="-1" strike="noStrike">
                <a:solidFill>
                  <a:srgbClr val="00cc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cc00"/>
                </a:solidFill>
                <a:latin typeface="Comic Sans MS"/>
              </a:rPr>
              <a:t>δομές σκέψ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cc00"/>
                </a:solidFill>
                <a:latin typeface="Comic Sans MS"/>
              </a:rPr>
              <a:t>Καλλιεργείται η αναλογική σκέψ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2852640"/>
            <a:ext cx="2050920" cy="863640"/>
          </a:xfrm>
          <a:prstGeom prst="wedgeRoundRectCallout">
            <a:avLst>
              <a:gd name="adj1" fmla="val -45819"/>
              <a:gd name="adj2" fmla="val 65074"/>
              <a:gd name="adj3" fmla="val 1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cc00"/>
                </a:solidFill>
                <a:latin typeface="Comic Sans MS"/>
              </a:rPr>
              <a:t>Γιατί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1:46:13Z</dcterms:created>
  <dc:creator>*****</dc:creator>
  <dc:description/>
  <dc:language>en-US</dc:language>
  <cp:lastModifiedBy>Αγγελική</cp:lastModifiedBy>
  <dcterms:modified xsi:type="dcterms:W3CDTF">2007-06-17T19:41:31Z</dcterms:modified>
  <cp:revision>14</cp:revision>
  <dc:subject/>
  <dc:title>Σύστημα, αλληλεπίδραση, ισορροπία, μεταβολή. </dc:title>
</cp:coreProperties>
</file>