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CF7-A38F-4B9B-A13E-1E6E917A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FDC-C4F5-40E0-BB0F-5336762F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FDE-9C9B-4A96-A75D-B99DF23A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881-32F5-412B-A17D-AE4EBE90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969-1E49-496D-B142-06F1B0D0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5B1-E980-4B74-B8CF-DFB9D96C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5C6F-A54B-4C18-9952-75C4F113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6CC-DC8B-48A2-A7FE-043E92AF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176C-7D7D-49A0-92A0-70687336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0081-9678-40E0-B4B6-8964960D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B18-CE65-4BAC-A000-AB803514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E67D-E09C-49D9-A8B1-BCC777E8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E795-EDF6-4244-B2AE-39A2C0D5D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ffccff"/>
                </a:solidFill>
                <a:latin typeface="Comic Sans MS"/>
              </a:rPr>
              <a:t>Σχέδια εργασίας</a:t>
            </a:r>
            <a:r>
              <a:rPr b="1" lang="el-GR" sz="5400" spc="-1" strike="noStrike">
                <a:solidFill>
                  <a:srgbClr val="ffccff"/>
                </a:solidFill>
                <a:latin typeface="Comic Sans MS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ffccff"/>
                </a:solidFill>
                <a:latin typeface="Comic Sans MS"/>
              </a:rPr>
              <a:t>project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076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ccff"/>
                </a:solidFill>
                <a:latin typeface="Comic Sans MS"/>
              </a:rPr>
              <a:t>  </a:t>
            </a:r>
            <a:r>
              <a:rPr b="0" lang="el-GR" sz="2800" spc="-1" strike="noStrike">
                <a:solidFill>
                  <a:srgbClr val="ffccff"/>
                </a:solidFill>
                <a:latin typeface="Comic Sans MS"/>
              </a:rPr>
              <a:t>Διάρκεια:    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10% </a:t>
            </a:r>
            <a:r>
              <a:rPr b="0" lang="el-GR" sz="2800" spc="-1" strike="noStrike">
                <a:solidFill>
                  <a:srgbClr val="ffccff"/>
                </a:solidFill>
                <a:latin typeface="Comic Sans MS"/>
              </a:rPr>
              <a:t>των ωρών  2-5 ώρ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65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ccff"/>
                </a:solidFill>
                <a:latin typeface="Comic Sans MS"/>
              </a:rPr>
              <a:t>Ερευνητική και ομαδική αναζήτηση ή</a:t>
            </a:r>
            <a:r>
              <a:rPr b="1" lang="en-US" sz="3200" spc="-1" strike="noStrike">
                <a:solidFill>
                  <a:srgbClr val="ffccff"/>
                </a:solidFill>
                <a:latin typeface="Comic Sans MS"/>
              </a:rPr>
              <a:t>/</a:t>
            </a:r>
            <a:r>
              <a:rPr b="1" lang="el-GR" sz="3200" spc="-1" strike="noStrike">
                <a:solidFill>
                  <a:srgbClr val="ffccff"/>
                </a:solidFill>
                <a:latin typeface="Comic Sans MS"/>
              </a:rPr>
              <a:t>και ανακάλυψη της γνώσ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ccff"/>
                </a:solidFill>
                <a:latin typeface="Arial"/>
              </a:rPr>
              <a:t>Στόχοι ενός σχεδίου εργασίας είναι η ανάπτυξη:</a:t>
            </a:r>
            <a:r>
              <a:rPr b="1" lang="el-GR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5248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491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ffccff"/>
                </a:solidFill>
                <a:latin typeface="Arial"/>
              </a:rPr>
              <a:t>της αυτενέργειας των μαθητώ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491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ffccff"/>
                </a:solidFill>
                <a:latin typeface="Arial"/>
              </a:rPr>
              <a:t>δεξιοτήτων έρευνας, πειραματισμο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491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ffccff"/>
                </a:solidFill>
                <a:latin typeface="Arial"/>
              </a:rPr>
              <a:t>δεξιοτήτων επικοινων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491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ffccff"/>
                </a:solidFill>
                <a:latin typeface="Arial"/>
              </a:rPr>
              <a:t>της κοινωνικής ευαισθητοποίησής του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22:00:31Z</dcterms:created>
  <dc:creator>*****</dc:creator>
  <dc:description/>
  <dc:language>en-US</dc:language>
  <cp:lastModifiedBy>*****</cp:lastModifiedBy>
  <dcterms:modified xsi:type="dcterms:W3CDTF">2007-04-29T00:28:01Z</dcterms:modified>
  <cp:revision>11</cp:revision>
  <dc:subject/>
  <dc:title>Σχέδια εργασίας  project</dc:title>
</cp:coreProperties>
</file>