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505-5EA9-4A9C-9B91-242B9968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B2C-ECA9-4C1A-A716-A318C5D1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A9C-C8EA-4772-881F-4E4A2F34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3D7-6E24-47F8-99DA-21298FED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799-73F2-47A6-9DC8-2516F113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404-A495-4533-BFEA-4B1B345B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A99-0C1C-4C39-A1FD-1865FE1A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3E4-1B4F-4AB2-B367-A7BB8E3A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CC8-1CC6-42A0-8DAC-BE253630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F8F-608F-4AB1-BEE6-54B4CD2E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EA6-043E-453C-A621-16C06916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125-A454-41EF-8228-1B82B182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74FA-7F6C-4F6A-BCFF-6112ADA6F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file:///kef3.pdf" TargetMode="External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ef3_tetradio.pdf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&#933;&#960;&#949;&#961;&#954;&#955;&#945;&#948;&#953;&#954;&#972;&#964;&#951;&#964;&#945;.ppt" TargetMode="External"/><Relationship Id="rId5" Type="http://schemas.openxmlformats.org/officeDocument/2006/relationships/hyperlink" Target="file:///&#931;&#933;&#925;&#916;&#917;&#931;&#917;&#921;&#931;.ppt" TargetMode="External"/><Relationship Id="rId6" Type="http://schemas.openxmlformats.org/officeDocument/2006/relationships/hyperlink" Target="file:///&#931;&#933;&#925;&#916;&#917;&#931;&#917;&#921;&#931;.ppt" TargetMode="External"/><Relationship Id="rId7" Type="http://schemas.openxmlformats.org/officeDocument/2006/relationships/hyperlink" Target="file:///&#916;&#921;&#913;&#920;&#917;&#924;&#913;&#932;&#921;&#922;&#917;&#931;%20&#917;&#925;&#925;&#927;&#921;&#917;&#931;.ppt" TargetMode="External"/><Relationship Id="rId8" Type="http://schemas.openxmlformats.org/officeDocument/2006/relationships/hyperlink" Target="file:///&#916;&#921;&#913;&#920;&#917;&#924;&#913;&#932;&#921;&#922;&#917;&#931;%20&#917;&#925;&#925;&#927;&#921;&#917;&#931;.ppt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kef3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Συγγραφική ομάδ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mic Sans MS"/>
              </a:rPr>
              <a:t>Σπύρος Αβραμιώ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mic Sans MS"/>
              </a:rPr>
              <a:t>Βασίλης Αγγελόπουλ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mic Sans MS"/>
              </a:rPr>
              <a:t>Γιώργος Καπελών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mic Sans MS"/>
              </a:rPr>
              <a:t>Παύλος Σινιγάλι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mic Sans MS"/>
              </a:rPr>
              <a:t>Δημήτρης Σπαντίδ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mic Sans MS"/>
              </a:rPr>
              <a:t>Αγγελική Τρικαλίτ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mic Sans MS"/>
              </a:rPr>
              <a:t>Γιώργος Φίλ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00"/>
                </a:solidFill>
                <a:latin typeface="Arial"/>
              </a:rPr>
              <a:t>ΧΗΜΕΙΑ Β ΓΥΜΝΑΣΙΟΥ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08640"/>
            <a:ext cx="9144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Ομάδα κρί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mic Sans MS"/>
              </a:rPr>
              <a:t>Κωνσταντίνος Πούλ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mic Sans MS"/>
              </a:rPr>
              <a:t>Παρασκευάς Γιαλούρ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mic Sans MS"/>
              </a:rPr>
              <a:t>Γεώργιος</a:t>
            </a:r>
            <a:r>
              <a:rPr b="1" lang="el-GR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ffffff"/>
                </a:solidFill>
                <a:latin typeface="Comic Sans MS"/>
              </a:rPr>
              <a:t>Δημομελέ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00"/>
                </a:solidFill>
                <a:latin typeface="Comic Sans MS"/>
              </a:rPr>
              <a:t>Στην αποκατάσταση του ειρμού ανάμεσα στην παλιά και τη νέα γνώση συμβάλλει σημαντικά και η σύνοψη, η οποία παρατίθεται στο τέλος του κάθε κεφαλαίου με τη μορφή </a:t>
            </a: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χάρτη εννοιών.</a:t>
            </a:r>
            <a:r>
              <a:rPr b="0" lang="el-GR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969840"/>
            <a:ext cx="91440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64000" y="1139760"/>
            <a:ext cx="5148360" cy="5718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1280" y="33336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Comic Sans MS"/>
              </a:rPr>
              <a:t>Συμπλήρωσε τα κενά στον παρακάτω χάρτη εννοιώ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8856" t="14781" r="7715" b="22223"/>
          <a:stretch/>
        </p:blipFill>
        <p:spPr>
          <a:xfrm>
            <a:off x="358920" y="549360"/>
            <a:ext cx="87850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0141" t="19491" r="8660" b="50002"/>
          <a:stretch/>
        </p:blipFill>
        <p:spPr>
          <a:xfrm>
            <a:off x="0" y="765000"/>
            <a:ext cx="9144000" cy="2578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8660" t="47049" r="13817" b="28341"/>
          <a:stretch/>
        </p:blipFill>
        <p:spPr>
          <a:xfrm>
            <a:off x="0" y="4076640"/>
            <a:ext cx="91440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07920"/>
            <a:ext cx="914400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Στην πορεία, θα δοθεί στο μαθητή η ευκαιρία να κάνει Χημεία με </a:t>
            </a:r>
            <a:r>
              <a:rPr b="1" lang="el-GR" sz="3600" spc="-1" strike="noStrike">
                <a:solidFill>
                  <a:srgbClr val="ffff00"/>
                </a:solidFill>
                <a:latin typeface="Comic Sans MS"/>
              </a:rPr>
              <a:t>σχέδια εργασίας</a:t>
            </a:r>
            <a:r>
              <a:rPr b="1" lang="el-GR" sz="3600" spc="-1" strike="noStrike">
                <a:solidFill>
                  <a:srgbClr val="ffffff"/>
                </a:solidFill>
                <a:latin typeface="Comic Sans MS"/>
              </a:rPr>
              <a:t> δηλαδή με ομαδικές διερευνητικές  εργασί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Comic Sans MS"/>
              </a:rPr>
              <a:t>(10% των ωρών διδασκαλίας του μαθήματος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3360"/>
            <a:ext cx="9144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Comic Sans MS"/>
              </a:rPr>
              <a:t>Προτεινόμενο σχέδιο εργασίας το οποίο συνδυάζει  διαθεματικ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Comic Sans MS"/>
              </a:rPr>
              <a:t>τη Χημεί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Comic Sans MS"/>
              </a:rPr>
              <a:t>το περιβάλλον κα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Comic Sans MS"/>
              </a:rPr>
              <a:t>την καθημερινή ζω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αι στοχεύε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στην αυτενέργεια των μαθητώ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την κοινωνική ευαισθητοποίηση των μαθητών κ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την ανάπτυξη δεξιοτήτων έρευνας, πειραματισμο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5734080"/>
            <a:ext cx="61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Πυρκαγιές</a:t>
            </a:r>
            <a:r>
              <a:rPr b="0" lang="el-GR" sz="4400" spc="-1" strike="noStrike" u="sng">
                <a:solidFill>
                  <a:srgbClr val="009999"/>
                </a:solidFill>
                <a:uFillTx/>
                <a:latin typeface="Wingdings"/>
                <a:ea typeface="Wingdings"/>
                <a:hlinkClick r:id="rId7"/>
              </a:rPr>
              <a:t>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ff"/>
                </a:solidFill>
                <a:latin typeface="Comic Sans MS"/>
              </a:rPr>
              <a:t>Προτάσεις για σχέδια εργασίας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ff"/>
                </a:solidFill>
                <a:latin typeface="Comic Sans MS"/>
              </a:rPr>
              <a:t>Τρεις  ώρες για 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τη ρύπανση</a:t>
            </a: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l-GR" sz="2400" spc="-1" strike="noStrike">
                <a:solidFill>
                  <a:srgbClr val="ffccff"/>
                </a:solidFill>
                <a:latin typeface="Comic Sans MS"/>
              </a:rPr>
              <a:t>(νερού, αέρα, εδάφους)      Ενοποίηση και δημιουργία σχεδίου εργασία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ff"/>
                </a:solidFill>
                <a:latin typeface="Comic Sans MS"/>
              </a:rPr>
              <a:t>Εισαγωγικό μάθημα νερού 2.1. και ρύπανση 2.4.:  να γίνουν σχέδιο εργασίας για 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το νερό</a:t>
            </a:r>
            <a:r>
              <a:rPr b="1" lang="el-GR" sz="2400" spc="-1" strike="noStrike">
                <a:solidFill>
                  <a:srgbClr val="ffcc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ff"/>
                </a:solidFill>
                <a:latin typeface="Comic Sans MS"/>
              </a:rPr>
              <a:t>Το 3.3 και το 3.4. για το διοξείδιο και τη ρύπανση του αέρα ενοποίηση και οργάνωση σχεδίου εργασίας για το φαινόμενο θερμοκηπίο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ccff"/>
                </a:solidFill>
                <a:latin typeface="Comic Sans MS"/>
              </a:rPr>
              <a:t>Το 4.1 και το 4.2. μάθημα για </a:t>
            </a: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το έδαφος τα πετρώματα</a:t>
            </a:r>
            <a:r>
              <a:rPr b="1" lang="el-GR" sz="2400" spc="-1" strike="noStrike">
                <a:solidFill>
                  <a:srgbClr val="ffccff"/>
                </a:solidFill>
                <a:latin typeface="Comic Sans MS"/>
              </a:rPr>
              <a:t> και τη ρύπανση του εδάφους  Σχέδιο εργασ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1989000"/>
            <a:ext cx="504720" cy="503280"/>
          </a:xfrm>
          <a:custGeom>
            <a:avLst/>
            <a:gdLst>
              <a:gd name="textAreaLeft" fmla="*/ 63000 w 504720"/>
              <a:gd name="textAreaRight" fmla="*/ 441720 w 504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ffcc00"/>
                </a:solidFill>
                <a:latin typeface="Comic Sans MS"/>
              </a:rPr>
              <a:t>Τετράδιο εργασιών</a:t>
            </a:r>
            <a:r>
              <a:rPr b="0" lang="el-GR" sz="4800" spc="-1" strike="noStrike" u="sng">
                <a:solidFill>
                  <a:srgbClr val="009999"/>
                </a:solidFill>
                <a:uFillTx/>
                <a:latin typeface="Wingdings"/>
                <a:ea typeface="Wingdings"/>
                <a:hlinkClick r:id="rId1"/>
              </a:rPr>
              <a:t>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55640" y="549360"/>
            <a:ext cx="784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Σας ευχαριστώ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για την προσοχή σα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57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atrikal@otenet.g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Βασικές φιλοσοφικές κατευθύνσεις του αναλυτικού προγράμ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Comic Sans MS"/>
              </a:rPr>
              <a:t>Διασύνδεση με άλλες περιοχές γνώσης (διαθεματικότητα)</a:t>
            </a:r>
            <a:r>
              <a:rPr b="0" lang="el-GR" sz="2800" spc="-1" strike="noStrike" u="sng">
                <a:solidFill>
                  <a:srgbClr val="009999"/>
                </a:solidFill>
                <a:uFillTx/>
                <a:latin typeface="Wingdings"/>
                <a:ea typeface="Wingdings"/>
                <a:hlinkClick r:id="rId2" action="ppaction://hlinksldjump"/>
              </a:rPr>
              <a:t></a:t>
            </a:r>
            <a:r>
              <a:rPr b="0" lang="el-GR" sz="2800" spc="-1" strike="noStrike" u="sng">
                <a:solidFill>
                  <a:srgbClr val="009999"/>
                </a:solidFill>
                <a:uFillTx/>
                <a:latin typeface="Comic Sans MS"/>
                <a:ea typeface="Wingdings"/>
                <a:hlinkClick r:id="rId3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Comic Sans MS"/>
              </a:rPr>
              <a:t>Από το μακρόκοσμο στο μικρόκοσμ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ΧΗΜΕΙΑ Β ΓΥΜΝΑΣΙΟΥ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4105440" cy="60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l-GR" sz="2400" spc="-1" strike="noStrike">
                <a:solidFill>
                  <a:srgbClr val="bbe0e3"/>
                </a:solidFill>
                <a:latin typeface="Comic Sans MS"/>
              </a:rPr>
              <a:t>18</a:t>
            </a:r>
            <a:r>
              <a:rPr b="1" lang="el-GR" sz="2400" spc="-1" strike="noStrike" baseline="30000">
                <a:solidFill>
                  <a:srgbClr val="bbe0e3"/>
                </a:solidFill>
                <a:latin typeface="Comic Sans MS"/>
              </a:rPr>
              <a:t>ος </a:t>
            </a:r>
            <a:r>
              <a:rPr b="1" lang="el-GR" sz="2400" spc="-1" strike="noStrike">
                <a:solidFill>
                  <a:srgbClr val="bbe0e3"/>
                </a:solidFill>
                <a:latin typeface="Comic Sans MS"/>
              </a:rPr>
              <a:t>- 19</a:t>
            </a:r>
            <a:r>
              <a:rPr b="1" lang="el-GR" sz="2400" spc="-1" strike="noStrike" baseline="30000">
                <a:solidFill>
                  <a:srgbClr val="bbe0e3"/>
                </a:solidFill>
                <a:latin typeface="Comic Sans MS"/>
              </a:rPr>
              <a:t>ος</a:t>
            </a:r>
            <a:r>
              <a:rPr b="1" lang="el-GR" sz="2400" spc="-1" strike="noStrike">
                <a:solidFill>
                  <a:srgbClr val="bbe0e3"/>
                </a:solidFill>
                <a:latin typeface="Comic Sans MS"/>
              </a:rPr>
              <a:t> αιώνας συγκρότηση Επιστημονικών κλάδων</a:t>
            </a:r>
            <a:r>
              <a:rPr b="1" lang="el-GR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scipline</a:t>
            </a:r>
            <a:r>
              <a:rPr b="1" lang="el-GR" sz="2400" spc="-1" strike="noStrike">
                <a:solidFill>
                  <a:srgbClr val="ff0000"/>
                </a:solidFill>
                <a:latin typeface="Comic Sans MS"/>
              </a:rPr>
              <a:t>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1" lang="el-GR" sz="2400" spc="-1" strike="noStrike">
                <a:solidFill>
                  <a:srgbClr val="bbe0e3"/>
                </a:solidFill>
                <a:latin typeface="Comic Sans MS"/>
              </a:rPr>
              <a:t>Σταδιακά: συνεργασία κλάδων- διεπιστηµονικότητα ή δια-κλαδικότητα </a:t>
            </a:r>
            <a:r>
              <a:rPr b="1" lang="el-GR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nterdisciplinarity</a:t>
            </a:r>
            <a:r>
              <a:rPr b="1" lang="el-GR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bbe0e3"/>
                </a:solidFill>
                <a:latin typeface="Comic Sans MS"/>
              </a:rPr>
              <a:t>Αργότερα: Αναπτύχθηκαν θεωρίες που διατρέχουν όλους τους κλάδους υπερ-κλαδικότητα</a:t>
            </a: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1" lang="el-GR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sciplinarity</a:t>
            </a: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r>
              <a:rPr b="0" lang="el-GR" sz="2400" spc="-1" strike="noStrike" u="sng">
                <a:solidFill>
                  <a:srgbClr val="009999"/>
                </a:solidFill>
                <a:uFillTx/>
                <a:latin typeface="Wingdings 2"/>
                <a:ea typeface="Wingdings 2"/>
                <a:hlinkClick r:id="rId4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M</a:t>
            </a:r>
            <a:r>
              <a:rPr b="1" lang="el-GR" sz="2400" spc="-1" strike="noStrike">
                <a:solidFill>
                  <a:srgbClr val="bbe0e3"/>
                </a:solidFill>
                <a:latin typeface="Comic Sans MS"/>
              </a:rPr>
              <a:t>αθήματα</a:t>
            </a:r>
            <a:r>
              <a:rPr b="1" lang="el-GR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0720" y="2637000"/>
            <a:ext cx="2519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bbe0e3"/>
                </a:solidFill>
                <a:latin typeface="Comic Sans MS"/>
              </a:rPr>
              <a:t>Συνεργασία μαθημά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Comic Sans MS"/>
              </a:rPr>
              <a:t>Διαθεματικές συνδέσεις</a:t>
            </a:r>
            <a:r>
              <a:rPr b="0" lang="el-GR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5"/>
              </a:rPr>
              <a:t></a:t>
            </a:r>
            <a:r>
              <a:rPr b="0" lang="el-GR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6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3640" y="4797360"/>
            <a:ext cx="3600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bbe0e3"/>
                </a:solidFill>
                <a:latin typeface="Comic Sans MS"/>
              </a:rPr>
              <a:t>Έννοιες που διατρέχουν όλα τα μαθήματα</a:t>
            </a: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Comic Sans MS"/>
              </a:rPr>
              <a:t>Διαθεματικές έννοιες</a:t>
            </a:r>
            <a:r>
              <a:rPr b="0" lang="el-GR" sz="2400" spc="-1" strike="noStrike" u="sng">
                <a:solidFill>
                  <a:srgbClr val="009999"/>
                </a:solidFill>
                <a:uFillTx/>
                <a:latin typeface="Wingdings"/>
                <a:ea typeface="Wingdings"/>
                <a:hlinkClick r:id="rId7"/>
              </a:rPr>
              <a:t></a:t>
            </a:r>
            <a:r>
              <a:rPr b="0" lang="el-GR" sz="2400" spc="-1" strike="noStrike" u="sng">
                <a:solidFill>
                  <a:srgbClr val="009999"/>
                </a:solidFill>
                <a:uFillTx/>
                <a:latin typeface="Comic Sans MS"/>
                <a:ea typeface="Wingdings"/>
                <a:hlinkClick r:id="rId8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260280"/>
            <a:ext cx="7704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Comic Sans MS"/>
              </a:rPr>
              <a:t>Αναλογία σε επιστήμη και ΔΕΠΠ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56000" y="155736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2924280"/>
            <a:ext cx="1224000" cy="576000"/>
          </a:xfrm>
          <a:prstGeom prst="leftRightArrow">
            <a:avLst>
              <a:gd name="adj1" fmla="val 50000"/>
              <a:gd name="adj2" fmla="val 423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508464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6352920" cy="83052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ffccff"/>
                </a:solidFill>
                <a:latin typeface="Comic Sans MS"/>
              </a:rPr>
              <a:t>Η πρόκληση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1142640" y="2057040"/>
            <a:ext cx="3048120" cy="4419720"/>
          </a:xfrm>
          <a:prstGeom prst="flowChartPunchedTape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Δεξιότητε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Διαδικασ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κέψ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686120" y="2019240"/>
            <a:ext cx="3048120" cy="4495680"/>
          </a:xfrm>
          <a:prstGeom prst="flowChartPunchedTape">
            <a:avLst/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Περιεχόμεν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Σωστή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απάντηση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68580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Εισαγωγ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Χημε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05740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Από τ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νερό στ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άτομ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42900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Ατμο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φαιρικ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αέ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79736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Έδαφ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κ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υπέδαφ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2016000" y="755280"/>
            <a:ext cx="2879640" cy="1368720"/>
          </a:xfrm>
          <a:custGeom>
            <a:avLst/>
            <a:gdLst>
              <a:gd name="textAreaLeft" fmla="*/ 883800 w 2879640"/>
              <a:gd name="textAreaRight" fmla="*/ 1995840 w 2879640"/>
              <a:gd name="textAreaTop" fmla="*/ 420120 h 1368720"/>
              <a:gd name="textAreaBottom" fmla="*/ 94860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816" y="21600"/>
                </a:lnTo>
                <a:lnTo>
                  <a:pt x="8784" y="21600"/>
                </a:lnTo>
                <a:close/>
              </a:path>
            </a:pathLst>
          </a:cu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0"/>
            <a:ext cx="4343400" cy="2881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1.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ι είναι η Χημεία κ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γιατί τη μελετά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2.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Καταστάσει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ων υλικ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3.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υσικές ιδ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των υλικ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83808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 Εισαγωγ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σ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Χημε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20968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 Από τ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νερό στ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άτομ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58128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. Ατμο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σφαιρικ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αέ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95288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. Έδαφ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κ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υπέδαφ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875880" y="2171520"/>
            <a:ext cx="5562720" cy="1524240"/>
          </a:xfrm>
          <a:custGeom>
            <a:avLst/>
            <a:gdLst>
              <a:gd name="textAreaLeft" fmla="*/ 1707480 w 5562720"/>
              <a:gd name="textAreaRight" fmla="*/ 3855240 w 5562720"/>
              <a:gd name="textAreaTop" fmla="*/ 467640 h 1524240"/>
              <a:gd name="textAreaBottom" fmla="*/ 1056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816" y="21600"/>
                </a:lnTo>
                <a:lnTo>
                  <a:pt x="8784" y="21600"/>
                </a:lnTo>
                <a:close/>
              </a:path>
            </a:pathLst>
          </a:cu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152280"/>
            <a:ext cx="4343400" cy="5562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1 Το νερό στη ζωή μ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2 Το νερό ως διαλύτη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Μείγ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3 Περιεκτικότητα διαλύ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4 Ρύπανση νερ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5 Διαχωρισμός μειγμά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6 Διάσπαση νερ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7 Χημική αντίδρα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8 Άτομα και μόρ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9 Υποατομικά σωματίδια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Ιόν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10 Σύμβολα στοιχείων κ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ενώσ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11 Χημική εξίσω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8580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Εισαγωγ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Χημε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05740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Από τ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νερό στ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άτομ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342900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Ατμο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φαιρικ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αέ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79736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Έδαφ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κ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υπέδαφ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1944000" y="3321000"/>
            <a:ext cx="2879640" cy="1368360"/>
          </a:xfrm>
          <a:custGeom>
            <a:avLst/>
            <a:gdLst>
              <a:gd name="textAreaLeft" fmla="*/ 883800 w 2879640"/>
              <a:gd name="textAreaRight" fmla="*/ 1995840 w 2879640"/>
              <a:gd name="textAreaTop" fmla="*/ 420120 h 1368360"/>
              <a:gd name="textAreaBottom" fmla="*/ 948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816" y="21600"/>
                </a:lnTo>
                <a:lnTo>
                  <a:pt x="8784" y="21600"/>
                </a:lnTo>
                <a:close/>
              </a:path>
            </a:pathLst>
          </a:cu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2492280"/>
            <a:ext cx="4753080" cy="2881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3.1. Σύσταση του αέ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2.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Οξυγόν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Διοξείδιο το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άνθρακ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3.4. Ρύπανση του αέρ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68580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Εισαγωγ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Χημε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05740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Από τ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νερό στ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άτομ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342900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Ατμο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φαιρικ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αέ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79736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Έδαφ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κ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υπέδαφ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2245320" y="4891680"/>
            <a:ext cx="1989000" cy="936720"/>
          </a:xfrm>
          <a:custGeom>
            <a:avLst/>
            <a:gdLst>
              <a:gd name="textAreaLeft" fmla="*/ 610560 w 1989000"/>
              <a:gd name="textAreaRight" fmla="*/ 1378440 w 1989000"/>
              <a:gd name="textAreaTop" fmla="*/ 287280 h 936720"/>
              <a:gd name="textAreaBottom" fmla="*/ 649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816" y="21600"/>
                </a:lnTo>
                <a:lnTo>
                  <a:pt x="8784" y="21600"/>
                </a:lnTo>
                <a:close/>
              </a:path>
            </a:pathLst>
          </a:cu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4176720"/>
            <a:ext cx="4680000" cy="2276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1.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Έδαφος Υπέδαφ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2.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Ρύπανση του εδάφου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189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ccff"/>
                </a:solidFill>
                <a:latin typeface="Comic Sans MS"/>
              </a:rPr>
              <a:t>ΣΥΝΟΠΤΙΚΑ Η ΔΙΔΑΚΤΙΚΗ ΦΙΛΟΣΟΦΙΑ</a:t>
            </a:r>
            <a:r>
              <a:rPr b="1" lang="el-GR" sz="2400" spc="-1" strike="noStrike">
                <a:solidFill>
                  <a:srgbClr val="ffcc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98100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ΠΡΟΚΑΤΑΒΟΛΙΚΟΣ ΟΡΓΑΝΩΤΗΣ -ΚΕΙΜΕΝΟ ΠΡΟΒΛΗΜΑΤΙΣΜ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8921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ΠΑΡΙΘΜΗΣΗ ΔΙΔΑΔΙΚΤΩΝ ΣΤΟΧΩΝ </a:t>
            </a:r>
            <a:r>
              <a:rPr b="1" lang="el-GR" sz="2400" spc="-1" strike="noStrike">
                <a:solidFill>
                  <a:srgbClr val="ffccff"/>
                </a:solidFill>
                <a:latin typeface="Comic Sans MS"/>
              </a:rPr>
              <a:t>(αυτοαξιολόγησ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637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ΛΕΞΕΙΣ - ΚΛΕΙΔ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141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ΠΑΡΑΘΥΡΟ ΣΤΟ  ΕΡΓΑΣΤΗΡ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14972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ΣΤΑΣΗ ΓΙΑ ΕΜΠΕΔΩΣΗ/ </a:t>
            </a:r>
            <a:r>
              <a:rPr b="1" lang="el-GR" sz="2400" spc="-1" strike="noStrike">
                <a:solidFill>
                  <a:srgbClr val="ffccff"/>
                </a:solidFill>
                <a:latin typeface="Comic Sans MS"/>
              </a:rPr>
              <a:t>Αυτοαξιολόγ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797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ΣΚΗΣΕΙΣ ΕΜΒΑΘΥΝΣΗΣ/ ΕΜΠΕΔΩΣΗΣ </a:t>
            </a:r>
            <a:r>
              <a:rPr b="1" lang="el-GR" sz="2400" spc="-1" strike="noStrike">
                <a:solidFill>
                  <a:srgbClr val="ffccff"/>
                </a:solidFill>
                <a:latin typeface="Comic Sans MS"/>
              </a:rPr>
              <a:t>τετράδιο εργασιώ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6021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ΔΙΑΘΕΜΑΤΙΚΗ ΠΡΟΣΕΓΓΙΣΗ –ΣΧΕΔΙΑ ΕΡΓΑΣΙΑΣ </a:t>
            </a:r>
            <a:r>
              <a:rPr b="0" lang="el-GR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"/>
              </a:rPr>
              <a:t></a:t>
            </a: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3716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ΣΥΝΟΨΗ:  ΧΑΡΤΕΣ  ΕΝΝΟΙ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20:48:21Z</dcterms:created>
  <dc:creator>*****</dc:creator>
  <dc:description/>
  <dc:language>en-US</dc:language>
  <cp:lastModifiedBy>ΠΑΥΛΟΣ</cp:lastModifiedBy>
  <dcterms:modified xsi:type="dcterms:W3CDTF">2007-06-18T07:21:42Z</dcterms:modified>
  <cp:revision>418</cp:revision>
  <dc:subject/>
  <dc:title>Διαφάνεια 1</dc:title>
</cp:coreProperties>
</file>