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023-39AD-4DDC-AA8A-D9870E2F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B70-CE7D-44CD-A959-E5D5FA82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EEE-4482-4B08-89F2-AE74E9B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629-D9F2-4387-AE1C-08E31040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7DF-48C2-4286-9EF6-7B75A40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0BB-6A3E-4C83-ACA2-E0574D0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103-AFC0-414B-B88D-3873ADC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55C-D040-4749-9D6F-F821C289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984-E564-4F9D-9A9D-DB9393D1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27D-7CD9-42F6-9CAF-079EEC9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505-126C-448C-A257-982B6B3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369-C8E4-4F18-97C7-1730CE4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EAE2-E90D-4CF5-B085-5D5F1E4A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&#931;&#933;&#925;&#916;&#917;&#931;&#917;&#921;&#931;.ppt" TargetMode="External"/><Relationship Id="rId3" Type="http://schemas.openxmlformats.org/officeDocument/2006/relationships/image" Target="../media/image3.gif"/><Relationship Id="rId4" Type="http://schemas.openxmlformats.org/officeDocument/2006/relationships/hyperlink" Target="file:///&#916;&#921;&#913;&#920;&#917;&#924;&#913;&#932;&#921;&#922;&#917;&#931;%20&#917;&#925;&#925;&#927;&#921;&#917;&#931;.ppt" TargetMode="Externa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712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125360"/>
            <a:ext cx="777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Συνάντηση για τα Νέα βιβλία στο Γυμνάσιο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29  Απριλίου 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0033cc"/>
          </a:solidFill>
          <a:ln w="76320">
            <a:solidFill>
              <a:srgbClr val="ff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1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Διαθεματικό Ενιαίο Πλαίσιο Προγράμματος Σπουδ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1844640"/>
            <a:ext cx="115236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1773360"/>
            <a:ext cx="648000" cy="15112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1700280"/>
            <a:ext cx="79200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1773360"/>
            <a:ext cx="1224000" cy="1008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2924280"/>
            <a:ext cx="1008000" cy="1366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076640"/>
            <a:ext cx="936360" cy="151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4508640"/>
            <a:ext cx="647640" cy="1296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492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4581360"/>
            <a:ext cx="2887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157720"/>
            <a:ext cx="28908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3860640"/>
            <a:ext cx="360360" cy="2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2205000"/>
            <a:ext cx="3589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2492280"/>
            <a:ext cx="28728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276640"/>
            <a:ext cx="28908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3357720"/>
            <a:ext cx="1008000" cy="10792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3357720"/>
            <a:ext cx="1368360" cy="122364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2421000"/>
            <a:ext cx="719280" cy="107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68360" y="4365360"/>
            <a:ext cx="57492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067280" y="4365720"/>
            <a:ext cx="360360" cy="576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067280" y="4581360"/>
            <a:ext cx="1728720" cy="7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35280" y="342864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1916280"/>
            <a:ext cx="108108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1699920"/>
            <a:ext cx="2016000" cy="144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907920"/>
            <a:ext cx="3485880" cy="892440"/>
          </a:xfrm>
          <a:custGeom>
            <a:avLst/>
            <a:gdLst/>
            <a:ahLst/>
            <a:rect l="l" t="t" r="r" b="b"/>
            <a:pathLst>
              <a:path w="2196" h="562">
                <a:moveTo>
                  <a:pt x="0" y="562"/>
                </a:moveTo>
                <a:cubicBezTo>
                  <a:pt x="41" y="452"/>
                  <a:pt x="60" y="331"/>
                  <a:pt x="124" y="233"/>
                </a:cubicBezTo>
                <a:cubicBezTo>
                  <a:pt x="232" y="66"/>
                  <a:pt x="363" y="18"/>
                  <a:pt x="535" y="0"/>
                </a:cubicBezTo>
                <a:cubicBezTo>
                  <a:pt x="723" y="9"/>
                  <a:pt x="816" y="1"/>
                  <a:pt x="974" y="55"/>
                </a:cubicBezTo>
                <a:cubicBezTo>
                  <a:pt x="1097" y="147"/>
                  <a:pt x="1358" y="117"/>
                  <a:pt x="1495" y="123"/>
                </a:cubicBezTo>
                <a:cubicBezTo>
                  <a:pt x="1539" y="138"/>
                  <a:pt x="1572" y="170"/>
                  <a:pt x="1619" y="178"/>
                </a:cubicBezTo>
                <a:cubicBezTo>
                  <a:pt x="1720" y="196"/>
                  <a:pt x="1821" y="208"/>
                  <a:pt x="1920" y="233"/>
                </a:cubicBezTo>
                <a:cubicBezTo>
                  <a:pt x="2062" y="330"/>
                  <a:pt x="1848" y="191"/>
                  <a:pt x="2016" y="274"/>
                </a:cubicBezTo>
                <a:cubicBezTo>
                  <a:pt x="2028" y="280"/>
                  <a:pt x="2033" y="295"/>
                  <a:pt x="2044" y="302"/>
                </a:cubicBezTo>
                <a:cubicBezTo>
                  <a:pt x="2056" y="309"/>
                  <a:pt x="2071" y="311"/>
                  <a:pt x="2085" y="315"/>
                </a:cubicBezTo>
                <a:cubicBezTo>
                  <a:pt x="2090" y="329"/>
                  <a:pt x="2092" y="344"/>
                  <a:pt x="2099" y="357"/>
                </a:cubicBezTo>
                <a:cubicBezTo>
                  <a:pt x="2115" y="386"/>
                  <a:pt x="2153" y="439"/>
                  <a:pt x="2153" y="439"/>
                </a:cubicBezTo>
                <a:cubicBezTo>
                  <a:pt x="2123" y="500"/>
                  <a:pt x="2141" y="480"/>
                  <a:pt x="2112" y="507"/>
                </a:cubicBezTo>
                <a:lnTo>
                  <a:pt x="2196" y="495"/>
                </a:ln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19280" y="220500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300640"/>
            <a:ext cx="223380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υέλικτη ζώ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04000" y="4365720"/>
            <a:ext cx="1081080" cy="934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365720"/>
            <a:ext cx="201600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005360"/>
            <a:ext cx="2449440" cy="12952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5445000"/>
            <a:ext cx="1800000" cy="716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4365720"/>
            <a:ext cx="0" cy="792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2164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Συνδέσεις  και διαθεματικές έννοι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573360"/>
            <a:ext cx="1295280" cy="83664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205000"/>
            <a:ext cx="72072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6666ff"/>
                </a:solidFill>
                <a:latin typeface="Comic Sans MS"/>
              </a:rPr>
              <a:t>Τα ΔΕΠΠΣ και ΑΠΣ στοχεύουν στην ανάπτυξη δεξιοτήτω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7336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337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.Τη δεξιότητα της επικοινωνίας (ομιλία – ακρόαση – ανάγνωση – γραφή – επιχειρηματολογία – διάλογος κλ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337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2.Τη δεξιότητα της αποτελεσματικής χρήσης των αριθμών και των μαθηματικών εννοιών στην καθημερινή ζω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337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3.Την ικανότητα χρήσης ποικίλων πηγών και εργαλείων πληροφόρησης αλλά και την προστασία του από την πληροφοριακή ρύπανσ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8748720" y="0"/>
            <a:ext cx="395280" cy="620640"/>
          </a:xfrm>
          <a:custGeom>
            <a:avLst/>
            <a:gdLst>
              <a:gd name="textAreaLeft" fmla="*/ 56880 w 395280"/>
              <a:gd name="textAreaRight" fmla="*/ 338400 w 395280"/>
              <a:gd name="textAreaTop" fmla="*/ 56880 h 620640"/>
              <a:gd name="textAreaBottom" fmla="*/ 563760 h 620640"/>
            </a:gdLst>
            <a:ahLst/>
            <a:rect l="textAreaLeft" t="textAreaTop" r="textAreaRight" b="textAreaBottom"/>
            <a:pathLst>
              <a:path w="21600" h="33904">
                <a:moveTo>
                  <a:pt x="0" y="0"/>
                </a:moveTo>
                <a:lnTo>
                  <a:pt x="21600" y="0"/>
                </a:lnTo>
                <a:lnTo>
                  <a:pt x="21600" y="33904"/>
                </a:lnTo>
                <a:lnTo>
                  <a:pt x="0" y="33904"/>
                </a:lnTo>
                <a:close/>
              </a:path>
              <a:path fill="lightenLess" w="21600" h="33904">
                <a:moveTo>
                  <a:pt x="0" y="0"/>
                </a:moveTo>
                <a:lnTo>
                  <a:pt x="21600" y="0"/>
                </a:lnTo>
                <a:lnTo>
                  <a:pt x="18477" y="3123"/>
                </a:lnTo>
                <a:lnTo>
                  <a:pt x="3123" y="3123"/>
                </a:lnTo>
                <a:close/>
              </a:path>
              <a:path fill="darken" w="21600" h="33904">
                <a:moveTo>
                  <a:pt x="21600" y="0"/>
                </a:moveTo>
                <a:lnTo>
                  <a:pt x="21600" y="33904"/>
                </a:lnTo>
                <a:lnTo>
                  <a:pt x="18477" y="30781"/>
                </a:lnTo>
                <a:lnTo>
                  <a:pt x="18477" y="3123"/>
                </a:lnTo>
                <a:close/>
              </a:path>
              <a:path fill="darkenLess" w="21600" h="33904">
                <a:moveTo>
                  <a:pt x="21600" y="33904"/>
                </a:moveTo>
                <a:lnTo>
                  <a:pt x="0" y="33904"/>
                </a:lnTo>
                <a:lnTo>
                  <a:pt x="3123" y="30781"/>
                </a:lnTo>
                <a:lnTo>
                  <a:pt x="18477" y="30781"/>
                </a:lnTo>
                <a:close/>
              </a:path>
              <a:path fill="lighten" w="21600" h="33904">
                <a:moveTo>
                  <a:pt x="0" y="33904"/>
                </a:moveTo>
                <a:lnTo>
                  <a:pt x="0" y="0"/>
                </a:lnTo>
                <a:lnTo>
                  <a:pt x="3123" y="3123"/>
                </a:lnTo>
                <a:lnTo>
                  <a:pt x="3123" y="30781"/>
                </a:lnTo>
                <a:close/>
              </a:path>
              <a:path fill="darken" w="21600" h="33904">
                <a:moveTo>
                  <a:pt x="5078" y="16952"/>
                </a:moveTo>
                <a:lnTo>
                  <a:pt x="16522" y="11230"/>
                </a:lnTo>
                <a:lnTo>
                  <a:pt x="16522" y="22674"/>
                </a:lnTo>
                <a:close/>
              </a:path>
            </a:pathLst>
          </a:custGeom>
          <a:solidFill>
            <a:srgbClr val="66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557360"/>
            <a:ext cx="867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337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4.Την ικανότητα συνεργασία με άλλα άτομα σε ομαδικές εργασίε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337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5.Τη βελτίωση της ατομικής επίδοσης, την ικανότητα  εξεύρεσης λύσεων και την κριτική αξιολόγηση της εργασίας του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337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6.Την ικανότητα επίλυσης προβλημάτων μέσα από την καλλιέργεια δεξιοτήτων, στρατηγικού σχεδιασμού, ελέγχου, ανατροφοδότησης  και διορθωτικής παρέμβα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748720" y="0"/>
            <a:ext cx="395280" cy="620640"/>
          </a:xfrm>
          <a:custGeom>
            <a:avLst/>
            <a:gdLst>
              <a:gd name="textAreaLeft" fmla="*/ 56880 w 395280"/>
              <a:gd name="textAreaRight" fmla="*/ 338400 w 395280"/>
              <a:gd name="textAreaTop" fmla="*/ 56880 h 620640"/>
              <a:gd name="textAreaBottom" fmla="*/ 563760 h 620640"/>
            </a:gdLst>
            <a:ahLst/>
            <a:rect l="textAreaLeft" t="textAreaTop" r="textAreaRight" b="textAreaBottom"/>
            <a:pathLst>
              <a:path w="21600" h="33904">
                <a:moveTo>
                  <a:pt x="0" y="0"/>
                </a:moveTo>
                <a:lnTo>
                  <a:pt x="21600" y="0"/>
                </a:lnTo>
                <a:lnTo>
                  <a:pt x="21600" y="33904"/>
                </a:lnTo>
                <a:lnTo>
                  <a:pt x="0" y="33904"/>
                </a:lnTo>
                <a:close/>
              </a:path>
              <a:path fill="lightenLess" w="21600" h="33904">
                <a:moveTo>
                  <a:pt x="0" y="0"/>
                </a:moveTo>
                <a:lnTo>
                  <a:pt x="21600" y="0"/>
                </a:lnTo>
                <a:lnTo>
                  <a:pt x="18477" y="3123"/>
                </a:lnTo>
                <a:lnTo>
                  <a:pt x="3123" y="3123"/>
                </a:lnTo>
                <a:close/>
              </a:path>
              <a:path fill="darken" w="21600" h="33904">
                <a:moveTo>
                  <a:pt x="21600" y="0"/>
                </a:moveTo>
                <a:lnTo>
                  <a:pt x="21600" y="33904"/>
                </a:lnTo>
                <a:lnTo>
                  <a:pt x="18477" y="30781"/>
                </a:lnTo>
                <a:lnTo>
                  <a:pt x="18477" y="3123"/>
                </a:lnTo>
                <a:close/>
              </a:path>
              <a:path fill="darkenLess" w="21600" h="33904">
                <a:moveTo>
                  <a:pt x="21600" y="33904"/>
                </a:moveTo>
                <a:lnTo>
                  <a:pt x="0" y="33904"/>
                </a:lnTo>
                <a:lnTo>
                  <a:pt x="3123" y="30781"/>
                </a:lnTo>
                <a:lnTo>
                  <a:pt x="18477" y="30781"/>
                </a:lnTo>
                <a:close/>
              </a:path>
              <a:path fill="lighten" w="21600" h="33904">
                <a:moveTo>
                  <a:pt x="0" y="33904"/>
                </a:moveTo>
                <a:lnTo>
                  <a:pt x="0" y="0"/>
                </a:lnTo>
                <a:lnTo>
                  <a:pt x="3123" y="3123"/>
                </a:lnTo>
                <a:lnTo>
                  <a:pt x="3123" y="30781"/>
                </a:lnTo>
                <a:close/>
              </a:path>
              <a:path fill="darken" w="21600" h="33904">
                <a:moveTo>
                  <a:pt x="5078" y="16952"/>
                </a:moveTo>
                <a:lnTo>
                  <a:pt x="16522" y="11230"/>
                </a:lnTo>
                <a:lnTo>
                  <a:pt x="16522" y="22674"/>
                </a:lnTo>
                <a:close/>
              </a:path>
            </a:pathLst>
          </a:custGeom>
          <a:solidFill>
            <a:srgbClr val="66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6666ff"/>
                </a:solidFill>
                <a:latin typeface="Comic Sans MS"/>
              </a:rPr>
              <a:t>Τα ΔΕΠΠΣ και ΑΠΣ στοχεύουν στην ανάπτυξη δεξιοτήτω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66ff"/>
                </a:solidFill>
                <a:latin typeface="Comic Sans MS"/>
              </a:rPr>
              <a:t>Τα ΔΕΠΠΣ και ΑΠΣ στοχεύουν στην ανάπτυξη δεξιοτήτων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7.Την ικανότητα ορθολογικών επιλογών (σε ατομικό και κοινωνικό επίπεδο) για την προστασία του περιβάλλον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8.Την ικανότητα διαχείρισης πόρων (φυσικών, οικονομικών, κοινωνικώ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9.Την ικανότητα αξιοποίησης γνώσεων και δεξιοτήτων για την προστασία της ατομικής και κοινωνικής υγεία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0.Την ικανότητα δημιουργικής επινόη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6666ff"/>
                </a:solidFill>
                <a:latin typeface="Comic Sans MS"/>
              </a:rPr>
              <a:t>Τα ΔΕΠΠΣ και ΑΠΣ στοχεύουν στην ανάπτυξη δεξιοτήτω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1.Αποδοχή και ευαισθησία στην τέχνη και δημιουργία τέχν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2.Αξιοποίηση γνώσεων για την διαμόρφωση προσωπικής άποψης στη λήψη  αποφάσε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3.Απόκτηση κοινωνικών δεξιοτήτ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4.Ικανότητα για κριτική επεξεργασία πληροφοριών και αξ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1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ff00"/>
                </a:solidFill>
                <a:latin typeface="Comic Sans MS"/>
              </a:rPr>
              <a:t>Δ</a:t>
            </a:r>
            <a:r>
              <a:rPr b="1" lang="el-GR" sz="5400" spc="-1" strike="noStrike">
                <a:solidFill>
                  <a:srgbClr val="bbe0e3"/>
                </a:solidFill>
                <a:latin typeface="Comic Sans MS"/>
              </a:rPr>
              <a:t>ιαθεματικό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ff00"/>
                </a:solidFill>
                <a:latin typeface="Comic Sans MS"/>
              </a:rPr>
              <a:t>Ε</a:t>
            </a:r>
            <a:r>
              <a:rPr b="1" lang="el-GR" sz="5400" spc="-1" strike="noStrike">
                <a:solidFill>
                  <a:srgbClr val="bbe0e3"/>
                </a:solidFill>
                <a:latin typeface="Comic Sans MS"/>
              </a:rPr>
              <a:t>νιαί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ff00"/>
                </a:solidFill>
                <a:latin typeface="Comic Sans MS"/>
              </a:rPr>
              <a:t>Π</a:t>
            </a:r>
            <a:r>
              <a:rPr b="1" lang="el-GR" sz="5400" spc="-1" strike="noStrike">
                <a:solidFill>
                  <a:srgbClr val="bbe0e3"/>
                </a:solidFill>
                <a:latin typeface="Comic Sans MS"/>
              </a:rPr>
              <a:t>λαίσιο</a:t>
            </a:r>
            <a:r>
              <a:rPr b="1" lang="el-G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ff00"/>
                </a:solidFill>
                <a:latin typeface="Comic Sans MS"/>
              </a:rPr>
              <a:t>Π</a:t>
            </a:r>
            <a:r>
              <a:rPr b="1" lang="el-GR" sz="5400" spc="-1" strike="noStrike">
                <a:solidFill>
                  <a:srgbClr val="bbe0e3"/>
                </a:solidFill>
                <a:latin typeface="Comic Sans MS"/>
              </a:rPr>
              <a:t>ρογράμματος</a:t>
            </a:r>
            <a:r>
              <a:rPr b="1" lang="el-GR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ff00"/>
                </a:solidFill>
                <a:latin typeface="Comic Sans MS"/>
              </a:rPr>
              <a:t>Σ</a:t>
            </a:r>
            <a:r>
              <a:rPr b="1" lang="el-GR" sz="5400" spc="-1" strike="noStrike">
                <a:solidFill>
                  <a:srgbClr val="bbe0e3"/>
                </a:solidFill>
                <a:latin typeface="Comic Sans MS"/>
              </a:rPr>
              <a:t>πουδώ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5516640"/>
            <a:ext cx="8642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Comic Sans MS"/>
              </a:rPr>
              <a:t>Διαθεματικότητα: η φιλοσοφία τους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969840"/>
            <a:ext cx="421164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Comic Sans MS"/>
              </a:rPr>
              <a:t>Α</a:t>
            </a:r>
            <a:r>
              <a:rPr b="1" lang="el-GR" sz="4800" spc="-1" strike="noStrike">
                <a:solidFill>
                  <a:srgbClr val="bbe0e3"/>
                </a:solidFill>
                <a:latin typeface="Comic Sans MS"/>
              </a:rPr>
              <a:t>ναλυτικ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Comic Sans MS"/>
              </a:rPr>
              <a:t>Π</a:t>
            </a:r>
            <a:r>
              <a:rPr b="1" lang="el-GR" sz="4800" spc="-1" strike="noStrike">
                <a:solidFill>
                  <a:srgbClr val="bbe0e3"/>
                </a:solidFill>
                <a:latin typeface="Comic Sans MS"/>
              </a:rPr>
              <a:t>ρόγραμμ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Comic Sans MS"/>
              </a:rPr>
              <a:t>Σ</a:t>
            </a:r>
            <a:r>
              <a:rPr b="1" lang="el-GR" sz="4800" spc="-1" strike="noStrike">
                <a:solidFill>
                  <a:srgbClr val="bbe0e3"/>
                </a:solidFill>
                <a:latin typeface="Comic Sans MS"/>
              </a:rPr>
              <a:t>πουδών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4653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6530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Comic Sans MS"/>
              </a:rPr>
              <a:t>(ΦΕΚ 303, 304/13-3-200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04760"/>
            <a:ext cx="82440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l-GR" sz="3200" spc="-1" strike="noStrike" baseline="30000">
                <a:solidFill>
                  <a:srgbClr val="ffff00"/>
                </a:solidFill>
                <a:latin typeface="Comic Sans MS"/>
              </a:rPr>
              <a:t>ος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- 19</a:t>
            </a:r>
            <a:r>
              <a:rPr b="1" lang="el-GR" sz="3200" spc="-1" strike="noStrike" baseline="30000">
                <a:solidFill>
                  <a:srgbClr val="ffff00"/>
                </a:solidFill>
                <a:latin typeface="Comic Sans MS"/>
              </a:rPr>
              <a:t>ος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αιώνας συγκρότηση Επιστήμης -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Επιστημονικών κλάδων (</a:t>
            </a: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discipline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Σταδιακά: συνεργασία κλάδων- 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διεπιστηµονικότητα ή δια-κλαδικότητα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interdisciplinarity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*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ργότερα: Αναπτύχθηκαν θεωρίες που διατρέχουν όλους τους κλάδους 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υπερ-κλαδικότητα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trans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disciplinarity</a:t>
            </a:r>
            <a:r>
              <a:rPr b="1" lang="el-GR" sz="3200" spc="-1" strike="noStrike">
                <a:solidFill>
                  <a:srgbClr val="ccffff"/>
                </a:solidFill>
                <a:latin typeface="Comic Sans MS"/>
              </a:rPr>
              <a:t>).</a:t>
            </a:r>
            <a:r>
              <a:rPr b="1" lang="el-GR" sz="3200" spc="-1" strike="noStrike">
                <a:solidFill>
                  <a:srgbClr val="ccffff"/>
                </a:solidFill>
                <a:latin typeface="Wingdings 2"/>
                <a:ea typeface="Wingdings 2"/>
              </a:rPr>
              <a:t>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17</a:t>
            </a:r>
            <a:r>
              <a:rPr b="1" lang="el-GR" sz="3600" spc="-1" strike="noStrike" baseline="30000">
                <a:solidFill>
                  <a:srgbClr val="ffff00"/>
                </a:solidFill>
                <a:latin typeface="Comic Sans MS"/>
              </a:rPr>
              <a:t>ος</a:t>
            </a: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 αιώνας: Επιστημονική επανάστασ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00"/>
                </a:solidFill>
                <a:latin typeface="Arial"/>
              </a:rPr>
              <a:t>Υπερκλαδικότητ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Θεωρία συστημάτων</a:t>
            </a:r>
            <a:r>
              <a:rPr b="1" lang="el-GR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Arial"/>
              </a:rPr>
              <a:t>Σύστημα: σύνολο επιμέρους τμημάτων και οι αλληλεπιδράσεις του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Arial"/>
              </a:rPr>
              <a:t>Αναδυόμενες ιδιότητες συστημάτω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Διασύνδεση των γνωστικών αντικειμένων μεταξύ του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οποίηση της γνώ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333360"/>
            <a:ext cx="8413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Διαθεματικότητα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93372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84640"/>
            <a:ext cx="2087640" cy="1295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3399"/>
                </a:solidFill>
                <a:latin typeface="Comic Sans MS"/>
              </a:rPr>
              <a:t>Γιατί;</a:t>
            </a: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789360"/>
            <a:ext cx="68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οποίηση κάνει τη γνώση να έχει νόημα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για τους μαθητέ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558972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ναδεικνύεται η αναλογία της σκέψη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920" y="189000"/>
            <a:ext cx="1871640" cy="93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3399"/>
                </a:solidFill>
                <a:latin typeface="Comic Sans MS"/>
              </a:rPr>
              <a:t>Πώς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Με τις </a:t>
            </a:r>
            <a:r>
              <a:rPr b="1" lang="el-GR" sz="4400" spc="-1" strike="noStrike">
                <a:solidFill>
                  <a:srgbClr val="ffccff"/>
                </a:solidFill>
                <a:latin typeface="Comic Sans MS"/>
              </a:rPr>
              <a:t>συνδέσεις </a:t>
            </a:r>
            <a:r>
              <a:rPr b="0" lang="el-GR" sz="4400" spc="-1" strike="noStrike" u="sng">
                <a:solidFill>
                  <a:srgbClr val="009999"/>
                </a:solidFill>
                <a:uFillTx/>
                <a:latin typeface="Wingdings 2"/>
                <a:ea typeface="Wingdings 2"/>
                <a:hlinkClick r:id="rId2"/>
              </a:rPr>
              <a:t>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με άλλα γνωστικά αντικείμενα ή άλλες περιοχές της ανθρώπινης δραστηριότητας  (πολιτισμός, τέχν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284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Με τις </a:t>
            </a:r>
            <a:r>
              <a:rPr b="1" lang="el-GR" sz="4400" spc="-1" strike="noStrike">
                <a:solidFill>
                  <a:srgbClr val="ffccff"/>
                </a:solidFill>
                <a:latin typeface="Comic Sans MS"/>
              </a:rPr>
              <a:t>διαθεματικές έννοιες</a:t>
            </a:r>
            <a:r>
              <a:rPr b="0" lang="el-GR" sz="4400" spc="-1" strike="noStrike" u="sng">
                <a:solidFill>
                  <a:srgbClr val="009999"/>
                </a:solidFill>
                <a:uFillTx/>
                <a:latin typeface="Wingdings 2"/>
                <a:ea typeface="Wingdings 2"/>
                <a:hlinkClick r:id="rId4"/>
              </a:rPr>
              <a:t></a:t>
            </a: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436572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Με τα διαθεματικά  </a:t>
            </a:r>
            <a:r>
              <a:rPr b="1" lang="el-GR" sz="4400" spc="-1" strike="noStrike">
                <a:solidFill>
                  <a:srgbClr val="ffccff"/>
                </a:solidFill>
                <a:latin typeface="Comic Sans MS"/>
              </a:rPr>
              <a:t>σχέδια εργασίας</a:t>
            </a:r>
            <a:r>
              <a:rPr b="1" lang="el-GR" sz="4000" spc="-1" strike="noStrike">
                <a:solidFill>
                  <a:srgbClr val="ffccff"/>
                </a:solidFill>
                <a:latin typeface="Comic Sans MS"/>
              </a:rPr>
              <a:t> (</a:t>
            </a:r>
            <a:r>
              <a:rPr b="1" lang="en-US" sz="4000" spc="-1" strike="noStrike">
                <a:solidFill>
                  <a:srgbClr val="ffccff"/>
                </a:solidFill>
                <a:latin typeface="Comic Sans MS"/>
              </a:rPr>
              <a:t>proje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ff"/>
                </a:solidFill>
                <a:latin typeface="Arial"/>
              </a:rPr>
              <a:t>Με την ευέλικτη ζώνη</a:t>
            </a:r>
            <a:r>
              <a:rPr b="0" lang="el-GR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Comic Sans MS"/>
              </a:rPr>
              <a:t>Εντάσσονται στη λογική των προγραμμάτων σπουδών τα οποία είναι προσανατολισμένα κυρίω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Comic Sans MS"/>
              </a:rPr>
              <a:t>Στην ανάπτυξη </a:t>
            </a:r>
            <a:r>
              <a:rPr b="1" lang="el-GR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l-GR" sz="4800" spc="-1" strike="noStrike">
                <a:solidFill>
                  <a:srgbClr val="ff3399"/>
                </a:solidFill>
                <a:latin typeface="Comic Sans MS"/>
              </a:rPr>
              <a:t>αλφαβητισμού  </a:t>
            </a:r>
            <a:r>
              <a:rPr b="1" lang="el-GR" sz="3200" spc="-1" strike="noStrike">
                <a:solidFill>
                  <a:srgbClr val="ff3399"/>
                </a:solidFill>
                <a:latin typeface="Comic Sans MS"/>
              </a:rPr>
              <a:t>(γλωσσικό, μαθηματικό, επιστημονικ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Comic Sans MS"/>
              </a:rPr>
              <a:t>Στην ανάπτυξη </a:t>
            </a:r>
            <a:r>
              <a:rPr b="1" lang="el-GR" sz="4800" spc="-1" strike="noStrike">
                <a:solidFill>
                  <a:srgbClr val="ff3399"/>
                </a:solidFill>
                <a:latin typeface="Comic Sans MS"/>
              </a:rPr>
              <a:t>δεξιοτήτων</a:t>
            </a:r>
            <a:r>
              <a:rPr b="1" lang="el-GR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04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ff"/>
                </a:solidFill>
                <a:latin typeface="Comic Sans MS"/>
              </a:rPr>
              <a:t>Το ΔΕΠΠΣ και τα ΑΠ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404640"/>
            <a:ext cx="835344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3399"/>
                </a:solidFill>
                <a:latin typeface="Comic Sans MS"/>
              </a:rPr>
              <a:t>Ομαδοποιημένοι στόχοι των ΑΠ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Γνώση και Μεθοδολογί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66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Συνεργασία και Επικοινωνία. </a:t>
            </a: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(Στο πλαίσιο των συμμετοχικών / βιωματικών μεθοδολογικών προσεγγίσεω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Δεξιότητες που συνδέουν την Επιστήμη και την Τέχνη με την ανθρώπινη δραστηριότητα.</a:t>
            </a:r>
            <a:r>
              <a:rPr b="1" lang="el-GR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03640" y="4724280"/>
            <a:ext cx="1568520" cy="167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1481040" cy="133992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8748720" y="0"/>
            <a:ext cx="395280" cy="620640"/>
          </a:xfrm>
          <a:custGeom>
            <a:avLst/>
            <a:gdLst>
              <a:gd name="textAreaLeft" fmla="*/ 56880 w 395280"/>
              <a:gd name="textAreaRight" fmla="*/ 338400 w 395280"/>
              <a:gd name="textAreaTop" fmla="*/ 56880 h 620640"/>
              <a:gd name="textAreaBottom" fmla="*/ 563760 h 620640"/>
            </a:gdLst>
            <a:ahLst/>
            <a:rect l="textAreaLeft" t="textAreaTop" r="textAreaRight" b="textAreaBottom"/>
            <a:pathLst>
              <a:path w="21600" h="33904">
                <a:moveTo>
                  <a:pt x="0" y="0"/>
                </a:moveTo>
                <a:lnTo>
                  <a:pt x="21600" y="0"/>
                </a:lnTo>
                <a:lnTo>
                  <a:pt x="21600" y="33904"/>
                </a:lnTo>
                <a:lnTo>
                  <a:pt x="0" y="33904"/>
                </a:lnTo>
                <a:close/>
              </a:path>
              <a:path fill="lightenLess" w="21600" h="33904">
                <a:moveTo>
                  <a:pt x="0" y="0"/>
                </a:moveTo>
                <a:lnTo>
                  <a:pt x="21600" y="0"/>
                </a:lnTo>
                <a:lnTo>
                  <a:pt x="18477" y="3123"/>
                </a:lnTo>
                <a:lnTo>
                  <a:pt x="3123" y="3123"/>
                </a:lnTo>
                <a:close/>
              </a:path>
              <a:path fill="darken" w="21600" h="33904">
                <a:moveTo>
                  <a:pt x="21600" y="0"/>
                </a:moveTo>
                <a:lnTo>
                  <a:pt x="21600" y="33904"/>
                </a:lnTo>
                <a:lnTo>
                  <a:pt x="18477" y="30781"/>
                </a:lnTo>
                <a:lnTo>
                  <a:pt x="18477" y="3123"/>
                </a:lnTo>
                <a:close/>
              </a:path>
              <a:path fill="darkenLess" w="21600" h="33904">
                <a:moveTo>
                  <a:pt x="21600" y="33904"/>
                </a:moveTo>
                <a:lnTo>
                  <a:pt x="0" y="33904"/>
                </a:lnTo>
                <a:lnTo>
                  <a:pt x="3123" y="30781"/>
                </a:lnTo>
                <a:lnTo>
                  <a:pt x="18477" y="30781"/>
                </a:lnTo>
                <a:close/>
              </a:path>
              <a:path fill="lighten" w="21600" h="33904">
                <a:moveTo>
                  <a:pt x="0" y="33904"/>
                </a:moveTo>
                <a:lnTo>
                  <a:pt x="0" y="0"/>
                </a:lnTo>
                <a:lnTo>
                  <a:pt x="3123" y="3123"/>
                </a:lnTo>
                <a:lnTo>
                  <a:pt x="3123" y="30781"/>
                </a:lnTo>
                <a:close/>
              </a:path>
              <a:path fill="darken" w="21600" h="33904">
                <a:moveTo>
                  <a:pt x="5078" y="16952"/>
                </a:moveTo>
                <a:lnTo>
                  <a:pt x="16522" y="11230"/>
                </a:lnTo>
                <a:lnTo>
                  <a:pt x="16522" y="22674"/>
                </a:lnTo>
                <a:close/>
              </a:path>
            </a:pathLst>
          </a:custGeom>
          <a:solidFill>
            <a:srgbClr val="66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836640"/>
            <a:ext cx="9144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 u="sng">
                <a:solidFill>
                  <a:srgbClr val="ffff00"/>
                </a:solidFill>
                <a:uFillTx/>
                <a:latin typeface="Comic Sans MS"/>
              </a:rPr>
              <a:t>Σε κάθε ΑΠΣ υπάρχουν 3 άξονε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Γνωστικού περιεχομέν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Γενικοί στόχο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Ενδεικτικές Θεμελιώδεις έννοιες Διαθεματικής προσέγγι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25:15Z</dcterms:created>
  <dc:creator>*****</dc:creator>
  <dc:description/>
  <dc:language>en-US</dc:language>
  <cp:lastModifiedBy>Αγγελική</cp:lastModifiedBy>
  <dcterms:modified xsi:type="dcterms:W3CDTF">2007-06-17T18:41:24Z</dcterms:modified>
  <cp:revision>99</cp:revision>
  <dc:subject/>
  <dc:title>Διαφάνεια 1</dc:title>
</cp:coreProperties>
</file>