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374-ADF9-4A27-83D8-9950A69A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7252-34C9-4667-A635-E3379B8B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076-96EC-4B91-8327-3B238925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290-D22E-4D9E-B0ED-E2867D19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2FC6-0441-486B-B3C6-B5603ADC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8E84-28F3-493B-A3DE-65B1D4F4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C4BA-50A9-48B8-9A46-3B520250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3DE5-268C-4518-94E3-29A58201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98E8-080C-48F5-9690-E9E4E87D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4CFC-5835-4AE9-B36E-3EA833D4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5BDC-48E2-40D3-98DB-F12EE474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DD8-61AA-46C3-9CCC-45081976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7DE0-9674-4DE3-B7AF-26C77D4C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B647-6642-41E7-9F61-1441B341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016F-611C-4A71-AA4D-AFC406DC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46B7-41AC-415B-A59A-1CA2BB73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E8B2-845C-4E82-A04E-F90FBA13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DE02-DD9E-41B4-ADB0-5903743D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1C5-C82D-48F8-ABA9-D392F2D0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EDD-2032-4616-B462-B070C52E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DA10-C122-4765-9530-EF0BD861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F35-E82E-434F-ADF3-A473246E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9C3-AD3B-4ED8-A562-8825C6CD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27F-BCA4-4C0A-A7E6-9293E181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DA9-1751-4414-ABB9-975AFD33B25F}" type="slidenum">
              <a:rPr b="1" lang="el-G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0C77-AB35-404A-960A-86F1F0C40685}" type="slidenum">
              <a:rPr b="0" lang="el-GR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mavoglou@sch.gr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gymitbook.blogspot.com/" TargetMode="External"/><Relationship Id="rId3" Type="http://schemas.openxmlformats.org/officeDocument/2006/relationships/hyperlink" Target="http://www.gymit.gr/" TargetMode="External"/><Relationship Id="rId4" Type="http://schemas.openxmlformats.org/officeDocument/2006/relationships/hyperlink" Target="mailto:mavoglou@sch.gr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Ταχύρρυθμα επιμορφωτικά προγράμματα των εκπαιδευτικών υποχρεωτικής εκπαίδευσης στα νέα διδακτικά πακέτα</a:t>
            </a:r>
            <a:r>
              <a:rPr b="0" lang="el-GR" sz="40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8000" y="3357360"/>
            <a:ext cx="8077320" cy="63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284c6a"/>
                </a:solidFill>
                <a:latin typeface="Trebuchet MS"/>
              </a:rPr>
              <a:t>ΠΛΗΡΟΦΟΡΙΚΗ ΓΥΜΝΑΣΙΟΥ, ΠΙ 2007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5877000"/>
            <a:ext cx="669780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ccccff"/>
                </a:solidFill>
                <a:latin typeface="Arial"/>
              </a:rPr>
              <a:t>ΔΙΑΦΑΝΕΙΕΣ: ΜΑΒΟΓΛΟΥ ΧΡΙΣΤΟΣ, ΠΕ19,</a:t>
            </a:r>
            <a:r>
              <a:rPr b="0" lang="el-GR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mavoglou@sch.g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07664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. ΑΡΑΠΟΓΛΟΥ, Χ. ΜΑΒΟΓΛΟΥ, Η. ΟΙΚΟΝΟΜΑΚΟΣ, Κ. ΦΥΤΡΟ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0920" y="2565000"/>
            <a:ext cx="74898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Διαθεματική προσέγγιση του όρου: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284c6a"/>
                </a:solidFill>
                <a:latin typeface="Trebuchet MS"/>
              </a:rPr>
              <a:t>«Ψηφιακός»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1197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6600"/>
                </a:solidFill>
                <a:latin typeface="Arial"/>
              </a:rPr>
              <a:t>ΘΕΜΑ ΠΑΡΟΥΣΙΑΣΗ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59280" y="2852640"/>
            <a:ext cx="32414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ακό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εχν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627280" y="2060280"/>
            <a:ext cx="1224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000" y="1268280"/>
            <a:ext cx="2447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ήφ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Ιστορ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508720" y="2205000"/>
            <a:ext cx="79200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1125360"/>
            <a:ext cx="1943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ίο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Γλωσσ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700360" y="3357720"/>
            <a:ext cx="122400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4581360"/>
            <a:ext cx="18720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δωτ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έχνη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3429000"/>
            <a:ext cx="86508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4365720"/>
            <a:ext cx="252072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Σήματα Μορ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Επιστήμη των Επικοινωνιώ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59280" y="2852640"/>
            <a:ext cx="32414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ακό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εχν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700000" y="1268280"/>
            <a:ext cx="1150920" cy="165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51640" y="1413000"/>
            <a:ext cx="2447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ήφ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Ιστορ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508720" y="2492280"/>
            <a:ext cx="35856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549360"/>
            <a:ext cx="19429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ίο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Γλωσσ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700360" y="3357720"/>
            <a:ext cx="122400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4581360"/>
            <a:ext cx="18720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δωτ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έχνη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3429000"/>
            <a:ext cx="86508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4365720"/>
            <a:ext cx="252072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Σήματα Μορ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Επιστήμη των Επικοινωνιώ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155736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τραδάκι, μικρό χαλίκ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α αγγλικά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ημαίνει δαχτυλικό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οι δύο λέξεις παραπέμπουν σε συστήματα αρίθμηση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59280" y="2852640"/>
            <a:ext cx="32414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ακό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εχν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627280" y="2060280"/>
            <a:ext cx="1224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1268280"/>
            <a:ext cx="2447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ήφ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Ιστορ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508720" y="2205000"/>
            <a:ext cx="79200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76360" y="1125360"/>
            <a:ext cx="1943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ίο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Γλωσσ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360" y="3357720"/>
            <a:ext cx="122400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4581360"/>
            <a:ext cx="187200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δωτ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έχνη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3429000"/>
            <a:ext cx="86508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72360" y="4365720"/>
            <a:ext cx="252072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Σήματα Μορ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Επιστήμη των Επικοινωνιώ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2205000"/>
            <a:ext cx="25923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ι Αθηναίοι στην Αρχαία Ελλάδα ψήφιζαν με άσπρα ή μαύρα πετραδάκια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ετραδάκια που είχαν ένα από δύο χρώματ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59280" y="2852640"/>
            <a:ext cx="32414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ακό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εχν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627280" y="2060280"/>
            <a:ext cx="1224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1268280"/>
            <a:ext cx="2447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ήφ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Ιστορ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508720" y="2205000"/>
            <a:ext cx="79200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1125360"/>
            <a:ext cx="1943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ίο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Γλωσσ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916360" y="3357720"/>
            <a:ext cx="100800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16000" y="3213000"/>
            <a:ext cx="1871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δωτ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έχνη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35640" y="3429000"/>
            <a:ext cx="86508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4365720"/>
            <a:ext cx="252072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Σήματα Μορ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Επιστήμη των Επικοινωνιώ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4221000"/>
            <a:ext cx="288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Ψηφιδωτό είναι ένα έργο τέχνης που έχει κατασκευαστεί από μικρά πετραδάκια, που το καθένα από αυτά έχει ένα μοναδικό χρώμ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59280" y="2852640"/>
            <a:ext cx="32414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ακό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εχν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627280" y="2060280"/>
            <a:ext cx="1224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268280"/>
            <a:ext cx="2447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ήφ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Ιστορ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508720" y="2205000"/>
            <a:ext cx="79200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1125360"/>
            <a:ext cx="1943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ίο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Γλωσσ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203640" y="3357720"/>
            <a:ext cx="72072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76360" y="3860640"/>
            <a:ext cx="1871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δωτ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έχνη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35640" y="3429000"/>
            <a:ext cx="93672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3141720"/>
            <a:ext cx="252108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Σήματα Μορ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Επιστήμη των Επικοινωνιώ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292640"/>
            <a:ext cx="309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 σήματα Μορς χρησιμοποιούν τις αρχές της ψηφιακής τεχνολογίας, δηλαδή μεταφορά μηνυμάτων με τη χρήση δύο διαφορετικών συμβόλων: της τελείας και της παύλας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59280" y="2852640"/>
            <a:ext cx="32414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ακό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εχν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2627280" y="2060280"/>
            <a:ext cx="1224000" cy="86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1268280"/>
            <a:ext cx="2447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ήφο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Ιστορ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508720" y="2205000"/>
            <a:ext cx="79200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6360" y="1125360"/>
            <a:ext cx="1943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ίο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Γλωσσολογί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563640" y="3357720"/>
            <a:ext cx="360360" cy="35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573360"/>
            <a:ext cx="187164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δωτ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Τέχνη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35640" y="3429000"/>
            <a:ext cx="86508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72360" y="4365720"/>
            <a:ext cx="252072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Σήματα Μορ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Επιστήμη των Επικοινωνιών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16000" y="5373720"/>
            <a:ext cx="3456000" cy="12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3366"/>
                </a:solidFill>
                <a:latin typeface="Arial"/>
              </a:rPr>
              <a:t>Ψηφιακή Εικόν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cc0000"/>
                </a:solidFill>
                <a:latin typeface="Arial"/>
              </a:rPr>
              <a:t>Τι σχέση έχει με ένα ψηφιδωτό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4508640"/>
            <a:ext cx="71280" cy="93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006600"/>
                </a:solidFill>
                <a:uFillTx/>
                <a:latin typeface="Trebuchet MS"/>
              </a:rPr>
              <a:t>Επέκταση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077320" cy="1595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Blog: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gymitbook.blogspot.com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ff33"/>
                </a:solidFill>
                <a:latin typeface="Trebuchet MS"/>
              </a:rPr>
              <a:t>Λειτουργεί…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3500280"/>
            <a:ext cx="8077320" cy="180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ccff33"/>
                </a:solidFill>
                <a:latin typeface="Trebuchet MS"/>
              </a:rPr>
              <a:t>Ιστότοπος υποστήριξης του βιβλίου Πληροφορικής Γυμνασίου</a:t>
            </a:r>
            <a:r>
              <a:rPr b="1" lang="en-US" sz="2000" spc="-1" strike="noStrike">
                <a:solidFill>
                  <a:srgbClr val="ccff33"/>
                </a:solidFill>
                <a:latin typeface="Trebuchet MS"/>
              </a:rPr>
              <a:t>:</a:t>
            </a:r>
            <a:r>
              <a:rPr b="1" lang="en-US" sz="32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gymit.g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ccff33"/>
                </a:solidFill>
                <a:uFillTx/>
                <a:latin typeface="Trebuchet MS"/>
              </a:rPr>
              <a:t>Θα ξεκινήσει η λειτουργία της μέχρι την 1-9-200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5805360"/>
            <a:ext cx="4969080" cy="368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ccccff"/>
                </a:solidFill>
                <a:latin typeface="Arial"/>
              </a:rPr>
              <a:t>Χρίστος Μαβόγλου, ΠΕ19,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mavoglou@sch.g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20:24:09Z</dcterms:created>
  <dc:creator>User</dc:creator>
  <dc:description/>
  <cp:keywords/>
  <dc:language>en-US</dc:language>
  <cp:lastModifiedBy>User</cp:lastModifiedBy>
  <dcterms:modified xsi:type="dcterms:W3CDTF">2007-07-02T07:51:21Z</dcterms:modified>
  <cp:revision>24</cp:revision>
  <dc:subject/>
  <dc:title>Εκπαιδευτική παρουσίασ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32</vt:lpwstr>
  </property>
</Properties>
</file>