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EC0F-5E9E-4427-94DA-11A5B3CF1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7046-82DC-4926-89DF-B46CC670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1592-43B9-4909-A4C7-72764FE0E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8B69-543B-46E9-95E5-DCC1293E9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3D4E-8675-4AD9-850E-5355D54CA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9E44-4E5C-4510-BFEE-EFA18709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2916-F888-4122-9687-35168784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27D1-9A8B-4193-B92D-EAC31073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3D72-CC7D-4E4C-A3AC-CE059471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C4C4-B795-4682-AE5C-0469559A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8B0C-7F3B-46E3-A4E0-00348285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F8CD-7148-43BE-8181-B6A73A58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432E-9450-42B2-8D15-43F416DE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195D-AC25-4A5F-9F60-3C0AFC8E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E282-311D-4D3E-9027-3CD78D3B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B1C5-EDC6-48E2-AB60-B343B10E9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5688-E171-43EC-95FD-C511E00DD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DF85-8E32-4DB7-8061-213B65AE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768C-DCA6-43B8-B28C-CD791A33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E3F1-3711-4DC9-BBE9-6972D91B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2DA5-90C6-4EAA-8315-CC632205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74EA-4943-4ADD-8342-87409152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91B4-169D-4006-B689-CCF31690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FA0C-1BED-41DB-9EC8-9E4BAA31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ADF4-99A4-430A-A047-F94B27F977AB}" type="slidenum">
              <a:rPr b="1" lang="el-G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6E8C-07CA-40CC-ACD3-2A7608C40568}" type="slidenum">
              <a:rPr b="0" lang="el-GR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mavoglou@sch.gr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10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gymitbook.blogspot.com/" TargetMode="External"/><Relationship Id="rId3" Type="http://schemas.openxmlformats.org/officeDocument/2006/relationships/hyperlink" Target="http://www.gymit.gr/" TargetMode="External"/><Relationship Id="rId4" Type="http://schemas.openxmlformats.org/officeDocument/2006/relationships/hyperlink" Target="mailto:mavoglou@sch.gr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10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84c6a"/>
                </a:solidFill>
                <a:latin typeface="Trebuchet MS"/>
              </a:rPr>
              <a:t>Ταχύρρυθμα επιμορφωτικά προγράμματα των εκπαιδευτικών υποχρεωτικής εκπαίδευσης στα νέα διδακτικά πακέτα</a:t>
            </a:r>
            <a:r>
              <a:rPr b="0" lang="el-GR" sz="4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68000" y="3357360"/>
            <a:ext cx="8077320" cy="63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284c6a"/>
                </a:solidFill>
                <a:latin typeface="Trebuchet MS"/>
              </a:rPr>
              <a:t>ΠΛΗΡΟΦΟΡΙΚΗ ΓΥΜΝΑΣΙΟΥ, ΠΙ 2007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4" name=""/>
          <p:cNvSpPr/>
          <p:nvPr/>
        </p:nvSpPr>
        <p:spPr>
          <a:xfrm>
            <a:off x="1042920" y="5877000"/>
            <a:ext cx="6697800" cy="3682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ccccff"/>
                </a:solidFill>
                <a:latin typeface="Arial"/>
              </a:rPr>
              <a:t>ΔΙΑΦΑΝΕΙΕΣ: ΜΑΒΟΓΛΟΥ ΧΡΙΣΤΟΣ, ΠΕ19</a:t>
            </a:r>
            <a:r>
              <a:rPr b="0" lang="el-GR" sz="18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mavoglou@sch.g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407664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. ΑΡΑΠΟΓΛΟΥ, Χ. ΜΑΒΟΓΛΟΥ, Η. ΟΙΚΟΝΟΜΑΚΟΣ, Κ. ΦΥΤΡΟ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84c6a"/>
                </a:solidFill>
                <a:latin typeface="Trebuchet MS"/>
              </a:rPr>
              <a:t>Ο κώδικας για την κάθε διαδικασία: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39640" y="765000"/>
            <a:ext cx="792360" cy="690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55640" y="2060640"/>
            <a:ext cx="863640" cy="7887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405080" y="1052640"/>
            <a:ext cx="13665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405080" y="1628640"/>
            <a:ext cx="13665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2844720" y="1123920"/>
            <a:ext cx="666720" cy="1224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044720" y="14842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60720" y="2349360"/>
            <a:ext cx="71928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3852720" y="2131920"/>
            <a:ext cx="673200" cy="3673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5148360" y="2205000"/>
            <a:ext cx="976320" cy="3673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429080" y="3645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6948360" y="2565360"/>
            <a:ext cx="1908360" cy="1897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156360" y="3573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357720"/>
            <a:ext cx="316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ια τετράγων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πανάλαβε 4[μπ 30 δε 9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έλο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3284640"/>
            <a:ext cx="273852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ια μαύρο_τετράγων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ετράγων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τ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ε 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π 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έμισ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ι 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ρ 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έλο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3284640"/>
            <a:ext cx="2881440" cy="287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ια τούβλ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αύρο_τετράγων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π 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ετράγων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π 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έλο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3357720"/>
            <a:ext cx="2881440" cy="245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ια στήλ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πανάλαβε 4[τούβλο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έλο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3284640"/>
            <a:ext cx="2735280" cy="328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ια διπλή_στήλ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τήλ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ε 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π 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ε 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τήλ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ε 1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έλο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3357720"/>
            <a:ext cx="2664000" cy="314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ια σκακιέρ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πανάλαβε 4[διπλή_στήλη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έλο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284c6a"/>
                </a:solidFill>
                <a:latin typeface="Trebuchet MS"/>
              </a:rPr>
              <a:t>Συμπεράσματα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84c6a"/>
                </a:solidFill>
                <a:latin typeface="Trebuchet MS"/>
              </a:rPr>
              <a:t>Αρχές τμηματικού προγραμματισμού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84c6a"/>
                </a:solidFill>
                <a:latin typeface="Trebuchet MS"/>
              </a:rPr>
              <a:t>Επέκταση του παραδείγματος και με άλλες μεταφορές από την καθημερινότητα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4920" y="1197000"/>
            <a:ext cx="8077320" cy="1595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Blog: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http://gymitbook.blogspot.com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ccff33"/>
                </a:solidFill>
                <a:latin typeface="Trebuchet MS"/>
              </a:rPr>
              <a:t>Λειτουργεί…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3500280"/>
            <a:ext cx="8077320" cy="180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ccff33"/>
                </a:solidFill>
                <a:latin typeface="Trebuchet MS"/>
              </a:rPr>
              <a:t>Ιστότοπος υποστήριξης του βιβλίου Πληροφορικής Γυμνασίου</a:t>
            </a:r>
            <a:r>
              <a:rPr b="1" lang="en-US" sz="2000" spc="-1" strike="noStrike">
                <a:solidFill>
                  <a:srgbClr val="ccff33"/>
                </a:solidFill>
                <a:latin typeface="Trebuchet MS"/>
              </a:rPr>
              <a:t>: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http://www.gymit.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ccff33"/>
                </a:solidFill>
                <a:uFillTx/>
                <a:latin typeface="Trebuchet MS"/>
              </a:rPr>
              <a:t>Θα ξεκινήσει η λειτουργία της μέχρι την 1-9-200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48000" y="5805360"/>
            <a:ext cx="4969080" cy="3682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ccccff"/>
                </a:solidFill>
                <a:latin typeface="Arial"/>
              </a:rPr>
              <a:t>Χρίστος Μαβόγλου, ΠΕ19,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mavoglou@sch.gr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1720" y="857160"/>
            <a:ext cx="80028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l-GR" sz="44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489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84c6a"/>
                </a:solidFill>
                <a:latin typeface="Trebuchet MS"/>
              </a:rPr>
              <a:t>ΔΙΔΑΚΤΙΚΗ ΠΡΟΣΕΓΓΙΣΗ ΤΟΥ ΤΜΗΜΑΤΙΚΟΥ ΠΡΟΓΡΑΜΜΑΤΙΣΜΟΥ: ΚΕΦΑΛΑΙΟ 2, Γ΄ ΓΥΜΝΑΣΙΟΥ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 algn="ctr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284c6a"/>
                </a:solidFill>
                <a:latin typeface="Trebuchet MS"/>
              </a:rPr>
              <a:t>ΔΡΑΣΤΗΡΙΟΤΗΤΑ 8: Σχεδιάστε μια σκακιέρα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284c6a"/>
                </a:solidFill>
                <a:uFillTx/>
                <a:latin typeface="Trebuchet MS"/>
              </a:rPr>
              <a:t>Προαπαιτούμενες γνώσεις</a:t>
            </a:r>
            <a:r>
              <a:rPr b="0" lang="el-GR" sz="2800" spc="-1" strike="noStrike">
                <a:solidFill>
                  <a:srgbClr val="284c6a"/>
                </a:solidFill>
                <a:latin typeface="Trebuchet MS"/>
              </a:rPr>
              <a:t>: μπ, πι, δε, αρ, επανάλαβε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284c6a"/>
                </a:solidFill>
                <a:uFillTx/>
                <a:latin typeface="Trebuchet MS"/>
              </a:rPr>
              <a:t>Νέα εντολή</a:t>
            </a:r>
            <a:r>
              <a:rPr b="0" lang="el-GR" sz="2800" spc="-1" strike="noStrike">
                <a:solidFill>
                  <a:srgbClr val="284c6a"/>
                </a:solidFill>
                <a:latin typeface="Trebuchet MS"/>
              </a:rPr>
              <a:t>: γέμισε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8" name=""/>
          <p:cNvSpPr/>
          <p:nvPr/>
        </p:nvSpPr>
        <p:spPr>
          <a:xfrm>
            <a:off x="2050920" y="54936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6600"/>
                </a:solidFill>
                <a:latin typeface="Arial"/>
              </a:rPr>
              <a:t>ΘΕΜΑ ΠΑΡΟΥΣΙΑΣΗ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284c6a"/>
                </a:solidFill>
                <a:latin typeface="Trebuchet MS"/>
              </a:rPr>
              <a:t>Η ΣΚΑΚΙΕΡΑ 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195640" y="1630440"/>
            <a:ext cx="4624200" cy="45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284c6a"/>
                </a:solidFill>
                <a:latin typeface="Trebuchet MS"/>
              </a:rPr>
              <a:t>Από τι αποτελείται η σκακιέρα;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773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84c6a"/>
                </a:solidFill>
                <a:latin typeface="Trebuchet MS"/>
              </a:rPr>
              <a:t>Τετράγωνα…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2852640"/>
            <a:ext cx="80769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84c6a"/>
                </a:solidFill>
                <a:latin typeface="Trebuchet MS"/>
              </a:rPr>
              <a:t>Τι είδους τετράγωνα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3645000"/>
            <a:ext cx="80769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marL="164520" indent="-164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84c6a"/>
                </a:solidFill>
                <a:latin typeface="Trebuchet MS"/>
              </a:rPr>
              <a:t>Λευκά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-164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84c6a"/>
                </a:solidFill>
                <a:latin typeface="Trebuchet MS"/>
              </a:rPr>
              <a:t>Μαύρα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771640" y="3789360"/>
            <a:ext cx="792360" cy="690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987640" y="4581360"/>
            <a:ext cx="863640" cy="7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84c6a"/>
                </a:solidFill>
                <a:latin typeface="Trebuchet MS"/>
              </a:rPr>
              <a:t>Ποιο είναι το δομικό στοιχείο που κατασκευάζεται μια σκακιέρα;</a:t>
            </a:r>
            <a:br>
              <a:rPr sz="4000"/>
            </a:br>
            <a:r>
              <a:rPr b="0" lang="el-GR" sz="2400" spc="-1" strike="noStrike">
                <a:solidFill>
                  <a:srgbClr val="284c6a"/>
                </a:solidFill>
                <a:latin typeface="Trebuchet MS"/>
              </a:rPr>
              <a:t>Μπορούμε να κατασκευάσουμε ένα τούβλο ώστε να μπορούμε να χτίσουμε μια σκακιέρα;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2565360"/>
            <a:ext cx="8077320" cy="38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84c6a"/>
                </a:solidFill>
                <a:latin typeface="Trebuchet MS"/>
              </a:rPr>
              <a:t>Πιθανές απαντήσεις: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484360" y="3573360"/>
            <a:ext cx="666720" cy="1224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363920" y="3780000"/>
            <a:ext cx="122400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284c6a"/>
                </a:solidFill>
                <a:latin typeface="Trebuchet MS"/>
              </a:rPr>
              <a:t>Υπάρχει ένα πιο πολύπλοκο σχήμα που φτιάχνεται από το τούβλο μας και επαναλαμβάνεται;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807732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84c6a"/>
                </a:solidFill>
                <a:latin typeface="Trebuchet MS"/>
              </a:rPr>
              <a:t>Πιθανές απαντήσεις: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340000" y="2924280"/>
            <a:ext cx="673200" cy="3673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148360" y="3573360"/>
            <a:ext cx="147456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284c6a"/>
                </a:solidFill>
                <a:latin typeface="Trebuchet MS"/>
              </a:rPr>
              <a:t>Αν επιλέξουμε τη στήλη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84c6a"/>
                </a:solidFill>
                <a:latin typeface="Trebuchet MS"/>
              </a:rPr>
              <a:t>Το αμέσως επόμενο πολύπλοκο σχήμα που δημιουργείται στη σκακιέρα: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804000" y="2708280"/>
            <a:ext cx="97632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284c6a"/>
                </a:solidFill>
                <a:latin typeface="Trebuchet MS"/>
              </a:rPr>
              <a:t>Στη συνέχεια με μια απλή επανάληψη κατασκευάζεται η σκακιέρα.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1916280"/>
            <a:ext cx="7417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Για σκακιέρ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επανάλαβε 4[διπλή_στήλη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τέλο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284720" y="1989000"/>
            <a:ext cx="4624200" cy="459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84c6a"/>
                </a:solidFill>
                <a:latin typeface="Trebuchet MS"/>
              </a:rPr>
              <a:t>Στη συνέχεια καταγράφεται η πορεία: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792000" cy="690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826920" y="2852640"/>
            <a:ext cx="863640" cy="789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476360" y="1844640"/>
            <a:ext cx="1366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476360" y="2421000"/>
            <a:ext cx="1366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916360" y="1916280"/>
            <a:ext cx="666720" cy="1223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116000" y="227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32000" y="3141720"/>
            <a:ext cx="71928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3924360" y="2924280"/>
            <a:ext cx="673200" cy="367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5219640" y="2997360"/>
            <a:ext cx="976320" cy="3673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500720" y="44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7020000" y="3357720"/>
            <a:ext cx="1908000" cy="1896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22764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1T20:24:09Z</dcterms:created>
  <dc:creator>User</dc:creator>
  <dc:description/>
  <cp:keywords/>
  <dc:language>en-US</dc:language>
  <cp:lastModifiedBy>User</cp:lastModifiedBy>
  <dcterms:modified xsi:type="dcterms:W3CDTF">2007-07-02T07:51:32Z</dcterms:modified>
  <cp:revision>19</cp:revision>
  <dc:subject/>
  <dc:title>Εκπαιδευτική παρουσίαση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2561681032</vt:lpwstr>
  </property>
</Properties>
</file>