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A461-211B-4ED2-A547-2A6CE8D4D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638B-C3F0-4CD0-AA70-1425A9133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F768-0E81-4A80-95AD-37CB8FBEE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CDC5-EC46-4B4F-883F-F71317F0B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88D93-3DE1-4817-BE7F-A4D2D2AD9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E1A42-42D8-4341-8B69-621FF6155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BA168-EB38-4E16-A13C-58EF4DFA0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43DB9-539F-4574-925D-A9398FEBA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764F5-9BB7-4925-8F74-7B4FD7294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2157E-25CA-4B70-AB9B-4B6CD784F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9B2AC-665D-44F1-B96A-3ABA167F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4D37-221D-4B35-AD7B-8CB29F4CE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A6AD5-D902-4BDE-90E0-6F4691F2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08474-3D31-4EDA-B567-CE10561D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7BD55-EAF4-495F-87AB-FC401B1F0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7FB28-21A0-41DB-AEDE-2232F18B5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87B84-A2DE-4190-B2DA-2968EA6A1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73C9-9D0C-4BF8-9033-C589C88C5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C75A-2A5F-4087-972E-9C93E563C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B5FE-DB97-4CC5-80EB-D70391473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DBFC-450D-46C3-A511-DF7A4B991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1813-2519-4372-B1AC-37412830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F833-7F37-46CF-8055-29C2AC2B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2AFD-4597-4359-8E33-805653A3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6F4AC-89C5-410C-A63E-097B6849AD15}" type="slidenum">
              <a:rPr b="0" lang="el-GR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605D2-1187-4AAD-8DCA-379ACC3CF2B5}" type="slidenum">
              <a:rPr b="0" lang="el-GR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838080" y="327672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0458c"/>
                </a:solidFill>
                <a:latin typeface="Tahoma"/>
              </a:rPr>
              <a:t>Διαδικασία Υλοποίησης Προγραμμάτων Επιμόρφωσης από τις ΕΕ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04920" y="838080"/>
            <a:ext cx="8458200" cy="69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buClr>
                <a:srgbClr val="ffcc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l-GR" sz="2800" spc="-1" strike="noStrike">
                <a:solidFill>
                  <a:srgbClr val="000066"/>
                </a:solidFill>
                <a:latin typeface="Tahoma"/>
              </a:rPr>
              <a:t>Επισκέπτεται (χωρίς προειδοποίηση) τα ΚΣΕ κατά τις ώρες λειτουργίας τους και συμπληρώνει το έντυπο «</a:t>
            </a:r>
            <a:r>
              <a:rPr b="1" i="1" lang="el-GR" sz="2800" spc="-1" strike="noStrike">
                <a:solidFill>
                  <a:srgbClr val="000066"/>
                </a:solidFill>
                <a:latin typeface="Tahoma"/>
              </a:rPr>
              <a:t>φύλλο επίσκεψης μέλους Ε.Ε. σε ΚΣΕ</a:t>
            </a:r>
            <a:r>
              <a:rPr b="0" lang="el-GR" sz="2800" spc="-1" strike="noStrike">
                <a:solidFill>
                  <a:srgbClr val="000066"/>
                </a:solidFill>
                <a:latin typeface="Tahoma"/>
              </a:rPr>
              <a:t>»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el-GR" sz="2800" spc="-1" strike="noStrike">
                <a:solidFill>
                  <a:srgbClr val="40458c"/>
                </a:solidFill>
                <a:latin typeface="Tahoma"/>
              </a:rPr>
              <a:t>Μετά τη λήξη της επιμορφωτικής περιόδου</a:t>
            </a:r>
            <a:r>
              <a:rPr b="0" lang="el-GR" sz="28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buClr>
                <a:srgbClr val="ffcc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l-GR" sz="2800" spc="-1" strike="noStrike">
                <a:solidFill>
                  <a:srgbClr val="000066"/>
                </a:solidFill>
                <a:latin typeface="Tahoma"/>
              </a:rPr>
              <a:t>Αποστέλλει στον Τεχνικό Σύμβουλο (Π.Ι.) τo φάκελο ολοκλήρωσης υλοποιηθέντων προγραμμάτων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buClr>
                <a:srgbClr val="ffcc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66"/>
                </a:solidFill>
                <a:latin typeface="Tahoma"/>
              </a:rPr>
              <a:t>Ο συντονιστής της Ε.Ε. υπογράφει τις Βεβαιώσεις Παρακολούθησης, που έχει παραλάβει από τα ΚΣΕ υπογραμμένες από το συντονιστή επιμορφωτικού προγράμματος, για κάθε επιμορφωμένο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04920" y="22860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Lucida Sans Unicode"/>
              </a:rPr>
              <a:t>Η Επιτροπή Επιμόρφωσης της Δ/νσης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4T09:43:53Z</dcterms:created>
  <dc:creator>-</dc:creator>
  <dc:description/>
  <dc:language>en-US</dc:language>
  <cp:lastModifiedBy>User</cp:lastModifiedBy>
  <dcterms:modified xsi:type="dcterms:W3CDTF">2002-11-12T12:44:13Z</dcterms:modified>
  <cp:revision>5</cp:revision>
  <dc:subject/>
  <dc:title>Παρουσίαση του PowerPoint</dc:title>
</cp:coreProperties>
</file>