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594-7374-4224-8E10-E3B72F90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C3F-BB61-4A47-9F93-92A82DA4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91C-80AF-4567-ADBD-066CFD8F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45B-BABC-4468-848D-8118291E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9020-FA46-4B33-97D9-B7B67CFF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5F9C-9A0B-4BC7-8468-B65F2443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3EE4-9185-4EAC-8098-77BACFA3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ED14-C7B4-485D-9B3D-6E82B3B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9C85-FFE4-4EAC-9CEB-53FD7E94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3DF-62ED-4D9C-92DC-CDED5538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53AC-7D94-41A0-9172-DD725414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D36-7F2D-491A-89DA-9437E70C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2953-8D55-4C1F-AEEE-43250B8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6503-180B-4883-90F1-BAF9EE6B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2BB4-03D6-4849-A2BD-010CBB73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2635-92DA-4806-9B68-1A763A6E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A683-61A7-44F0-890C-A1606499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009-EBEB-4F39-AAD7-0F415C97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C91-9ED0-43E6-B441-AB1763C9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935-90AD-4586-9338-CBB5754B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DE5-E01F-4054-BB2E-6EE322F3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CA7-1A66-478E-B4E6-A5B93C78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923-F083-43D5-8053-4A419DDB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7BC-2CF2-40E0-9DA3-8426726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047C-40D3-4262-92EB-33971CA0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DAFE-84AF-4FBB-AB21-180C3D016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696960"/>
            <a:ext cx="62485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Διαδικασία Καταχώρησης Αιτήσεων και Κλήρωσης Εκπαιδευτικών στα Προγράμματα Επιμόρφωσης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Διαδικασία Καταχώρησης Αιτήσεων</a:t>
            </a:r>
            <a:r>
              <a:rPr b="1" i="1" lang="en-US" sz="4400" spc="-1" strike="noStrike">
                <a:solidFill>
                  <a:srgbClr val="003300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12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Με ευθύνη του Δ/ντή της Σχολικής Μονάδας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εισάγ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ονται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τα δεδομένα στο 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ληροφορι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α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κό 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ύστημα 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Διαχείρησης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(MIS)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.</a:t>
            </a:r>
            <a:r>
              <a:rPr b="0" lang="el-GR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Η επιλογή των επιμορφούμενων γίνεται με ηλεκτρονική κλήρωσ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95440" y="6186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04920"/>
            <a:ext cx="762012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663300"/>
                </a:solidFill>
                <a:latin typeface="Arial"/>
              </a:rPr>
              <a:t>Οι εκπαιδευτικοί που δεν ικανοποιήθηκαν οι προτιμήσεις τους, κατατάσσονται ως επιλαχόν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663300"/>
                </a:solidFill>
                <a:latin typeface="Arial"/>
              </a:rPr>
              <a:t>Αν τελικά δεν επιλεγούν, θα μπορούν να υποβάλλουν εκ νέου αίτηση για τις επόμενες περιόδους επιμόρφωση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3300"/>
                </a:solidFill>
                <a:latin typeface="Arial"/>
              </a:rPr>
              <a:t>Εκπαιδευτικός που έχει επιλεγεί, αν δεν προσέλθει αδικαιολογήτως, αντικαθίσταται από επιλαχόντα και δεν έχει δικαίωμα υποβολής αίτησης εκ νέο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Μετά την ολοκλήρωση της καταχώρησης των στοιχείων στην εφαρμογή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Μ.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.S)</a:t>
            </a: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, αυτά παραλαμβάνονται ηλεκτρονικά από τον τεχνικό σύμβουλο (Π.Ι.), ώστε να εξεταστεί η ακεραιότητα και η πληρότητά τους πριν την διεξαγωγή της κλήρωση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" y="241920"/>
            <a:ext cx="8153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Διαδικασία Καταχώρησης Αιτήσεων</a:t>
            </a:r>
            <a:r>
              <a:rPr b="1" i="1" lang="en-US" sz="4400" spc="-1" strike="noStrike">
                <a:solidFill>
                  <a:srgbClr val="003300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391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Πραγματοποιείται η ηλεκτρονική κλήρωση δημόσι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3300"/>
                </a:solidFill>
                <a:latin typeface="Arial"/>
              </a:rPr>
              <a:t>Η Ε.Ε. ορίζει την καταληκτική ημερομηνία εγγραφών των εκπαιδευτικών στα Κ.Σ.Ε. η οποία πρέπει να είναι τουλάχιστον πέντε (5) ημέρες πριν από την έναρξη του πρώτου προγράμματος στην περιοχή ευθύνης της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331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Διαδικασία Κλήρωσης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Ενημέρωση Ενδιαφερομένων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Η Ε.Ε. αποστέλλει το έντυπο Ε7 στις σχολικές μονάδες για να ενημερωθούν για τα αποτελέσματα της κλήρωσης. Στο έντυπο Ε7 υπάρχει η ένδειξη (επιτυχών, επιλαχών) για κάθε εκπαιδευτικό που είχε υποβάλλει αίτησ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Η Ε.Ε. αποστέλλει το έντυπο Ε8 στα ΚΣΕ των οποίων τα προγράμματα θα λειτουργήσουν σύμφωνα με τις αιτήσεις των εκπαιδευτικών της περιοχή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Οι εκπαιδευτικοί που έχουν υποβάλλει αίτηση για πρόγραμμα επιμόρφωσης, έχουν την δυνατότητα να πληροφορηθούν την επιτυχία τους μέσω του Μ.Ι.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.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εισερχόμενοι από την αρχική σελίδα «Είσοδος  Εκπαιδευτικών» </a:t>
            </a:r>
            <a:r>
              <a:rPr b="0" lang="el-GR" sz="24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 Καρτέλα Εκπαιδευτικού συμπληρώνοντας τον  Αριθμό Μητρώου 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9:01:43Z</dcterms:created>
  <dc:creator>-</dc:creator>
  <dc:description/>
  <dc:language>en-US</dc:language>
  <cp:lastModifiedBy>User</cp:lastModifiedBy>
  <dcterms:modified xsi:type="dcterms:W3CDTF">2002-11-12T12:36:52Z</dcterms:modified>
  <cp:revision>4</cp:revision>
  <dc:subject/>
  <dc:title>Παρουσίαση του PowerPoint</dc:title>
</cp:coreProperties>
</file>