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62B8-6E9A-43E2-B354-53C117CD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1B53-3699-4880-8C24-9450EDE1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6D70-880D-4205-8922-C770EF25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7B1-B69B-47E2-9A05-B32053E0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44B-5FCB-4151-A261-32664CAE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1C3-9E91-4775-B8EC-BE49D244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1AF0-9BA8-46F7-88CC-711623C4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518-291D-4882-BCA1-B0105692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5EF-6F39-4124-AC3F-E362B38E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9988-02E2-4F6E-B0EC-F882BC21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972-9AE5-4B83-AE50-C46B9F84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124-07AD-44A0-BA9A-A604E3A3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4B96-0FD2-4679-BF64-1DFB2A59D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 rot="9600">
            <a:off x="1440" y="457200"/>
            <a:ext cx="914256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Times New Roman"/>
              </a:rPr>
              <a:t>Π</a:t>
            </a: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ΕΡΙΦΕΡ</a:t>
            </a:r>
            <a:r>
              <a:rPr b="1" lang="el-GR" sz="4000" spc="-1" strike="noStrike">
                <a:solidFill>
                  <a:srgbClr val="336600"/>
                </a:solidFill>
                <a:latin typeface="Times New Roman"/>
              </a:rPr>
              <a:t>Ε</a:t>
            </a: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ΙΑΚΟ </a:t>
            </a:r>
            <a:r>
              <a:rPr b="1" lang="en-US" sz="4400" spc="-1" strike="noStrike">
                <a:solidFill>
                  <a:srgbClr val="336600"/>
                </a:solidFill>
                <a:latin typeface="Times New Roman"/>
              </a:rPr>
              <a:t>Ε</a:t>
            </a: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ΠΙΠΕΔ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752480"/>
            <a:ext cx="8686800" cy="410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Αποκέντρωση δραστηριοτήτων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Μεταβίβαση αρμοδιοτήτων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ιοίκησης, </a:t>
            </a:r>
            <a:r>
              <a:rPr b="0" lang="el-GR" sz="4800" spc="-1" strike="noStrike">
                <a:solidFill>
                  <a:srgbClr val="000000"/>
                </a:solidFill>
                <a:latin typeface="Times New Roman"/>
              </a:rPr>
              <a:t>ο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ργάνωσης και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ποπτεία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σε τοπικό επίπεδ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09160" y="1219320"/>
            <a:ext cx="8629560" cy="5410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107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Ο συντονιστής, τα μέλη και οι γραμματείς ορίζονται με Υ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ουργική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όφαση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28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280">
              <a:lnSpc>
                <a:spcPct val="110000"/>
              </a:lnSpc>
              <a:spcBef>
                <a:spcPts val="799"/>
              </a:spcBef>
              <a:buClr>
                <a:srgbClr val="cc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Συμμετέχουν στο συντονισμό των δραστηριοτήτων του έργου στα όρια ευθύνης του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280">
              <a:lnSpc>
                <a:spcPct val="110000"/>
              </a:lnSpc>
              <a:spcBef>
                <a:spcPts val="799"/>
              </a:spcBef>
              <a:buClr>
                <a:srgbClr val="cc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νθαρρύνουν και διευκολύνουν τα σχολεία να οργανώσουν την επιμόρφωση του προσωπικού του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280">
              <a:lnSpc>
                <a:spcPct val="110000"/>
              </a:lnSpc>
              <a:spcBef>
                <a:spcPts val="799"/>
              </a:spcBef>
              <a:buClr>
                <a:srgbClr val="cc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νημερώνουν τις σχολικές μονάδες για τα προγράμματα επιμόρφωσης που προσφέρονται από τα ΚΣ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2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 rot="9600">
            <a:off x="9000" y="304560"/>
            <a:ext cx="91346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00"/>
                </a:solidFill>
                <a:latin typeface="Times New Roman"/>
              </a:rPr>
              <a:t>Επιτροπές Επιμόρφωση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629560" cy="5410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901"/>
              </a:spcBef>
              <a:buClr>
                <a:srgbClr val="cc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Οργανώνουν εκδηλώσεις ενημέρωσης, διάδοσης και προώθησης των αποτελεσμάτων του έργο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901"/>
              </a:spcBef>
              <a:buClr>
                <a:srgbClr val="cc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Πιστοποιούν τα ΚΣΕ της περιοχής τους βάσει των κτιριακών προδιαγραφών και του εργαστηριακού εξοπλισμού του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 rot="9600">
            <a:off x="0" y="0"/>
            <a:ext cx="91346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00"/>
                </a:solidFill>
                <a:latin typeface="Times New Roman"/>
              </a:rPr>
              <a:t>Επιτροπές Επιμόρφωση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8629560" cy="571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901"/>
              </a:spcBef>
              <a:buClr>
                <a:srgbClr val="cc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Κρατούν  ενήμερους τους Τεχνικούς &amp; Επιστημονικούς Συμβούλους  ΠΙ ή  ΕΑΙΤΥ για την πορεία υλοποίησης των προγραμμάτων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μεριμνούν για την άμεση αποστολή των εκθέσεων ολοκλήρωσής του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901"/>
              </a:spcBef>
              <a:buClr>
                <a:srgbClr val="cc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Εποπτεύουν την καλή εκτέλεση του  έργου των ΚΣ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901"/>
              </a:spcBef>
              <a:buClr>
                <a:srgbClr val="cc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Υπογράφουν τις βεβαιώσεις παρακολούθησης που εκδίδουν τα ΚΣ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 rot="9600">
            <a:off x="0" y="0"/>
            <a:ext cx="91346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00"/>
                </a:solidFill>
                <a:latin typeface="Times New Roman"/>
              </a:rPr>
              <a:t>Επιτροπές Επιμόρφωση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8629560" cy="5486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1001"/>
              </a:spcBef>
              <a:buClr>
                <a:srgbClr val="cc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Τηρούν αρχεία πιστοποιημένων ΚΣΕ, επιμορφωτών, επιμορφωμένων και πιστοποιημένων  εκπαιδευτικών της περιφερείας τους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1001"/>
              </a:spcBef>
              <a:buClr>
                <a:srgbClr val="cc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Συντάσσουν έκθεση πεπραγμένων και προτείνουν  τροποποιήσεις για τη βελτίωση της επιμόρφωση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 rot="9600">
            <a:off x="0" y="0"/>
            <a:ext cx="91346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00"/>
                </a:solidFill>
                <a:latin typeface="Times New Roman"/>
              </a:rPr>
              <a:t>Επιτροπές Επιμόρφωση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2:57:06Z</dcterms:created>
  <dc:creator>Winuser</dc:creator>
  <dc:description/>
  <dc:language>en-US</dc:language>
  <cp:lastModifiedBy>User</cp:lastModifiedBy>
  <dcterms:modified xsi:type="dcterms:W3CDTF">2002-11-12T11:44:41Z</dcterms:modified>
  <cp:revision>54</cp:revision>
  <dc:subject/>
  <dc:title>Χωρίς τίτλο διαφάνειας</dc:title>
</cp:coreProperties>
</file>