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05-65AC-49F3-925D-DD44DD95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E39-5D7D-484C-B5F0-62A067D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7B9-F235-413E-84A5-0FF7D6DA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307-61E1-4736-9EFF-FE694CBD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21-FA12-4BB3-8FBB-9ADA123E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65E-570D-4AB3-BB1B-0DA942DE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677-1C99-41EB-881E-4458F8E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16A-FEC7-4E70-A057-868F8B7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7F6-626A-4F2D-B61F-021202C8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41B-2919-4847-A226-7CEF261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B42-95E9-4D2A-B322-AB9B19C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2C4-5293-409D-B1E4-EB06559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6BE-FECF-4F14-B7F0-2E62EAF02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677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c0000"/>
                </a:solidFill>
                <a:latin typeface="Times New Roman"/>
              </a:rPr>
              <a:t>Πράξη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«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πιμόρφωση Εκπαιδευτικ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Αξιοποίηση των Τεχνολογι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της Πληροφορίας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και των Επικοινωνιών (ΤΠΕ)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Εκπαίδευση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Επιχειρησιακό Πρόγραμμα Κτ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05720" cy="11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6705720" cy="11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10552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Άξονας Προτεραιότητας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Παιδεία και Πολιτισμός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Μέτρο 1.2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Εισαγωγή &amp; Αξιοποίηση των ΝΕΤ  στην          Εκπαίδευση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ιτροπές Επιμό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λοκληρωμένο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Πληροφορικό Σύστημα Διαχείρ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ης (MI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Επιμορφωτ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Κέντρων Στήριξης Επιμόρφωσης (ΚΣΕ)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 rot="9600">
            <a:off x="-3240" y="-3240"/>
            <a:ext cx="9144000" cy="129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ΥΠΟΣΤΗΡΙΚΤΙΚΟΙ ΜΗΧΑΝΙΣΜΟ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 rot="9600">
            <a:off x="-1440" y="-1080"/>
            <a:ext cx="9142200" cy="175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ΟΡΓΑΝΩΤΙΚΗ ΔΟΜ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ΓΙΑ ΤΗΝ ΥΛΟΠΟΙΗΣΗ ΤΟΥ ΕΡΓΟ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ΣΕ ΔΥΟ ΕΠΙΠΕΔ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057400"/>
            <a:ext cx="89154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Κ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ΝΤΡΙΚ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χεδιασμός - Διοίκηση - Οργάνωση - Εποπτεί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ΡΙΦΕΡ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ΙΑΚΟ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Αποκέντρωση δραστηρ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Μεταβίβαση αρμοδ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ιοίκησης,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ργάνωσης και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ποπτεία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ε τοπικό επίπεδ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ΓΡΑΦΗ &amp; ΣΤΟΧΟΣ ΤΗΣ ΠΡΑΞ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861048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α μπορούν οι επιμορφωμένοι εκπαιδευτικοί να αξιολογούν και να χρησιμοποιούν αποδοτικά τις δυνατότητες που προσφέρουν οι ΤΠΕ για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Ποιοτική βελτίωση της διαδικασίας της διδασκαλίας και της μάθησης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νεργή συμμετοχή τους σε κοινότητες μάθη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αγγελματική εξέλιξη και βελτίωση της απόδοσής του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ιτυχή συμμετοχή στη διαδικασία πιστοποίησης που ακολουθεί το πρόγραμμα επιμόρφω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ΣΕ ΠΟΙΟΥΣ ΑΠΕΥΘΥΝΕΤΑ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9600">
            <a:off x="-34920" y="3622680"/>
            <a:ext cx="914256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ΟΣΟ ΘΑ ΔΙΑΡΚΕΣΕ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2120"/>
            <a:ext cx="85345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Αντικείμενο της πράξης είναι η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επιμόρφωση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76.000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μόνιμων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αναπληρωτών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εκπαιδευτικών όλων των κλαδων και ειδικοτήτων της Πρωτοβάθμιας και Δευτεροβάθμιας Εκπαίδευ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4658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θα υλοποιηθούν στο χρονικό διάστημα από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1-3-200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μέχρι τις    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31-12-2003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σε περιόδους επιμόρφωσης που θα καθορίζονται κεντρικά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Α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 διεξαγωγή του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ρογράμματος επιμόρφωση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Β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ν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ιστοποίηση των δεξιοτήτων</a:t>
            </a:r>
            <a:r>
              <a:rPr b="1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 rot="9600">
            <a:off x="-5040" y="-3240"/>
            <a:ext cx="9134280" cy="841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ΥΛΟΠΟΙΗΣΗ ΣΕ 2 ΦΑΣ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ΕΧΟΜΕΝΟ ΤΗΣ ΕΠΙΜΟ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86868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ισαγωγικές έννοιες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της Πληροφορική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Βασικά στοιχεία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χρήσης προσωπικού Η/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πεξεργαστή κειμένο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υπολογιστικών φύλλω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λογισμικού παρουσία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Διαδίκτυο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πικοινωνίε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Αξιοποίηση των ΤΠΕ στην εκπαιδευτική     διαδικασία -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κπαιδευτικό Λογισμικ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 rot="9600">
            <a:off x="-1080" y="-1080"/>
            <a:ext cx="9144000" cy="915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ΟΡΓΑΝΩΤΙΚΗ ΔΟΜ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562720"/>
            <a:ext cx="3124080" cy="10688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χολείο Α/θμιας ή Β/θμι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990720"/>
            <a:ext cx="9144000" cy="5640840"/>
            <a:chOff x="0" y="990720"/>
            <a:chExt cx="9144000" cy="5640840"/>
          </a:xfrm>
        </p:grpSpPr>
        <p:sp>
          <p:nvSpPr>
            <p:cNvPr id="59" name=""/>
            <p:cNvSpPr/>
            <p:nvPr/>
          </p:nvSpPr>
          <p:spPr>
            <a:xfrm>
              <a:off x="0" y="2819520"/>
              <a:ext cx="91440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Τεχνικοί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πιστημονικοί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Σύμβουλοι: ΠΙ &amp;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ΑΙΤ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114800"/>
              <a:ext cx="5943600" cy="5814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Τοπική Επιτροπή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05520" y="5562720"/>
              <a:ext cx="3657600" cy="106884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Κέντρο Στήριξης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3352680"/>
              <a:ext cx="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05520" y="3352680"/>
              <a:ext cx="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52352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362320" y="4724280"/>
              <a:ext cx="167616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400800" y="4723920"/>
              <a:ext cx="144792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9907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ΥΠΕΠ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15238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19051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ΚΕΕΤΠ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24382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 rot="9600">
            <a:off x="-4680" y="-4320"/>
            <a:ext cx="9142200" cy="1527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ΕΠΙΣΤΗΜΟΝΙΚΟΣ ΥΠΕΥΘΥΝΟΣ ΠΡΑΞΗ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133720"/>
            <a:ext cx="73915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Δημήτριος  Παπαϊωάννου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Ειδικός Γραμματέας Σπουδών Επιμόρφωσης και Καινοτομιών του ΥΠΕΠ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ΚΕΕΤΠ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9144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Πρόεδρο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Δ. Παπαϊωάννου, Ειδικός Γραμματέας Σπουδών Επιμόρφωσης και Καινοτομιών του ΥΠΕΠΘ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Μέλ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. Σπυρέλλης, Αντιπρόεδρος ΠΙ, Καθηγητής ΕΜΠ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. Ζαγούρας, Διευθυντής Τομέα Επιμόρφωσης και Κατάρτισης του ΕΑΙΤΥ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. Παναγιωτόπουλος, Διευθύνων Σύμβουλος, Εκπρόσωπος της ΚτΠ Α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τις περιοχές ευθύνης του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υντονίζου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ις  Επιτροπές Επιμόρφωσης (Ε.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και την παροχή Υπηρεσιών από Απόστ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η λειτουργία υποστηρικτικών μηχανισμών (Help Desk) μέσω ηλεκ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ρονικού κόμβ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ην Προώθηση και Διάδοση του έργου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 rot="9600">
            <a:off x="-231480" y="453960"/>
            <a:ext cx="9144000" cy="2440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ΦΟΡΕΙΣ ΤΕΧΝΙΚΗΣ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&amp; ΕΠΙΣΤΗΜΟΝΙΚΗΣ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ΥΠΟΣΤΗΡΙΞΗΣ (ΠΙ &amp; ΕΑΙΤΥ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2:57:06Z</dcterms:created>
  <dc:creator>Winuser</dc:creator>
  <dc:description/>
  <dc:language>en-US</dc:language>
  <cp:lastModifiedBy>User</cp:lastModifiedBy>
  <dcterms:modified xsi:type="dcterms:W3CDTF">2002-11-12T11:38:00Z</dcterms:modified>
  <cp:revision>58</cp:revision>
  <dc:subject/>
  <dc:title>Χωρίς τίτλο διαφάνειας</dc:title>
</cp:coreProperties>
</file>