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F1A-5258-4ACD-8072-1A0EBCED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155-02E1-4574-8093-175E1C6A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6F0-DF25-455F-AA76-5420A838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C6F-22FF-49B3-9175-B3CF4014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07B2-6A58-46CB-B98E-66B4C94D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2FB5-EFBB-4593-B922-B5441A66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A5E7-1B91-412A-82F5-0CD501A4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2DB5-D317-4022-A367-CF4C4F89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9F42-C410-481B-862B-CFE095C4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8377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39BE-4BAD-483A-8788-83EC56EC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2CD9-FAA8-4397-9F94-FA1466D9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DD7-A419-49C7-9104-25A3640E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3B37-0DCE-4B52-9E88-87999FFB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B89B-3644-4FDC-A81B-C9B2F3F5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CC38-0670-4580-93F9-8217EF6C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432B-6C5D-4A59-AB4D-EA4BCC72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3CF8-ACA3-4B7B-AE48-BC80FC78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652-FFF2-4134-9F49-935014E0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E5D-B686-407F-9BB6-C25FEE0E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759-1824-402D-ABBC-252F3BD0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8377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00F-61DD-4687-899D-0BE48303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C0E-5839-46AA-903E-C3037F15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30F-514F-4DF0-B4CA-8AE8FCC8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CAD-439C-482C-8C7F-96726E32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B4E9-8174-4D61-A621-3827477B6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E280-A9FA-44A5-B1F1-437110532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080" y="34290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3366"/>
                </a:solidFill>
                <a:latin typeface="Lucida Sans Unicode"/>
              </a:rPr>
              <a:t>Διαδικασία Πιστοποίησης Κ.Σ.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7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δέκτες της Πρόσκλ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ΕΙ, ΤΕ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Ε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νστιτούτο Διαρκούς Εκπαίδευ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θνικό Κέντρο Δημόσιας Διοίκηση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πιστημονικές Ενώσει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ρευνητικά Ινστιτούτα, Πανεπιστημιακά Ινστιτού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ΕΚ (δημόσια, ιδιωτικά) με ειδικότητα Πληροφορικ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ΕΚ (δημόσια, ιδιωτικά) πιστοποιημένα στον Τομέα της Πληροφορικής από το Υπ. Εργασ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ημόσια Σχολεί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διωτικά Σχολεί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Lucida Sans Unicode"/>
              </a:rPr>
              <a:t>Διαδικασία Πιστοποίησης Κ.Σ.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ριτήρια Πιστοποί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α ανήκει ο φορέας στους Αποδέκτες της πρόσκλ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γραφή από το νόμιμο εκπρόσωπ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ξοπλισμό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έκα τουλάχιστον Υπολογιστέ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2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Hz, MM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γχρωμη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(ISD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ραμμ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64 Kbits/sec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λληνικό περιβάλλον εργασίας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ndows-Off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Lucida Sans Unicode"/>
              </a:rPr>
              <a:t>Διαδικασία Πιστοποίησης Κ.Σ.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ημόσιοι φορεί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Ιδιωτικοί φορεί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ωδικοποίηση του ΚΣΕ από αρχικό κατάλογο προ-πιστοποίησης του Π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Έλεγχος κατά την Τελική Πιστοποίηση από την Ε.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Lucida Sans Unicode"/>
              </a:rPr>
              <a:t>Διαδικασία Πιστοποίησης Κ.Σ.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23720" y="304920"/>
            <a:ext cx="74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ΠΑΡΑΤΗΡΗΣΕΙΣ ΣΧΕΤΙΚΕΣ ΜΕ ΤΑ ΚΣ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3366cc"/>
                </a:solidFill>
                <a:latin typeface="Arial"/>
              </a:rPr>
              <a:t>Στη λίστα των προ-πιστοποιημένων ΚΣΕ, περιλαμβάνονται όλοι οι φορείς π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νήκουν στους αποδέκτες της πρόσκλη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Έχουν υποβάλλει αίτηση, η οποία έχει πάρει αριθμό πρωτοκόλλου μέχρι την ημερομηνία που ορίστηκε από την ΚΕΕΤΠΕ για ανανέωση του Μητρώο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Έχουν τουλάχιστον μία αίθουσα εξοπλισμένη σύμφωνα με τις προδιαγραφλες του έργ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ΠΑΡΑΤΗΡΗΣΕΙΣ ΣΧΕΤΙΚΕΣ ΜΕ ΤΑ ΚΣ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Στην περίπτωση που διαπιστωθεί ότι ένας φορέας διαθέτει περισσότερες από μία αίθουσες για την επιμόρφωση, αυτές καταγράφονται από την Ε.Ε. και ενημερώνεται η ΚΕΕΤΠΕ μέσω του Π.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ρέπει να επισημαίνεται κάθε περίπτωση αίθουσας που φαίνεται να μη πληρεί πλήρως κάποιες από τις προδιαγραφές της πράξης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άδεια λειτουργίας, υπενοικίαση, χρονομίσθωση, διαφορετική τεχνολογική υποδομή κτ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9:04:17Z</dcterms:created>
  <dc:creator>g</dc:creator>
  <dc:description/>
  <dc:language>en-US</dc:language>
  <cp:lastModifiedBy>User</cp:lastModifiedBy>
  <dcterms:modified xsi:type="dcterms:W3CDTF">2002-11-12T11:47:31Z</dcterms:modified>
  <cp:revision>24</cp:revision>
  <dc:subject/>
  <dc:title>PowerPoint Presentation</dc:title>
</cp:coreProperties>
</file>