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B177-F953-46CD-91DE-1931AC8D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9DB-9406-4F73-BBEE-DAF9F5E1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771-9E3E-4C10-B9BB-3BD3C010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D4F-F540-4FE2-8672-52CE1074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AD19-8D96-43C2-9A05-0E03245E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624F-64C9-4019-8895-C4F58EA8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BDBF-876B-4D6F-8604-1C889809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6442-4BF2-45C6-A224-9F5CFAE4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40AA-811B-4F43-9C1F-219EA87F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CD74-A40A-49FC-AC8A-601AFEFB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1CAE-250D-4355-8DAD-55464E21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D6EB-2D2C-4A2F-BD28-D3CE2C6C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C16A-A7AA-4070-820F-ADE10033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2CD0-EEF7-4C76-80EE-D0DED8EC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6DD0-C73A-4FAA-A52A-17A728AA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9B55-773F-4FB2-BCA2-DC7D4273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F40B-F976-4EBB-8C1C-38F87728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B18C-241A-49FE-B23B-DD865EAE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0BBE-ACD9-4A08-B8C2-961B6E48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182-DD51-4EA0-9914-9349AE67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5B0-72FF-434A-B51B-723F7C3D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5C7-B17D-48D0-A2C8-A023C41F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9A22-049B-4752-8AFE-F2010C05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BC14-2058-41E8-817A-18586B73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1FC3-E615-416B-B356-FEF2D44242A5}" type="slidenum">
              <a:rPr b="0" lang="el-G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67B1-1C2F-4F11-8144-F1BDCAE71127}" type="slidenum">
              <a:rPr b="0" lang="el-G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990360" y="330948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000" spc="-1" strike="noStrike">
                <a:solidFill>
                  <a:srgbClr val="40458c"/>
                </a:solidFill>
                <a:latin typeface="Tahoma"/>
              </a:rPr>
              <a:t>Διαδικασία υλοποίησης Προγραμμάτων Επιμόρφωσης από τα ΚΣΕ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9" name="BD14578_" descr=""/>
          <p:cNvPicPr/>
          <p:nvPr/>
        </p:nvPicPr>
        <p:blipFill>
          <a:blip r:embed="rId1"/>
          <a:stretch/>
        </p:blipFill>
        <p:spPr>
          <a:xfrm>
            <a:off x="990720" y="154296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14400" y="114300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Παρακολουθούν τη συμπλήρωση των εντύπων που αφορούν την ημερήσια παρουσία των επιμορφωτών και των επιμορφουμένων, σε ωριαία βάση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Lucida Sans Unicode"/>
              </a:rPr>
              <a:t>Οι υπεύθυνοι των πιστοποιημένων ΚΣΕ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38080" y="1981080"/>
            <a:ext cx="754380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Αποστέλλουν στην Ε.Ε. </a:t>
            </a:r>
            <a:r>
              <a:rPr b="0" lang="el-GR" sz="3200" spc="-1" strike="noStrike">
                <a:solidFill>
                  <a:srgbClr val="000066"/>
                </a:solidFill>
                <a:latin typeface="Tahoma"/>
              </a:rPr>
              <a:t>φάκελο ολοκλήρωσης για κάθε πρόγραμμα που έχει υλοποιηθεί στο ΚΣΕ ευθύνης τους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ffcc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3049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Lucida Sans Unicode"/>
              </a:rPr>
              <a:t>Οι υπεύθυνοι των πιστοποιημένων ΚΣΕ μετά τη λήξη κάθε επιμορφωτικού προγράμματο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45684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ahoma"/>
              </a:rPr>
              <a:t>Ο φάκελος ολοκλήρωσης περιέχει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ahoma"/>
              </a:rPr>
              <a:t>α) Έντυπο έκθεσης ολοκλήρωσης προγράμματος για επιμορφούμενους (Ε1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66"/>
                </a:solidFill>
                <a:latin typeface="Tahoma"/>
              </a:rPr>
              <a:t>β) Έντυπο έκθεσης ολοκλήρωσης προγράμματος για επιμορφωτές (Ε12α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66"/>
                </a:solidFill>
                <a:latin typeface="Tahoma"/>
              </a:rPr>
              <a:t>γ) Ακριβές αντίγραφο του παρουσιολογίου επιμορφωτών (Ε9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ahoma"/>
              </a:rPr>
              <a:t>δ) Ακριβή αντίγραφα των 16 παρουσιολογίων επιμορφούμενων (Ε10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ahoma"/>
              </a:rPr>
              <a:t>ε) Το σύνολο των ερωτηματολογίων εσωτερικής αξιολόγησης (Ε15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09:43:53Z</dcterms:created>
  <dc:creator>-</dc:creator>
  <dc:description/>
  <dc:language>en-US</dc:language>
  <cp:lastModifiedBy>User</cp:lastModifiedBy>
  <dcterms:modified xsi:type="dcterms:W3CDTF">2002-11-13T09:48:49Z</dcterms:modified>
  <cp:revision>8</cp:revision>
  <dc:subject/>
  <dc:title>Παρουσίαση του PowerPoint</dc:title>
</cp:coreProperties>
</file>