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32C-6F50-47E8-BD5C-64CA75A3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DBE-DAD5-4D9C-B5B3-2BA41F1A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61B-F3D5-44A1-90A7-B47DDB52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88E-1591-4B74-B0B4-96F36077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1D93-42C0-4FF4-B254-997BB2A8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7DB-E565-467B-AF89-19E4603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1149-11F9-4ECF-BECB-AC87A957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84AB-7C24-4EA6-97B3-AD4E5575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808-BF3A-4082-8CA7-67D7047A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F6F4-D259-4DCC-82F7-D4719B12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23C0-3B3A-48E0-9D67-11EF3EAD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106-CAAF-4A67-AA16-2261AB5B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CFF-9D85-4B7D-A321-736230E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B25B-806B-4A6D-8E2C-6B0278A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D491-C0E7-49A8-9EF6-AC6FA4B2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8668-24A0-4ACA-BD84-71B029AB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916-90CF-4162-AC14-2E93896E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257-06BB-4F87-B61B-13265E6F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5B7-BC32-4566-9A15-B1516DAD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199-3A9F-412C-A5B6-53C9AC37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1DD-4DDC-4A4C-9C4B-4BDE18CD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BA5-D8B4-450A-9A99-0087F99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D21-4AC4-49E6-AEE6-DD49988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C41-3C05-420A-B0C7-518340E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6DFD-634F-4035-884F-FAAE4FDFA3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FE2-D0F9-48DD-ADCF-5E3162B0E6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pepth.gr/ktp/home.htm" TargetMode="External"/><Relationship Id="rId2" Type="http://schemas.openxmlformats.org/officeDocument/2006/relationships/hyperlink" Target="http://www.ypepth.gr/ktp/home.htm" TargetMode="External"/><Relationship Id="rId3" Type="http://schemas.openxmlformats.org/officeDocument/2006/relationships/hyperlink" Target="http://www.ypepth.gr/ktp/home.htm" TargetMode="External"/><Relationship Id="rId4" Type="http://schemas.openxmlformats.org/officeDocument/2006/relationships/hyperlink" Target="http://www.ypepth.gr/ktp/home.htm" TargetMode="External"/><Relationship Id="rId5" Type="http://schemas.openxmlformats.org/officeDocument/2006/relationships/hyperlink" Target="http://www.ypepth.gr/ktp/home.htm" TargetMode="External"/><Relationship Id="rId6" Type="http://schemas.openxmlformats.org/officeDocument/2006/relationships/hyperlink" Target="http://www.ypepth.gr/ktp/home.htm" TargetMode="External"/><Relationship Id="rId7" Type="http://schemas.openxmlformats.org/officeDocument/2006/relationships/hyperlink" Target="http://www.ypepth.gr/ktp/home.htm" TargetMode="External"/><Relationship Id="rId8" Type="http://schemas.openxmlformats.org/officeDocument/2006/relationships/hyperlink" Target="http://www.ypepth.gr/ktp/home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Δ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ΙΑΔΙΚΑΣΙΑ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Κ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ΤΑΡΤΙΣΗΣ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ΡΟΓΡΑΜΜΑΤΩΝ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ΚΣ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Αμοιβές Επιμορφωτώ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Για κάθε πρόγραμμα επιμόρφωσης καταβάλλεται στον Επιμορφωτή -Εισηγητή ως αμοιβή ποσό μέχρι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408,80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€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(480.000 δρχ.) Σε καμιά περίπτωση η αμοιβή του Επιμορφωτή δεν μπορεί να είναι κατώτερη  τω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9,35 €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(10.000 δρχ) ανά ώρ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Για Επιμορφωτές που έχουν την ιδιότητα του Δημόσιου Υπαλλήλου εφαρμόζονται οι διατάξεις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οι κάθε είδους πρόσθετες αποδοχές ή απολαβές των δημοσίων υπαλλήλων, δεν επιτρέπεται να είναι κατά μήνα ανώτερες από το σύνολο των ακαθαρίστων αποδοχών της οργανικής τους θέ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Σε κάθε περίπτωση, δεν επιτρέπεται η ανάθεση στον αυτό επιμορφωτή, ανά κύκλο δίμηνης επιμόρφωσης, περισσότερων ωρών από όσες αντιστοιχού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ε τρία προγράμματα επιμόρφω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 συγκεκριμένα περισσοτέρων από 144 ώρες συνολικά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Υφίσταται ασυμβίβαστο μεταξύ της ιδιότητας μέλους της ΕΕ και Επιμορφωτή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95440" y="6186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80880"/>
            <a:ext cx="800100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Το κάθε πρόγραμμα επιμόρφωσης αφορά μια ομάδα εκπαιδευτικών από δέκα (10) μέχρι δεκαπέντε (15) άτομα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Η διάρκεια κάθε προγράμματος είναι σαράντα οκτώ (48) ώρες, που κατανέμονται στο χρονικό διάστημα των οκτώ (8) εβδομάδων.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Κάθε επιμορφωτική συνάντηση είναι τρίωρης διάρκειας. Γίνονται δύο τρίωρα την εβδομάδα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95440" y="6186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26960"/>
            <a:ext cx="8763120" cy="62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Οι επιμορφωτικές συναντήσεις γίνονται εκτός σχολικού ωραρίου, ώστε να μην παρεμποδί- ζεται η κανονική λειτουργία των σχολείων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Εφαρμόζεται και εναλλασσόμενο πρόγραμμα για σχολεία με βάρδιες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Τα προγράμματα μπορούν να λειτουργήσουν από Δευτέρα μέχρι Κυριακή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Τμήματα αποτελούμενα από λιγότερους των 10 ή περισσότερους των 15 δε θα λειτουργήσουν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Μητρώα Κ.Σ.Ε. </a:t>
            </a:r>
            <a:br>
              <a:rPr sz="3200"/>
            </a:b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και Επιμορφωτώ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Έχουν καταρτιστεί από το Π.Ι. με βάση τις αιτήσεις φορέων και φυσικών προσώπω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Εμπλουτίζονται περιοδικά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Αναρτώνται στο δικτυακό τόπο του ΥΠΕΠΘ μετά από Υ.Α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Τα κριτήρια για ένταξη στα μητρώα εμφανίζονται στην Πρόσκληση Εκδήλωσης Ενδιαφέροντος16454/ΚΓ/15-2-02 του ΥΠΕΠ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96080" y="2743200"/>
            <a:ext cx="609840" cy="533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760" y="259092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3366"/>
                </a:solidFill>
                <a:latin typeface="Times New Roman"/>
              </a:rPr>
              <a:t>Έντυπο Αίτησης Φορέα για Κ.Σ.Ε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3733920"/>
            <a:ext cx="609840" cy="53316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3366"/>
                </a:solidFill>
                <a:latin typeface="Times New Roman"/>
              </a:rPr>
              <a:t>Έντυπο Αίτησης Επιμορφωτή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5029200"/>
            <a:ext cx="647712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ληροφορίε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ypepth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gr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ktp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home.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ht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Δημόσια Σχολεία – Κ.Σ.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    </a:t>
            </a:r>
            <a:r>
              <a:rPr b="0" lang="el-G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0" i="1" lang="el-GR" sz="2800" spc="-1" strike="noStrike">
                <a:solidFill>
                  <a:srgbClr val="003366"/>
                </a:solidFill>
                <a:latin typeface="Times New Roman"/>
              </a:rPr>
              <a:t>Αμοιβές προσώπων που μετέχουν στο πρόγραμμ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Συντονιστή του προγράμματος, ποσό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93,50 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10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Καταχωρητή στοιχείων του προγράμματος,   ποσό 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05,40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7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Εισηγητή - επιμορφωτή (48 ώρες Χ 29,35), ποσό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1.408,80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480.000 δρχ)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Βοηθός εισηγητή - επιμορφωτή, ποσό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7,00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20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3366"/>
                </a:solidFill>
                <a:latin typeface="Times New Roman"/>
              </a:rPr>
              <a:t>Αναλώσιμα και Λειτουργικά έξοδ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Επισκευές και συντηρήσεις εξοπλισμού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34,6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80.000 δρχ)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Έντυπα και γραφική ύλη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,7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2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Τηλεπικοινωνίες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88,0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3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Λοιπές παροχές τρίτων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,7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2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6520" y="9144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Δημόσια Σχολεία – Κ.Σ.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9144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Δημόσια Σχολεία – Κ.Σ.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362320"/>
            <a:ext cx="8839080" cy="43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Τα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οσά των αναλώσιμων και λειτουργικών εξόδων έχουν προϋπολογισθεί για αριθμό συμμετεχόντων  δέκα (10) ατόμων. Αν ο αριθμός των συμμετεχό- ντων εκπαιδευτικών σε κάθε πρόγραμμα υπερβεί τον αριθμό των δέκα (10) ατόμων και μέχρι το ανώτατο όριο των δεκαπέντε (15), δικαιολογείται  επιπλέον δαπάνη 58,70 € για κάθε εκπαιδευτικό. Το ποσό αυτό κατανέμεται αναλογικά στις παραπάνω κατηγορίες αναλώσιμων και λειτουργικών εξόδων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609480"/>
            <a:ext cx="8756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Λοιπά Κ.Σ.Ε </a:t>
            </a:r>
            <a:br>
              <a:rPr sz="3200"/>
            </a:b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el-GR" sz="2800" spc="-1" strike="noStrike">
                <a:solidFill>
                  <a:srgbClr val="006666"/>
                </a:solidFill>
                <a:latin typeface="Arial"/>
              </a:rPr>
              <a:t>ΑΕΙ, ΤΕΙ, και λοιποί Δημόσιοι και Ιδιωτικοί φορείς</a:t>
            </a:r>
            <a:r>
              <a:rPr b="1" lang="el-GR" sz="2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82296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Για κάθε πρόγραμμα επιμόρφωσης που υλοποιούν αμείβονται με το συνολικό ποσό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.934,7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(1.000.000 δρχ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Το ποσό αυτό αναφέρεται σε πρόγραμμα που συμμετέχουν υποχρεωτικά δέκα (10) επιμορφούμενο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Για κάθε επιπλέον επιμορφούμενο, και μέχρι των δεκαπέντε (15), καταβάλλεται επιπλέον και το ποσό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,70 € (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20.000 δρχ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25:17Z</dcterms:created>
  <dc:creator>-</dc:creator>
  <dc:description/>
  <dc:language>en-US</dc:language>
  <cp:lastModifiedBy>User</cp:lastModifiedBy>
  <dcterms:modified xsi:type="dcterms:W3CDTF">2002-11-12T11:50:54Z</dcterms:modified>
  <cp:revision>11</cp:revision>
  <dc:subject/>
  <dc:title>Παρουσίαση του PowerPoint</dc:title>
</cp:coreProperties>
</file>