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B91-4457-40FD-83B7-1C4CDCD7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3B6-6B72-4B8E-9B53-BC29165C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9F5-EB99-4C92-815A-A23F3DBD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882A-DBE6-439C-8BD7-D121CF8E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FE01-BDDF-45F7-A55B-9E2000CC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7A1A-D468-4F51-AFCA-403AE3D7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3AFF-EF3D-4E31-93C3-A49A9468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FAD0-5ED3-410C-8E3B-924307AE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514D-3956-4FA1-A527-866450B6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0913-1181-4746-B3A3-6DB67CEC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275E-7D81-4261-A694-BD864DE1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422-6664-4895-B75A-6EF4EA17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811B-3BF7-4ED6-9A00-D59BE188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532B-5EF9-4895-A056-272896C1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5D0C-634A-4644-98AC-A91B78CD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57FD-4BA3-4297-9740-7A7E1C12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9247-6270-4347-9C96-CB8843ED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62C-895E-4DD0-A138-A5394FBF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E5A-39B6-4D7B-AB4A-DF749EA7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DF9-D9DE-404D-BABB-D3ADD5A2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802-F5DF-4583-A395-CE4B6F7C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948-5E24-4B32-9BE7-F4E2EBA3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CEC-7A42-44A3-B6F0-A2987B3D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1AB-F699-4675-B59B-699189FC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14B6-002D-471C-B894-142CA5105C2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D44C-582D-4156-84BE-F4AAB22AB30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pepth.gr/ktp/home.htm" TargetMode="External"/><Relationship Id="rId2" Type="http://schemas.openxmlformats.org/officeDocument/2006/relationships/hyperlink" Target="http://www.ypepth.gr/ktp/home.htm" TargetMode="External"/><Relationship Id="rId3" Type="http://schemas.openxmlformats.org/officeDocument/2006/relationships/hyperlink" Target="http://www.ypepth.gr/ktp/home.htm" TargetMode="External"/><Relationship Id="rId4" Type="http://schemas.openxmlformats.org/officeDocument/2006/relationships/hyperlink" Target="http://www.ypepth.gr/ktp/home.htm" TargetMode="External"/><Relationship Id="rId5" Type="http://schemas.openxmlformats.org/officeDocument/2006/relationships/hyperlink" Target="http://www.ypepth.gr/ktp/home.htm" TargetMode="External"/><Relationship Id="rId6" Type="http://schemas.openxmlformats.org/officeDocument/2006/relationships/hyperlink" Target="http://www.ypepth.gr/ktp/home.htm" TargetMode="External"/><Relationship Id="rId7" Type="http://schemas.openxmlformats.org/officeDocument/2006/relationships/hyperlink" Target="http://www.ypepth.gr/ktp/home.htm" TargetMode="External"/><Relationship Id="rId8" Type="http://schemas.openxmlformats.org/officeDocument/2006/relationships/hyperlink" Target="http://www.ypepth.gr/ktp/home.ht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Δ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ΙΑΔΙΚΑΣΙΑ </a:t>
            </a: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Κ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ΤΑΡΤΙΣΗΣ </a:t>
            </a: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Π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ΡΟΓΡΑΜΜΑΤΩΝ </a:t>
            </a: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ΚΣΕ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66"/>
                </a:solidFill>
                <a:latin typeface="Arial"/>
              </a:rPr>
              <a:t>Αμοιβές Επιμορφωτώ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Για κάθε πρόγραμμα επιμόρφωσης καταβάλλεται στον Επιμορφωτή -Εισηγητή ως αμοιβή ποσό μέχρι </a:t>
            </a: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1.408,80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€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(480.000 δρχ.) Σε καμιά περίπτωση η αμοιβή του Επιμορφωτή δεν μπορεί να είναι κατώτερη  των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29,35 € 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(10.000 δρχ) ανά ώρα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Για Επιμορφωτές που έχουν την ιδιότητα του Δημόσιου Υπαλλήλου εφαρμόζονται οι διατάξεις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οι κάθε είδους πρόσθετες αποδοχές ή απολαβές των δημοσίων υπαλλήλων, δεν επιτρέπεται να είναι κατά μήνα ανώτερες από το σύνολο των ακαθαρίστων αποδοχών της οργανικής τους θέση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Σε κάθε περίπτωση, δεν επιτρέπεται η ανάθεση στον αυτό επιμορφωτή, ανά κύκλο δίμηνης επιμόρφωσης, περισσότερων ωρών από όσες αντιστοιχούν </a:t>
            </a:r>
            <a:r>
              <a:rPr b="1" lang="el-GR" sz="2000" spc="-1" strike="noStrike">
                <a:solidFill>
                  <a:srgbClr val="003366"/>
                </a:solidFill>
                <a:latin typeface="Arial"/>
              </a:rPr>
              <a:t>σε τρία προγράμματα επιμόρφωσης</a:t>
            </a: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 και συγκεκριμένα περισσοτέρων από 144 ώρες συνολικά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304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Lucida Sans Unicode"/>
              </a:rPr>
              <a:t>Οικονομικά Στοιχ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Υφίσταται ασυμβίβαστο μεταξύ της ιδιότητας μέλους της ΕΕ και Επιμορφωτή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95440" y="6186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80880"/>
            <a:ext cx="8001000" cy="58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Το κάθε πρόγραμμα επιμόρφωσης αφορά μια ομάδα εκπαιδευτικών από δέκα (10) μέχρι δεκαπέντε (15) άτομα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666699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Η διάρκεια κάθε προγράμματος είναι σαράντα οκτώ (48) ώρες, που κατανέμονται στο χρονικό διάστημα των οκτώ (8) εβδομάδων.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Κάθε επιμορφωτική συνάντηση είναι τρίωρης διάρκειας. Γίνονται δύο τρίωρα την εβδομάδα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95440" y="6186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26960"/>
            <a:ext cx="8763120" cy="62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Οι επιμορφωτικές συναντήσεις γίνονται εκτός σχολικού ωραρίου, ώστε να μην παρεμποδί- ζεται η κανονική λειτουργία των σχολείων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Εφαρμόζεται και εναλλασσόμενο πρόγραμμα για σχολεία με βάρδιες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Τα προγράμματα μπορούν να λειτουργήσουν από Δευτέρα μέχρι Κυριακή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Τμήματα αποτελούμενα από λιγότερους των 10 ή περισσότερους των 15 δε θα λειτουργήσουν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Μητρώα Κ.Σ.Ε. </a:t>
            </a:r>
            <a:br>
              <a:rPr sz="3200"/>
            </a:b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και Επιμορφωτώ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Έχουν καταρτιστεί από το Π.Ι. με βάση τις αιτήσεις φορέων και φυσικών προσώπω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Εμπλουτίζονται περιοδικά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Αναρτώνται στο δικτυακό τόπο του ΥΠΕΠΘ μετά από Υ.Α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Τα κριτήρια για ένταξη στα μητρώα εμφανίζονται στην Πρόσκληση Εκδήλωσης Ενδιαφέροντος16454/ΚΓ/15-2-02 του ΥΠΕΠ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96080" y="2743200"/>
            <a:ext cx="609840" cy="5335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760" y="259092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3366"/>
                </a:solidFill>
                <a:latin typeface="Times New Roman"/>
              </a:rPr>
              <a:t>Έντυπο Αίτησης Φορέα για Κ.Σ.Ε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96080" y="3733920"/>
            <a:ext cx="609840" cy="53316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56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3366"/>
                </a:solidFill>
                <a:latin typeface="Times New Roman"/>
              </a:rPr>
              <a:t>Έντυπο Αίτησης Επιμορφωτή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5029200"/>
            <a:ext cx="6477120" cy="8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3366"/>
                </a:solidFill>
                <a:latin typeface="Arial"/>
              </a:rPr>
              <a:t>Πληροφορίες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ypepth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gr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/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ktp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/home.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ht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Δημόσια Σχολεία – Κ.Σ.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    </a:t>
            </a:r>
            <a:r>
              <a:rPr b="0" lang="el-GR" sz="1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 </a:t>
            </a:r>
            <a:r>
              <a:rPr b="0" i="1" lang="el-GR" sz="2800" spc="-1" strike="noStrike">
                <a:solidFill>
                  <a:srgbClr val="003366"/>
                </a:solidFill>
                <a:latin typeface="Times New Roman"/>
              </a:rPr>
              <a:t>Αμοιβές προσώπων που μετέχουν στο πρόγραμμ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Συντονιστή του προγράμματος, ποσό 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293,50  €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(100.000 δρχ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Καταχωρητή στοιχείων του προγράμματος,   ποσό  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205,40 €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(70.000 δρχ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Εισηγητή - επιμορφωτή (48 ώρες Χ 29,35), ποσό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1.408,80 €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(480.000 δρχ)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Βοηθός εισηγητή - επιμορφωτή, ποσό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587,00 €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(200.000 δρχ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04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Lucida Sans Unicode"/>
              </a:rPr>
              <a:t>Οικονομικά Στοιχ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3366"/>
                </a:solidFill>
                <a:latin typeface="Times New Roman"/>
              </a:rPr>
              <a:t>Αναλώσιμα και Λειτουργικά έξοδ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Επισκευές και συντηρήσεις εξοπλισμού, μέχρι του ποσού των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234,60 €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(80.000 δρχ)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Έντυπα και γραφική ύλη, μέχρι του ποσού των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58,70 €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(20.000 δρχ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Τηλεπικοινωνίες, μέχρι του ποσού των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88,00 €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(30.000 δρχ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Λοιπές παροχές τρίτων, μέχρι του ποσού των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58,70 €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(20.000 δρχ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04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Lucida Sans Unicode"/>
              </a:rPr>
              <a:t>Οικονομικά Στοιχ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36520" y="9144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Δημόσια Σχολεία – Κ.Σ.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04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Lucida Sans Unicode"/>
              </a:rPr>
              <a:t>Οικονομικά Στοιχ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36520" y="9144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Δημόσια Σχολεία – Κ.Σ.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362320"/>
            <a:ext cx="8839080" cy="43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Τα 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ποσά των αναλώσιμων και λειτουργικών εξόδων έχουν προϋπολογισθεί για αριθμό συμμετεχόντων  δέκα (10) ατόμων. Αν ο αριθμός των συμμετεχό- ντων εκπαιδευτικών σε κάθε πρόγραμμα υπερβεί τον αριθμό των δέκα (10) ατόμων και μέχρι το ανώτατο όριο των δεκαπέντε (15), δικαιολογείται  επιπλέον δαπάνη 58,70 € για κάθε εκπαιδευτικό. Το ποσό αυτό κατανέμεται αναλογικά στις παραπάνω κατηγορίες αναλώσιμων και λειτουργικών εξόδων.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3049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Lucida Sans Unicode"/>
              </a:rPr>
              <a:t>Οικονομικά Στοιχεί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7360" y="609480"/>
            <a:ext cx="8756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Λοιπά Κ.Σ.Ε </a:t>
            </a:r>
            <a:br>
              <a:rPr sz="3200"/>
            </a:b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i="1" lang="el-GR" sz="2800" spc="-1" strike="noStrike">
                <a:solidFill>
                  <a:srgbClr val="006666"/>
                </a:solidFill>
                <a:latin typeface="Arial"/>
              </a:rPr>
              <a:t>ΑΕΙ, ΤΕΙ, και λοιποί Δημόσιοι και Ιδιωτικοί φορείς</a:t>
            </a:r>
            <a:r>
              <a:rPr b="1" lang="el-GR" sz="2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362320"/>
            <a:ext cx="82296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Για κάθε πρόγραμμα επιμόρφωσης που υλοποιούν αμείβονται με το συνολικό ποσό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2.934,7 €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(1.000.000 δρχ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Το ποσό αυτό αναφέρεται σε πρόγραμμα που συμμετέχουν υποχρεωτικά δέκα (10) επιμορφούμενοι.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3366"/>
                </a:solidFill>
                <a:latin typeface="Arial"/>
              </a:rPr>
              <a:t>Για κάθε επιπλέον επιμορφούμενο, και μέχρι των δεκαπέντε (15), καταβάλλεται επιπλέον και το ποσό των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58,70 € (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20.000 δρχ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7:25:17Z</dcterms:created>
  <dc:creator>-</dc:creator>
  <dc:description/>
  <dc:language>en-US</dc:language>
  <cp:lastModifiedBy>User</cp:lastModifiedBy>
  <dcterms:modified xsi:type="dcterms:W3CDTF">2002-11-12T11:50:54Z</dcterms:modified>
  <cp:revision>11</cp:revision>
  <dc:subject/>
  <dc:title>Παρουσίαση του PowerPoint</dc:title>
</cp:coreProperties>
</file>