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833-B257-407E-A921-20E31CDE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97D-1052-494C-BAF3-A21112FE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5CB-86BD-4A2A-8027-2A5C66E3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F62-AFF2-4B80-8D36-CC4B4587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164-88A9-40B6-810C-1F640FA3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72B-3686-4E46-9E61-213AD8D2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A0F-1CFA-42BC-A4BA-5CA2098A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53B-B4BB-4BB2-8CB1-DC869627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3E9-F839-4D84-8999-88FFD3C2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193C-FAB5-4552-80B5-D40C4D85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741-E8C3-4ADD-BC52-6D711DF2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891-3E77-4616-8ADD-09646F9D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A311-64C9-453D-B96E-AC12E064F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677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cc0000"/>
                </a:solidFill>
                <a:latin typeface="Times New Roman"/>
              </a:rPr>
              <a:t>Πράξη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«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Επιμόρφωση Εκπαιδευτικών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στην Αξιοποίηση των Τεχνολογιών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της Πληροφορίας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και των Επικοινωνιών (ΤΠΕ)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στην Εκπαίδευση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2286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Επιχειρησιακό Πρόγραμμα Κτ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705720" cy="11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143000" y="4800600"/>
            <a:ext cx="6705720" cy="11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105520"/>
            <a:ext cx="944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Άξονας Προτεραιότητας 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000" spc="-1" strike="noStrike">
                <a:solidFill>
                  <a:srgbClr val="808000"/>
                </a:solidFill>
                <a:latin typeface="Times New Roman"/>
              </a:rPr>
              <a:t>«Παιδεία και Πολιτισμός»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Μέτρο 1.2 </a:t>
            </a:r>
            <a:r>
              <a:rPr b="1" lang="el-GR" sz="3000" spc="-1" strike="noStrike">
                <a:solidFill>
                  <a:srgbClr val="808000"/>
                </a:solidFill>
                <a:latin typeface="Times New Roman"/>
              </a:rPr>
              <a:t>«Εισαγωγή &amp; Αξιοποίηση των ΝΕΤ  στην          Εκπαίδευση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Επιτροπές Επιμόρφωση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Ολοκληρωμένο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Πληροφορικό Σύστημα Διαχείρ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ι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σης (MIS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ητρώ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Πιστοποιημένων Επιμορφωτώ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40000"/>
              </a:lnSpc>
              <a:spcBef>
                <a:spcPts val="901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ητρώ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Πιστοποιημένων Κέντρων Στήριξης Επιμόρφωσης (ΚΣΕ)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 rot="9600">
            <a:off x="-3240" y="-3240"/>
            <a:ext cx="9144000" cy="1297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ΥΠΟΣΤΗΡΙΚΤΙΚΟΙ ΜΗΧΑΝΙΣΜΟ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 rot="9600">
            <a:off x="-1440" y="-1080"/>
            <a:ext cx="9142200" cy="1752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ΟΡΓΑΝΩΤΙΚΗ ΔΟΜΗ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ΓΙΑ ΤΗΝ ΥΛΟΠΟΙΗΣΗ ΤΟΥ ΕΡΓΟ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ΣΕ ΔΥΟ ΕΠΙΠΕΔ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057400"/>
            <a:ext cx="8915400" cy="46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808000"/>
              </a:buClr>
              <a:buSzPct val="60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Κ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ΕΝΤΡΙΚ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ΠΙΠΕΔΟ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Σχεδιασμός - Διοίκηση - Οργάνωση - Εποπτεί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808000"/>
              </a:buClr>
              <a:buSzPct val="60000"/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Π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ΕΡΙΦΕΡ</a:t>
            </a:r>
            <a:r>
              <a:rPr b="1" lang="el-GR" sz="4000" spc="-1" strike="noStrike">
                <a:solidFill>
                  <a:srgbClr val="cc0000"/>
                </a:solidFill>
                <a:latin typeface="Times New Roman"/>
              </a:rPr>
              <a:t>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ΙΑΚΟ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Ε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ΠΙΠΕΔΟ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Αποκέντρωση δραστηριοτήτω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Μεταβίβαση αρμοδιοτήτων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ιοίκησης,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ο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ργάνωσης και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ποπτεία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σε τοπικό επίπεδ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 rot="9600">
            <a:off x="0" y="0"/>
            <a:ext cx="9142560" cy="839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ΠΕΡΙΓΡΑΦΗ &amp; ΣΤΟΧΟΣ ΤΗΣ ΠΡΑΞΗ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838080"/>
            <a:ext cx="8610480" cy="61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Να μπορούν οι επιμορφωμένοι εκπαιδευτικοί να αξιολογούν και να χρησιμοποιούν αποδοτικά τις δυνατότητες που προσφέρουν οι ΤΠΕ για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Ποιοτική βελτίωση της διαδικασίας της διδασκαλίας και της μάθησης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Ενεργή συμμετοχή τους σε κοινότητες μάθηση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Επαγγελματική εξέλιξη και βελτίωση της απόδοσής του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Επιτυχή συμμετοχή στη διαδικασία πιστοποίησης που ακολουθεί το πρόγραμμα επιμόρφωση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 rot="9600">
            <a:off x="0" y="0"/>
            <a:ext cx="9142560" cy="839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ΣΕ ΠΟΙΟΥΣ ΑΠΕΥΘΥΝΕΤΑ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9600">
            <a:off x="-34920" y="3622680"/>
            <a:ext cx="9142560" cy="762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ΠΟΣΟ ΘΑ ΔΙΑΡΚΕΣΕΙ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762120"/>
            <a:ext cx="85345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Αντικείμενο της πράξης είναι η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επιμόρφωση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76.000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μόνιμων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αναπληρωτών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εκπαιδευτικών όλων των κλαδων και ειδικοτήτων της Πρωτοβάθμιας και Δευτεροβάθμιας Εκπαίδευση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4465800"/>
            <a:ext cx="9144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Τα προγράμματα επιμόρφωσης θα υλοποιηθούν στο χρονικό διάστημα από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1-3-200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μέχρι τις    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</a:rPr>
              <a:t>31-12-2003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σε περιόδους επιμόρφωσης που θα καθορίζονται κεντρικά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cc0000"/>
                </a:solidFill>
                <a:latin typeface="Times New Roman"/>
              </a:rPr>
              <a:t>Α΄ </a:t>
            </a:r>
            <a:r>
              <a:rPr b="1" i="1" lang="el-GR" sz="4000" spc="-1" strike="noStrike">
                <a:solidFill>
                  <a:srgbClr val="cc0000"/>
                </a:solidFill>
                <a:latin typeface="Times New Roman"/>
              </a:rPr>
              <a:t>φάση έργο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Αντιστοιχεί στη διεξαγωγή του </a:t>
            </a:r>
            <a:r>
              <a:rPr b="1" lang="el-GR" sz="4000" spc="-1" strike="noStrike">
                <a:solidFill>
                  <a:srgbClr val="000000"/>
                </a:solidFill>
                <a:latin typeface="Times New Roman"/>
              </a:rPr>
              <a:t>προγράμματος επιμόρφωση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600" spc="-1" strike="noStrike">
                <a:solidFill>
                  <a:srgbClr val="cc0000"/>
                </a:solidFill>
                <a:latin typeface="Times New Roman"/>
              </a:rPr>
              <a:t>Β΄ </a:t>
            </a:r>
            <a:r>
              <a:rPr b="1" i="1" lang="el-GR" sz="4000" spc="-1" strike="noStrike">
                <a:solidFill>
                  <a:srgbClr val="cc0000"/>
                </a:solidFill>
                <a:latin typeface="Times New Roman"/>
              </a:rPr>
              <a:t>φάση έργο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Αντιστοιχεί στην </a:t>
            </a:r>
            <a:r>
              <a:rPr b="1" lang="el-GR" sz="4000" spc="-1" strike="noStrike">
                <a:solidFill>
                  <a:srgbClr val="000000"/>
                </a:solidFill>
                <a:latin typeface="Times New Roman"/>
              </a:rPr>
              <a:t>πιστοποίηση των δεξιοτήτων</a:t>
            </a:r>
            <a:r>
              <a:rPr b="1" i="1" lang="el-G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 rot="9600">
            <a:off x="-5040" y="-3240"/>
            <a:ext cx="9134280" cy="8413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Times New Roman"/>
              </a:rPr>
              <a:t>ΥΛΟΠΟΙΗΣΗ ΣΕ 2 ΦΑΣΕΙ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 rot="9600">
            <a:off x="-1800" y="-1080"/>
            <a:ext cx="9142200" cy="839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ff"/>
                </a:solidFill>
                <a:latin typeface="Times New Roman"/>
              </a:rPr>
              <a:t>ΠΕΡΙΕΧΟΜΕΝΟ ΤΗΣ ΕΠΙΜΟΡΦΩΣΗ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838080"/>
            <a:ext cx="8686800" cy="58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Εισαγωγικές έννοιες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της Πληροφορική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Βασικά στοιχεία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χρήσης προσωπικού Η/Υ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Χρήση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επεξεργαστή κειμένου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Χρήση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υπολογιστικών φύλλων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Χρήση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λογισμικού παρουσίαση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Διαδίκτυο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και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Επικοινωνίε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cc0000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Αξιοποίηση των ΤΠΕ στην εκπαιδευτική     διαδικασία -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Εκπαιδευτικό Λογισμικό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 rot="9600">
            <a:off x="-1080" y="-1080"/>
            <a:ext cx="9144000" cy="915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ΟΡΓΑΝΩΤΙΚΗ ΔΟΜ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562720"/>
            <a:ext cx="3124080" cy="106884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Σχολείο Α/θμιας ή Β/θμια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990720"/>
            <a:ext cx="9144000" cy="5640840"/>
            <a:chOff x="0" y="990720"/>
            <a:chExt cx="9144000" cy="5640840"/>
          </a:xfrm>
        </p:grpSpPr>
        <p:sp>
          <p:nvSpPr>
            <p:cNvPr id="59" name=""/>
            <p:cNvSpPr/>
            <p:nvPr/>
          </p:nvSpPr>
          <p:spPr>
            <a:xfrm>
              <a:off x="0" y="2819520"/>
              <a:ext cx="9144000" cy="5205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Τεχνικοί </a:t>
              </a:r>
              <a:r>
                <a:rPr b="1" lang="el-GR" sz="2800" spc="-1" strike="noStrike">
                  <a:solidFill>
                    <a:srgbClr val="cc0000"/>
                  </a:solidFill>
                  <a:latin typeface="Times New Roman"/>
                </a:rPr>
                <a:t>Επιστημονικοί 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Σύμβουλοι: ΠΙ &amp; </a:t>
              </a:r>
              <a:r>
                <a:rPr b="1" lang="el-GR" sz="2800" spc="-1" strike="noStrike">
                  <a:solidFill>
                    <a:srgbClr val="cc0000"/>
                  </a:solidFill>
                  <a:latin typeface="Times New Roman"/>
                </a:rPr>
                <a:t>ΕΑΙΤ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114800"/>
              <a:ext cx="5943600" cy="58140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Τοπική Επιτροπή Επιμόρφωση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105520" y="5562720"/>
              <a:ext cx="3657600" cy="106884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Κέντρο Στήριξης Επιμόρφωση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3352680"/>
              <a:ext cx="0" cy="77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5105520" y="3352680"/>
              <a:ext cx="0" cy="77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523520" y="4724280"/>
              <a:ext cx="1676520" cy="85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2362320" y="4724280"/>
              <a:ext cx="1676160" cy="85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7800" y="4724280"/>
              <a:ext cx="1676520" cy="85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6400800" y="4723920"/>
              <a:ext cx="144792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1280" y="990720"/>
              <a:ext cx="2057400" cy="5205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ΥΠΕΠ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1523880"/>
              <a:ext cx="0" cy="38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81280" y="1905120"/>
              <a:ext cx="2057400" cy="520560"/>
            </a:xfrm>
            <a:prstGeom prst="rect">
              <a:avLst/>
            </a:prstGeom>
            <a:gradFill rotWithShape="0">
              <a:gsLst>
                <a:gs pos="0">
                  <a:srgbClr val="75755e"/>
                </a:gs>
                <a:gs pos="5000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cc0000"/>
                  </a:solidFill>
                  <a:latin typeface="Times New Roman"/>
                </a:rPr>
                <a:t>ΚΕΕΤΠΕ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0" y="2438280"/>
              <a:ext cx="0" cy="38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 rot="9600">
            <a:off x="-4680" y="-4320"/>
            <a:ext cx="9142200" cy="1527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ΕΠΙΣΤΗΜΟΝΙΚΟΣ ΥΠΕΥΘΥΝΟΣ ΠΡΑΞΗ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2133720"/>
            <a:ext cx="739152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0000"/>
                </a:solidFill>
                <a:latin typeface="Times New Roman"/>
              </a:rPr>
              <a:t>Δημήτριος  Παπαϊωάννου</a:t>
            </a: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Times New Roman"/>
              </a:rPr>
              <a:t>Ειδικός Γραμματέας Σπουδών Επιμόρφωσης και Καινοτομιών του ΥΠΕΠ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 rot="9600">
            <a:off x="-1800" y="-1080"/>
            <a:ext cx="9142200" cy="8395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ΚΕΕΤΠ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91440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cc0000"/>
                </a:solidFill>
                <a:latin typeface="Times New Roman"/>
              </a:rPr>
              <a:t>Πρόεδρο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Δ. Παπαϊωάννου, Ειδικός Γραμματέας Σπουδών Επιμόρφωσης και Καινοτομιών του ΥΠΕΠΘ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cc0000"/>
                </a:solidFill>
                <a:latin typeface="Times New Roman"/>
              </a:rPr>
              <a:t>Μέλη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Ν. Σπυρέλλης, Αντιπρόεδρος ΠΙ, Καθηγητής ΕΜΠ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Χ. Ζαγούρας, Διευθυντής Τομέα Επιμόρφωσης και Κατάρτισης του ΕΑΙΤΥ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126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400" spc="-1" strike="noStrike">
                <a:solidFill>
                  <a:srgbClr val="000000"/>
                </a:solidFill>
                <a:latin typeface="Times New Roman"/>
              </a:rPr>
              <a:t>Ε. Παναγιωτόπουλος, Διευθύνων Σύμβουλος, Εκπρόσωπος της ΚτΠ ΑΕ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Στις περιοχές ευθύνης του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συντονίζουν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601"/>
              </a:spcBef>
              <a:buClr>
                <a:srgbClr val="808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Τις  Επιτροπές Επιμόρφωσης (Ε.Ε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601"/>
              </a:spcBef>
              <a:buClr>
                <a:srgbClr val="808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Τα Προγράμματα Επιμόρφωσης και την παροχή Υπηρεσιών από Απόστασ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601"/>
              </a:spcBef>
              <a:buClr>
                <a:srgbClr val="808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Τη λειτουργία υποστηρικτικών μηχανισμών (Help Desk) μέσω ηλεκ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ρονικού κόμβ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601"/>
              </a:spcBef>
              <a:buClr>
                <a:srgbClr val="808000"/>
              </a:buClr>
              <a:buFont typeface="Monotype Sor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Την Προώθηση και Διάδοση του έργου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 rot="9600">
            <a:off x="-231480" y="453960"/>
            <a:ext cx="9144000" cy="2440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ΦΟΡΕΙΣ ΤΕΧΝΙΚΗΣ </a:t>
            </a:r>
            <a:r>
              <a:rPr b="1" lang="el-GR" sz="4800" spc="-1" strike="noStrike">
                <a:solidFill>
                  <a:srgbClr val="ffffff"/>
                </a:solidFill>
                <a:latin typeface="Times New Roman"/>
              </a:rPr>
              <a:t>&amp; ΕΠΙΣΤΗΜΟΝΙΚΗΣ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ΥΠΟΣΤΗΡΙΞΗΣ (ΠΙ &amp; ΕΑΙΤΥ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2:57:06Z</dcterms:created>
  <dc:creator>Winuser</dc:creator>
  <dc:description/>
  <dc:language>en-US</dc:language>
  <cp:lastModifiedBy>User</cp:lastModifiedBy>
  <dcterms:modified xsi:type="dcterms:W3CDTF">2002-11-12T11:38:00Z</dcterms:modified>
  <cp:revision>58</cp:revision>
  <dc:subject/>
  <dc:title>Χωρίς τίτλο διαφάνειας</dc:title>
</cp:coreProperties>
</file>