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7C3-C7F3-4485-9AC8-32222F0A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F32-CC55-44E6-9A1F-86DEDDC3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B7A-4C9C-4CEA-BF2A-A05EE58B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A55-3212-4497-98FA-11917FDD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D402-7B20-4865-8C34-DBF4CEAF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0D5-B172-4AAC-8467-39F5F106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6038-D653-4764-A041-8125B2C1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AD28-11A8-435F-A6A8-0FB8E5FE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9F9A-C826-49B1-819C-9436DB3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A919-C163-4710-8A40-04E3DDC9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53B4-1B71-4762-90E2-70B3942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267-9A11-4C96-8005-15AD38E3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1BAF-A9A9-448E-BDB4-8DA89071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D310-B21A-4084-A6D7-4F40E638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1AF-0116-4031-9367-DF0BC94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EA4D-BE23-4698-BE15-729702D6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163B-851B-4783-B84D-77F480AC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8BB-9748-462D-9394-06844172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99B-1294-4848-AEBA-F4385E55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F4C-7A84-4040-9907-9DD2836A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A42-6F8D-4DFF-9D55-4BE13671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4F9-61F5-44F4-86C3-C39DF8A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143-971B-4ADF-B551-C7CBF6D1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683-1580-4C29-81B6-D7DFF644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C3A0-DA34-4B6A-B5D6-4230BDB1A890}" type="slidenum">
              <a:rPr b="0" lang="el-G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B976-DBA3-4DC0-876B-12E191393287}" type="slidenum">
              <a:rPr b="0" lang="el-G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990360" y="330948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000" spc="-1" strike="noStrike">
                <a:solidFill>
                  <a:srgbClr val="40458c"/>
                </a:solidFill>
                <a:latin typeface="Tahoma"/>
              </a:rPr>
              <a:t>Διαδικασία υλοποίησης Προγραμμάτων Επιμόρφωσης από τα ΚΣ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9" name="BD14578_" descr=""/>
          <p:cNvPicPr/>
          <p:nvPr/>
        </p:nvPicPr>
        <p:blipFill>
          <a:blip r:embed="rId1"/>
          <a:stretch/>
        </p:blipFill>
        <p:spPr>
          <a:xfrm>
            <a:off x="990720" y="1542960"/>
            <a:ext cx="14475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11430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Παρακολουθούν τη συμπλήρωση των εντύπων που αφορούν την ημερήσια παρουσία των επιμορφωτών και των επιμορφουμένων, σε ωριαία βάση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Lucida Sans Unicode"/>
              </a:rPr>
              <a:t>Οι υπεύθυνοι των πιστοποιημένων ΚΣΕ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8080" y="1981080"/>
            <a:ext cx="754380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Αποστέλλουν στην Ε.Ε. </a:t>
            </a:r>
            <a:r>
              <a:rPr b="0" lang="el-GR" sz="3200" spc="-1" strike="noStrike">
                <a:solidFill>
                  <a:srgbClr val="000066"/>
                </a:solidFill>
                <a:latin typeface="Tahoma"/>
              </a:rPr>
              <a:t>φάκελο ολοκλήρωσης για κάθε πρόγραμμα που έχει υλοποιηθεί στο ΚΣΕ ευθύνης τους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ffcc00"/>
              </a:buClr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049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Lucida Sans Unicode"/>
              </a:rPr>
              <a:t>Οι υπεύθυνοι των πιστοποιημένων ΚΣΕ μετά τη λήξη κάθε επιμορφωτικού προγράμματος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Ο φάκελος ολοκλήρωσης περιέχει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α) Έντυπο έκθεσης ολοκλήρωσης προγράμματος για επιμορφούμενους (Ε1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β) Έντυπο έκθεσης ολοκλήρωσης προγράμματος για επιμορφωτές (Ε12α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γ) Ακριβές αντίγραφο του παρουσιολογίου επιμορφωτών (Ε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δ) Ακριβή αντίγραφα των 16 παρουσιολογίων επιμορφούμενων (Ε1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66"/>
                </a:solidFill>
                <a:latin typeface="Tahoma"/>
              </a:rPr>
              <a:t>ε) Το σύνολο των ερωτηματολογίων εσωτερικής αξιολόγησης (Ε1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43:53Z</dcterms:created>
  <dc:creator>-</dc:creator>
  <dc:description/>
  <dc:language>en-US</dc:language>
  <cp:lastModifiedBy>User</cp:lastModifiedBy>
  <dcterms:modified xsi:type="dcterms:W3CDTF">2002-11-13T09:48:49Z</dcterms:modified>
  <cp:revision>8</cp:revision>
  <dc:subject/>
  <dc:title>Παρουσίαση του PowerPoint</dc:title>
</cp:coreProperties>
</file>