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6F2-372D-490A-8E37-DCD1BE24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100B-8865-4DE1-9440-117D3D0A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600-4769-4BFA-B062-50ABC189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5EA-93CE-4C65-88BD-F0BC7D8A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C960-D203-4515-9A6C-966CDD3E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73B7-ACEE-4676-8D45-A609DC3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DB7-4444-4C80-8F12-B1CF1ACC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CC38-B4B0-47A4-96A5-D863FD77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E873-CFFA-40BB-8757-35A068FE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4289-1B38-46E7-B589-C2D3BBA5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1CB5-DEEC-4EC3-A052-C233400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BF5-1B0B-4BEB-9B60-A4D29B2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BD9-C722-4228-9D55-28032C9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D51B-415C-416F-9FE7-72E38293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A6ED-0109-4473-9B74-BE2827E2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B775-4A96-460C-AF83-2AA53AC0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E516-C9B5-4E45-AA7C-9876F2FC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801-2A2B-4081-BCE3-BA9C95CF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212-1B2D-4A99-944E-42A4F708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61C-E395-4A78-8D14-215E11BA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8377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62C-9157-46D4-BB91-EEBA1F0F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44B-933D-4B94-A5F3-B8174694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ADB-939D-4627-88AE-D6A332AB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8366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5AE-11EF-4887-81A5-FB1D3E82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EAE6-40A9-4310-8DCD-D5DA18360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7435-0DCA-46C6-A3F5-FFE586DC6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34290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οδέκτες της Πρόσκλ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ΕΙ, Τ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νστιτούτο Διαρκούς Εκπαίδευ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θνικό Κέντρο Δημόσιας Διοίκησ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στημονικές Ενώσ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ευνητικά Ινστιτούτα, Πανεπιστημιακά Ινστιτού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ΕΚ (δημόσια, ιδιωτικά) με ειδικότητα Πληροφορική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ΕΚ (δημόσια, ιδιωτικά) πιστοποιημένα στον Τομέα της Πληροφορικής από το Υπ. Εργασ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όσια Σχολε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διωτικά Σχολεί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ριτήρια Πιστοποί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α ανήκει ο φορέας στους Αποδέκτες της πρόσκλ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γραφή από το νόμιμο εκπρόσωπ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ξοπλισμό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έκα τουλάχιστον Υπολογιστέ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23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Hz, MM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Έγχρωμη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(ISD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ραμμ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64 Kbits/se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λληνικό περιβάλλον εργασίας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indows-Off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ημόσιοι φορεί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Ιδιωτικοί φορεί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ωδικοποίηση του ΚΣΕ από αρχικό κατάλογο προ-πιστοποίησης του Π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Έλεγχος κατά την Τελική Πιστοποίηση από την Ε.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304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Lucida Sans Unicode"/>
              </a:rPr>
              <a:t>Διαδικασία Πιστοποίησης Κ.Σ.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23720" y="30492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ΠΑΡΑΤΗΡΗΣΕΙΣ ΣΧΕΤΙΚΕΣ ΜΕ ΤΑ ΚΣ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Στη λίστα των προ-πιστοποιημένων ΚΣΕ, περιλαμβάνονται όλοι οι φορείς π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νήκουν στους αποδέκτες της πρόσκλησ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χουν υποβάλλει αίτηση, η οποία έχει πάρει αριθμό πρωτοκόλλου μέχρι την ημερομηνία που ορίστηκε από την ΚΕΕΤΠΕ για ανανέωση του Μητρώο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Έχουν τουλάχιστον μία αίθουσα εξοπλισμένη σύμφωνα με τις προδιαγραφλες του έργ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Lucida Sans Unicode"/>
              </a:rPr>
              <a:t>ΠΑΡΑΤΗΡΗΣΕΙΣ ΣΧΕΤΙΚΕΣ ΜΕ ΤΑ ΚΣ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Στην περίπτωση που διαπιστωθεί ότι ένας φορέας διαθέτει περισσότερες από μία αίθουσες για την επιμόρφωση, αυτές καταγράφονται από την Ε.Ε. και ενημερώνεται η ΚΕΕΤΠΕ μέσω του Π.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έπει να επισημαίνεται κάθε περίπτωση αίθουσας που φαίνεται να μη πληρεί πλήρως κάποιες από τις προδιαγραφές της πράξης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άδεια λειτουργίας, υπενοικίαση, χρονομίσθωση, διαφορετική τεχνολογική υποδομή κτ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09:04:17Z</dcterms:created>
  <dc:creator>g</dc:creator>
  <dc:description/>
  <dc:language>en-US</dc:language>
  <cp:lastModifiedBy>User</cp:lastModifiedBy>
  <dcterms:modified xsi:type="dcterms:W3CDTF">2002-11-12T11:47:31Z</dcterms:modified>
  <cp:revision>24</cp:revision>
  <dc:subject/>
  <dc:title>PowerPoint Presentation</dc:title>
</cp:coreProperties>
</file>