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E28-8CE7-4719-A35D-75C8CF0D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2C1-8371-4DB6-85EC-CBF894B6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AD3-2627-4DF8-85E9-D9C66C78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F0A-6D31-4F8D-A3A9-25B4D688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D95F-4919-43E2-87A0-F9A72A3F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FBA8-B686-45ED-93F2-6C05C0C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74C-6B44-49DF-BA3B-C0AB5E58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863F-8AF5-47AA-B3C2-8BEFEDD7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4E15-521A-4E65-85DD-204B187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0A77-3403-4494-821A-CE9D5CC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3B14-B9BF-472B-BD95-58E6B28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BA6-9F5E-481F-8A9D-75348AD6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7B71-F7C5-4DC7-9DC5-829830A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7E67-8B4F-4E04-88CE-D6DE997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0AB5-998F-4A83-AD7B-63AF6644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DCE7-CBC4-4A1E-99DC-67D9CA8B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74A2-3ECF-4D89-BFE0-CC788737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329-C6C7-467E-B20E-BAAED746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A9E-2ABD-498E-B35F-11546D6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E31-F832-4841-B109-926F3507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C9D-1DAF-4DC8-96CF-796BF1E9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56A-2035-4CC3-92F5-C27DB75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62A-47ED-4DE7-A3DE-F84C936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212-42F4-4799-B805-7821D3B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AEC-6F00-417A-8EA2-A9CE0E972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95B-03D3-40EB-8379-E410EDD1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96960"/>
            <a:ext cx="62485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αταχώρησης Αιτήσεων και Κλήρωσης Εκπαιδευτικών στα Προγράμματα Επιμόρφωσης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αταχώρησης Αιτήσεων</a:t>
            </a:r>
            <a:r>
              <a:rPr b="1" i="1" lang="en-US" sz="44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2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Με ευθύνη του Δ/ντή της Σχολικής Μονάδας εισάγονται τα δεδομένα στο Πληροφοριακό Σύστημα Διαχείρισης(MIS).</a:t>
            </a:r>
            <a:r>
              <a:rPr b="0" lang="el-GR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Η επιλογή των επιμορφούμενων γίνεται με ηλεκτρονική κλήρωσ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95440" y="618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04920"/>
            <a:ext cx="762012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Οι εκπαιδευτικοί που δεν ικανοποιήθηκαν οι προτιμήσεις τους, κατατάσσονται ως επιλαχόν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Αν τελικά δεν επιλεγούν, θα μπορούν να υποβάλλουν εκ νέου αίτηση για τις επόμενες περιόδους επιμόρφωση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Εκπαιδευτικός που έχει επιλεγεί, αν δεν προσέλθει αδικαιολογήτως, αντικαθίσταται από επιλαχόντα και δεν έχει δικαίωμα υποβολής αίτησης εκ νέο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Μετά την ολοκλήρωση της καταχώρησης των στοιχείων στην εφαρμογή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Μ.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.S)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, αυτά παραλαμβάνονται ηλεκτρονικά από τον τεχνικό σύμβουλο (Π.Ι.), ώστε να εξεταστεί η ακεραιότητα και η πληρότητά τους πριν την διεξαγωγή της κλήρωσ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" y="241920"/>
            <a:ext cx="815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αταχώρησης Αιτήσεων</a:t>
            </a:r>
            <a:r>
              <a:rPr b="1" i="1" lang="en-US" sz="44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391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Πραγματοποιείται η ηλεκτρονική κλήρωση δημόσ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Η Ε.Ε. ορίζει την καταληκτική ημερομηνία εγγραφών των εκπαιδευτικών στα Κ.Σ.Ε. η οποία πρέπει να είναι τουλάχιστον πέντε (5) ημέρες πριν από την έναρξη του πρώτου προγράμματος στην περιοχή ευθύνης της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331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λήρωσης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Ενημέρωση Ενδιαφερομένων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Η Ε.Ε. αποστέλλει το έντυπο Ε7 στις σχολικές μονάδες για να ενημερωθούν για τα αποτελέσματα της κλήρωσης. Στο έντυπο Ε7 υπάρχει η ένδειξη (επιτυχών, επιλαχών) για κάθε εκπαιδευτικό που είχε υποβάλλει αίτησ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Η Ε.Ε. αποστέλλει το έντυπο Ε8 στα ΚΣΕ των οποίων τα προγράμματα θα λειτουργήσουν σύμφωνα με τις αιτήσεις των εκπαιδευτικών της περιοχ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Οι εκπαιδευτικοί που έχουν υποβάλλει αίτηση για πρόγραμμα επιμόρφωσης, έχουν την δυνατότητα να πληροφορηθούν την επιτυχία τους μέσω του Μ.Ι.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.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εισερχόμενοι από την αρχική σελίδα «Είσοδος  Εκπαιδευτικών» </a:t>
            </a:r>
            <a:r>
              <a:rPr b="0" lang="el-GR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 Καρτέλα Εκπαιδευτικού συμπληρώνοντας τον  Αριθμό Μητρώου 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01:43Z</dcterms:created>
  <dc:creator>-</dc:creator>
  <dc:description/>
  <dc:language>en-US</dc:language>
  <cp:lastModifiedBy>User</cp:lastModifiedBy>
  <dcterms:modified xsi:type="dcterms:W3CDTF">2002-11-13T10:01:13Z</dcterms:modified>
  <cp:revision>5</cp:revision>
  <dc:subject/>
  <dc:title>Παρουσίαση του PowerPoint</dc:title>
</cp:coreProperties>
</file>