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D14-52E8-4951-BBB3-662727AD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245-5831-4734-8950-CC47F7C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89D-BAC0-4266-A637-ECBDA79E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C8C-BF35-44E9-AAAB-F9325F8D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068-3641-4105-9BDC-3949C4DF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4F2-2BA5-4C24-BAFC-C17FF11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320-F958-40A3-B7BD-B661E0EC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317-FEC7-4372-B4D9-C18D5E46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B67-6CBB-4A70-9321-E8B7CD5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DAE-F7DE-47E3-B5BB-530C970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AF6-ECD5-4D83-A583-B7BEA43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545-2E7C-4D0B-A281-CCB1639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8A4-EA01-4A45-A3E5-356295012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 rot="9600">
            <a:off x="1440" y="457200"/>
            <a:ext cx="914256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ΕΡΙΦΕΡ</a:t>
            </a:r>
            <a:r>
              <a:rPr b="1" lang="el-GR" sz="4000" spc="-1" strike="noStrike">
                <a:solidFill>
                  <a:srgbClr val="3366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ΙΑΚΟ </a:t>
            </a: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ΠΙΠΕΔ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8686800" cy="410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Αποκέντρωση δραστηριοτήτω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Μεταβίβαση αρμοδιοτήτω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ιοίκησης, </a:t>
            </a: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ργάνωσης κα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ποπτεία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σε τοπικό επίπεδ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09160" y="1219320"/>
            <a:ext cx="8629560" cy="541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107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Ο συντονιστής, τα μέλη και οι γραμματείς ορίζονται με Υ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ουργική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όφασ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υμμετέχουν στο συντονισμό των δραστηριοτήτων του έργου στα όρια ευθύνης του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νθαρρύνουν και διευκολύνουν τα σχολεία να οργανώσουν την επιμόρφωση του προσωπικού του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νημερώνουν τις σχολικές μονάδες για τα προγράμματα επιμόρφωσης που προσφέρονται από τα ΚΣ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 rot="9600">
            <a:off x="9000" y="30456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629560" cy="541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ργανώνουν εκδηλώσεις ενημέρωσης, διάδοσης και προώθησης των αποτελεσμάτων του έργο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Πιστοποιούν τα ΚΣΕ της περιοχής τους βάσει των κτιριακών προδιαγραφών και του εργαστηριακού εξοπλισμού του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62956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Κρατούν  ενήμερους τους Τεχνικούς &amp; Επιστημονικούς Συμβούλους  ΠΙ ή  ΕΑΙΤΥ για την πορεία υλοποίησης των προγραμμάτω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εριμνούν για την άμεση αποστολή των εκθέσεων ολοκλήρωσής του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οπτεύουν την καλή εκτέλεση του  έργου των ΚΣ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Υπογράφουν τις βεβαιώσεις παρακολούθησης που εκδίδουν τα ΚΣ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62956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10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Τηρούν αρχεία πιστοποιημένων ΚΣΕ, επιμορφωτών, επιμορφωμένων και πιστοποιημένων  εκπαιδευτικών της περιφερείας του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10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Συντάσσουν έκθεση πεπραγμένων και προτείνουν  τροποποιήσεις για τη βελτίωση της επιμόρφωση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2:57:06Z</dcterms:created>
  <dc:creator>Winuser</dc:creator>
  <dc:description/>
  <dc:language>en-US</dc:language>
  <cp:lastModifiedBy>User</cp:lastModifiedBy>
  <dcterms:modified xsi:type="dcterms:W3CDTF">2002-11-12T11:44:41Z</dcterms:modified>
  <cp:revision>54</cp:revision>
  <dc:subject/>
  <dc:title>Χωρίς τίτλο διαφάνειας</dc:title>
</cp:coreProperties>
</file>