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501-3908-4B67-A5D5-034B6C52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EF8-B382-4E28-90FA-BE4F2613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1B2-BAB8-4D1D-8877-8BBEC78D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3AF-4B19-4982-9DC0-B053E4E8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7E7-8923-4775-A932-29F94D66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007-D201-4903-B742-852F86B4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B3D-1A4E-4A49-BAEB-B66402DC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752-230A-45E8-828E-3404AC9E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C3B-48D5-48FF-BFD2-0D15745B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D4D-2E34-4AC8-8B1A-206A3F0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754-93DA-4309-82FB-24122B3A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F2B-A210-4E38-AEC8-A3091CB8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FD24-0038-4C5D-8AAF-D43273FF1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677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c0000"/>
                </a:solidFill>
                <a:latin typeface="Times New Roman"/>
              </a:rPr>
              <a:t>Πράξη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«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Επιμόρφωση Εκπαιδευτικών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στην Αξιοποίηση των Τεχνολογιών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της Πληροφορίας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και των Επικοινωνιών (ΤΠΕ)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στην Εκπαίδευση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Επιχειρησιακό Πρόγραμμα Κτ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705720" cy="11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43000" y="4800600"/>
            <a:ext cx="6705720" cy="11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105520"/>
            <a:ext cx="944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Άξονας Προτεραιότητας 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000" spc="-1" strike="noStrike">
                <a:solidFill>
                  <a:srgbClr val="808000"/>
                </a:solidFill>
                <a:latin typeface="Times New Roman"/>
              </a:rPr>
              <a:t>«Παιδεία και Πολιτισμός»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Μέτρο 1.2 </a:t>
            </a:r>
            <a:r>
              <a:rPr b="1" lang="el-GR" sz="3000" spc="-1" strike="noStrike">
                <a:solidFill>
                  <a:srgbClr val="808000"/>
                </a:solidFill>
                <a:latin typeface="Times New Roman"/>
              </a:rPr>
              <a:t>«Εισαγωγή &amp; Αξιοποίηση των ΝΕΤ  στην          Εκπαίδευση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Επιτροπές Επιμόρφωση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Ολοκληρωμένο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Πληροφορικό Σύστημα Διαχείρ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σης (MI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ητρώ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Πιστοποιημένων Επιμορφωτώ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ητρώ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Πιστοποιημένων Κέντρων Στήριξης Επιμόρφωσης (ΚΣΕ)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 rot="9600">
            <a:off x="-3240" y="-3240"/>
            <a:ext cx="9144000" cy="1297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ΥΠΟΣΤΗΡΙΚΤΙΚΟΙ ΜΗΧΑΝΙΣΜΟ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 rot="9600">
            <a:off x="-1440" y="-1080"/>
            <a:ext cx="9142200" cy="1752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ΟΡΓΑΝΩΤΙΚΗ ΔΟΜ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ΓΙΑ ΤΗΝ ΥΛΟΠΟΙΗΣΗ ΤΟΥ ΕΡΓΟ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ΣΕ ΔΥΟ ΕΠΙΠΕΔ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057400"/>
            <a:ext cx="891540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808000"/>
              </a:buClr>
              <a:buSzPct val="60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l-GR" sz="4400" spc="-1" strike="noStrike">
                <a:solidFill>
                  <a:srgbClr val="cc0000"/>
                </a:solidFill>
                <a:latin typeface="Times New Roman"/>
              </a:rPr>
              <a:t>Κ</a:t>
            </a:r>
            <a:r>
              <a:rPr b="1" lang="el-GR" sz="4000" spc="-1" strike="noStrike">
                <a:solidFill>
                  <a:srgbClr val="cc0000"/>
                </a:solidFill>
                <a:latin typeface="Times New Roman"/>
              </a:rPr>
              <a:t>ΕΝΤΡΙΚΟ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4400" spc="-1" strike="noStrike">
                <a:solidFill>
                  <a:srgbClr val="cc0000"/>
                </a:solidFill>
                <a:latin typeface="Times New Roman"/>
              </a:rPr>
              <a:t>Ε</a:t>
            </a:r>
            <a:r>
              <a:rPr b="1" lang="el-GR" sz="4000" spc="-1" strike="noStrike">
                <a:solidFill>
                  <a:srgbClr val="cc0000"/>
                </a:solidFill>
                <a:latin typeface="Times New Roman"/>
              </a:rPr>
              <a:t>ΠΙΠΕΔΟ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Σχεδιασμός - Διοίκηση - Οργάνωση - Εποπτεί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808000"/>
              </a:buClr>
              <a:buSzPct val="60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l-GR" sz="4400" spc="-1" strike="noStrike">
                <a:solidFill>
                  <a:srgbClr val="cc0000"/>
                </a:solidFill>
                <a:latin typeface="Times New Roman"/>
              </a:rPr>
              <a:t>Π</a:t>
            </a:r>
            <a:r>
              <a:rPr b="1" lang="el-GR" sz="4000" spc="-1" strike="noStrike">
                <a:solidFill>
                  <a:srgbClr val="cc0000"/>
                </a:solidFill>
                <a:latin typeface="Times New Roman"/>
              </a:rPr>
              <a:t>ΕΡΙΦΕΡΕΙΑΚΟ </a:t>
            </a:r>
            <a:r>
              <a:rPr b="1" lang="el-GR" sz="4400" spc="-1" strike="noStrike">
                <a:solidFill>
                  <a:srgbClr val="cc0000"/>
                </a:solidFill>
                <a:latin typeface="Times New Roman"/>
              </a:rPr>
              <a:t>Ε</a:t>
            </a:r>
            <a:r>
              <a:rPr b="1" lang="el-GR" sz="4000" spc="-1" strike="noStrike">
                <a:solidFill>
                  <a:srgbClr val="cc0000"/>
                </a:solidFill>
                <a:latin typeface="Times New Roman"/>
              </a:rPr>
              <a:t>ΠΙΠΕΔΟ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Αποκέντρωση δραστηριοτήτω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Μεταβίβαση αρμοδιοτήτω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διοίκησης, οργάνωσης και εποπτεία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σε τοπικό επίπεδ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 rot="9600">
            <a:off x="0" y="0"/>
            <a:ext cx="9142560" cy="839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ΠΕΡΙΓΡΑΦΗ &amp; ΣΤΟΧΟΣ ΤΗΣ ΠΡΑΞΗ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838080"/>
            <a:ext cx="8610480" cy="61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Να μπορούν οι επιμορφωμένοι εκπαιδευτικοί να αξιολογούν και να χρησιμοποιούν αποδοτικά τις δυνατότητες που προσφέρουν οι ΤΠΕ για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Ποιοτική βελτίωση της διαδικασίας της διδασκαλίας και της μάθησης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Ενεργή συμμετοχή τους σε κοινότητες μάθηση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Επαγγελματική εξέλιξη και βελτίωση της απόδοσής του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Επιτυχή συμμετοχή στη διαδικασία πιστοποίησης που ακολουθεί το πρόγραμμα επιμόρφωση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 rot="9600">
            <a:off x="0" y="0"/>
            <a:ext cx="9142560" cy="839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ΣΕ ΠΟΙΟΥΣ ΑΠΕΥΘΥΝΕΤΑ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9600">
            <a:off x="-34920" y="3622680"/>
            <a:ext cx="914256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ΠΟΣΟ ΘΑ ΔΙΑΡΚΕΣΕ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762120"/>
            <a:ext cx="85345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Αντικείμενο της πράξης είναι η </a:t>
            </a:r>
            <a:r>
              <a:rPr b="1" lang="el-GR" sz="3400" spc="-1" strike="noStrike">
                <a:solidFill>
                  <a:srgbClr val="cc0000"/>
                </a:solidFill>
                <a:latin typeface="Times New Roman"/>
              </a:rPr>
              <a:t>επιμόρφωση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76.000</a:t>
            </a:r>
            <a:r>
              <a:rPr b="1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400" spc="-1" strike="noStrike">
                <a:solidFill>
                  <a:srgbClr val="cc0000"/>
                </a:solidFill>
                <a:latin typeface="Times New Roman"/>
              </a:rPr>
              <a:t>μόνιμων</a:t>
            </a:r>
            <a:r>
              <a:rPr b="1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l-GR" sz="3400" spc="-1" strike="noStrike">
                <a:solidFill>
                  <a:srgbClr val="cc0000"/>
                </a:solidFill>
                <a:latin typeface="Times New Roman"/>
              </a:rPr>
              <a:t>αναπληρωτών</a:t>
            </a:r>
            <a:r>
              <a:rPr b="1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εκπαιδευτικών όλων των κλαδων και ειδικοτήτων της Πρωτοβάθμιας και Δευτεροβάθμιας Εκπαίδευση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4465800"/>
            <a:ext cx="914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Τα προγράμματα επιμόρφωσης θα υλοποιηθούν στο χρονικό διάστημα από </a:t>
            </a:r>
            <a:r>
              <a:rPr b="1" lang="el-GR" sz="3400" spc="-1" strike="noStrike">
                <a:solidFill>
                  <a:srgbClr val="cc0000"/>
                </a:solidFill>
                <a:latin typeface="Times New Roman"/>
              </a:rPr>
              <a:t>1-3-2002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μέχρι τις     </a:t>
            </a:r>
            <a:r>
              <a:rPr b="1" lang="el-GR" sz="3400" spc="-1" strike="noStrike">
                <a:solidFill>
                  <a:srgbClr val="cc0000"/>
                </a:solidFill>
                <a:latin typeface="Times New Roman"/>
              </a:rPr>
              <a:t>31-12-2003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σε περιόδους επιμόρφωσης που θα καθορίζονται κεντρικά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cc0000"/>
                </a:solidFill>
                <a:latin typeface="Times New Roman"/>
              </a:rPr>
              <a:t>Α΄ </a:t>
            </a:r>
            <a:r>
              <a:rPr b="1" i="1" lang="el-GR" sz="4000" spc="-1" strike="noStrike">
                <a:solidFill>
                  <a:srgbClr val="cc0000"/>
                </a:solidFill>
                <a:latin typeface="Times New Roman"/>
              </a:rPr>
              <a:t>φάση έργο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Αντιστοιχεί στη διεξαγωγή του </a:t>
            </a:r>
            <a:r>
              <a:rPr b="1" lang="el-GR" sz="4000" spc="-1" strike="noStrike">
                <a:solidFill>
                  <a:srgbClr val="000000"/>
                </a:solidFill>
                <a:latin typeface="Times New Roman"/>
              </a:rPr>
              <a:t>προγράμματος επιμόρφωση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cc0000"/>
                </a:solidFill>
                <a:latin typeface="Times New Roman"/>
              </a:rPr>
              <a:t>Β΄ </a:t>
            </a:r>
            <a:r>
              <a:rPr b="1" i="1" lang="el-GR" sz="4000" spc="-1" strike="noStrike">
                <a:solidFill>
                  <a:srgbClr val="cc0000"/>
                </a:solidFill>
                <a:latin typeface="Times New Roman"/>
              </a:rPr>
              <a:t>φάση έργο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Αντιστοιχεί στην </a:t>
            </a:r>
            <a:r>
              <a:rPr b="1" lang="el-GR" sz="4000" spc="-1" strike="noStrike">
                <a:solidFill>
                  <a:srgbClr val="000000"/>
                </a:solidFill>
                <a:latin typeface="Times New Roman"/>
              </a:rPr>
              <a:t>πιστοποίηση των δεξιοτήτων</a:t>
            </a:r>
            <a:r>
              <a:rPr b="1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 rot="9600">
            <a:off x="-5040" y="-3240"/>
            <a:ext cx="9134280" cy="841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ΥΛΟΠΟΙΗΣΗ ΣΕ 2 ΦΑΣΕΙ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 rot="9600">
            <a:off x="-1800" y="-1080"/>
            <a:ext cx="9142200" cy="839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ΠΕΡΙΕΧΟΜΕΝΟ ΤΗΣ ΕΠΙΜΟΡΦΩΣΗ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838080"/>
            <a:ext cx="8686800" cy="58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Times New Roman"/>
              </a:rPr>
              <a:t>Εισαγωγικές έννοιες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της Πληροφορική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Βασικά στοιχεία </a:t>
            </a:r>
            <a:r>
              <a:rPr b="1" lang="el-GR" sz="3400" spc="-1" strike="noStrike">
                <a:solidFill>
                  <a:srgbClr val="000000"/>
                </a:solidFill>
                <a:latin typeface="Times New Roman"/>
              </a:rPr>
              <a:t>χρήσης προσωπικού Η/Υ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Χρήση </a:t>
            </a:r>
            <a:r>
              <a:rPr b="1" lang="el-GR" sz="3400" spc="-1" strike="noStrike">
                <a:solidFill>
                  <a:srgbClr val="000000"/>
                </a:solidFill>
                <a:latin typeface="Times New Roman"/>
              </a:rPr>
              <a:t>επεξεργαστή κειμένου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Χρήση </a:t>
            </a:r>
            <a:r>
              <a:rPr b="1" lang="el-GR" sz="3400" spc="-1" strike="noStrike">
                <a:solidFill>
                  <a:srgbClr val="000000"/>
                </a:solidFill>
                <a:latin typeface="Times New Roman"/>
              </a:rPr>
              <a:t>υπολογιστικών φύλλων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Χρήση </a:t>
            </a:r>
            <a:r>
              <a:rPr b="1" lang="el-GR" sz="3400" spc="-1" strike="noStrike">
                <a:solidFill>
                  <a:srgbClr val="000000"/>
                </a:solidFill>
                <a:latin typeface="Times New Roman"/>
              </a:rPr>
              <a:t>λογισμικού παρουσίαση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Times New Roman"/>
              </a:rPr>
              <a:t>Διαδίκτυο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και </a:t>
            </a:r>
            <a:r>
              <a:rPr b="1" lang="el-GR" sz="3400" spc="-1" strike="noStrike">
                <a:solidFill>
                  <a:srgbClr val="000000"/>
                </a:solidFill>
                <a:latin typeface="Times New Roman"/>
              </a:rPr>
              <a:t>Επικοινωνίε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Αξιοποίηση των ΤΠΕ στην εκπαιδευτική     διαδικασία -</a:t>
            </a:r>
            <a:r>
              <a:rPr b="1" lang="el-GR" sz="3400" spc="-1" strike="noStrike">
                <a:solidFill>
                  <a:srgbClr val="000000"/>
                </a:solidFill>
                <a:latin typeface="Times New Roman"/>
              </a:rPr>
              <a:t>Εκπαιδευτικό Λογισμικ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 rot="9600">
            <a:off x="-1080" y="-1080"/>
            <a:ext cx="9144000" cy="915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ΟΡΓΑΝΩΤΙΚΗ ΔΟΜ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562720"/>
            <a:ext cx="3124080" cy="106884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Σχολείο Α/θμιας ή Β/θμια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990720"/>
            <a:ext cx="9144000" cy="5640840"/>
            <a:chOff x="0" y="990720"/>
            <a:chExt cx="9144000" cy="5640840"/>
          </a:xfrm>
        </p:grpSpPr>
        <p:sp>
          <p:nvSpPr>
            <p:cNvPr id="59" name=""/>
            <p:cNvSpPr/>
            <p:nvPr/>
          </p:nvSpPr>
          <p:spPr>
            <a:xfrm>
              <a:off x="0" y="2819520"/>
              <a:ext cx="9144000" cy="5205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Τεχνικοί </a:t>
              </a:r>
              <a:r>
                <a:rPr b="1" lang="el-GR" sz="2800" spc="-1" strike="noStrike">
                  <a:solidFill>
                    <a:srgbClr val="cc0000"/>
                  </a:solidFill>
                  <a:latin typeface="Times New Roman"/>
                </a:rPr>
                <a:t>Επιστημονικοί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Σύμβουλοι: ΠΙ &amp; </a:t>
              </a:r>
              <a:r>
                <a:rPr b="1" lang="el-GR" sz="2800" spc="-1" strike="noStrike">
                  <a:solidFill>
                    <a:srgbClr val="cc0000"/>
                  </a:solidFill>
                  <a:latin typeface="Times New Roman"/>
                </a:rPr>
                <a:t>ΕΑΙΤ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114800"/>
              <a:ext cx="5943600" cy="5814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Τοπική Επιτροπή Επιμόρφωση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05520" y="5562720"/>
              <a:ext cx="3657600" cy="106884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Κέντρο Στήριξης Επιμόρφωση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3352680"/>
              <a:ext cx="0" cy="7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105520" y="3352680"/>
              <a:ext cx="0" cy="77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523520" y="4724280"/>
              <a:ext cx="1676520" cy="85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362320" y="4724280"/>
              <a:ext cx="1676160" cy="85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7800" y="4724280"/>
              <a:ext cx="1676520" cy="85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6400800" y="4723920"/>
              <a:ext cx="144792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1280" y="990720"/>
              <a:ext cx="2057400" cy="5205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ΥΠΕΠ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1523880"/>
              <a:ext cx="0" cy="38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81280" y="1905120"/>
              <a:ext cx="2057400" cy="5205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cc0000"/>
                  </a:solidFill>
                  <a:latin typeface="Times New Roman"/>
                </a:rPr>
                <a:t>ΚΕΕΤΠ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0" y="2438280"/>
              <a:ext cx="0" cy="38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 rot="9600">
            <a:off x="-4680" y="-4320"/>
            <a:ext cx="9142200" cy="1527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ΕΠΙΣΤΗΜΟΝΙΚΟΣ ΥΠΕΥΘΥΝΟΣ ΠΡΑΞΗ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133720"/>
            <a:ext cx="739152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0000"/>
                </a:solidFill>
                <a:latin typeface="Times New Roman"/>
              </a:rPr>
              <a:t>Δημήτριος  Παπαϊωάννου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Ειδικός Γραμματέας Σπουδών Επιμόρφωσης και Καινοτομιών του ΥΠΕΠ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 rot="9600">
            <a:off x="-1800" y="-1080"/>
            <a:ext cx="9142200" cy="839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ΚΕΕΤΠ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91440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cc0000"/>
                </a:solidFill>
                <a:latin typeface="Times New Roman"/>
              </a:rPr>
              <a:t>Πρόεδρο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Δ. Παπαϊωάννου, Ειδικός Γραμματέας Σπουδών Επιμόρφωσης και Καινοτομιών του ΥΠΕΠΘ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cc0000"/>
                </a:solidFill>
                <a:latin typeface="Times New Roman"/>
              </a:rPr>
              <a:t>Μέλη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Ν. Σπυρέλλης, Αντιπρόεδρος ΠΙ, Καθηγητής ΕΜΠ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Χ. Ζαγούρας, Διευθυντής Τομέα Επιμόρφωσης και Κατάρτισης του ΕΑΙΤΥ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Ε. Παναγιωτόπουλος, Διευθύνων Σύμβουλος, Εκπρόσωπος της ΚτΠ ΑΕ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cc0000"/>
                </a:solidFill>
                <a:latin typeface="Times New Roman"/>
              </a:rPr>
              <a:t>Στις περιοχές ευθύνης του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cc0000"/>
                </a:solidFill>
                <a:latin typeface="Times New Roman"/>
              </a:rPr>
              <a:t>συντονίζου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601"/>
              </a:spcBef>
              <a:buClr>
                <a:srgbClr val="808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ις  Επιτροπές Επιμόρφωσης (Ε.Ε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601"/>
              </a:spcBef>
              <a:buClr>
                <a:srgbClr val="808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Προγράμματα Επιμόρφωσης και την παροχή Υπηρεσιών από Απόστασ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601"/>
              </a:spcBef>
              <a:buClr>
                <a:srgbClr val="808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η λειτουργία υποστηρικτικών μηχανισμών (Help Desk) μέσω ηλεκτρονικού κόμβ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601"/>
              </a:spcBef>
              <a:buClr>
                <a:srgbClr val="808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ην Προώθηση και Διάδοση του έργο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 rot="9600">
            <a:off x="-231480" y="453960"/>
            <a:ext cx="9144000" cy="2440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ΦΟΡΕΙΣ ΤΕΧΝΙΚΗΣ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&amp; ΕΠΙΣΤΗΜΟΝΙΚΗΣ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ΥΠΟΣΤΗΡΙΞΗΣ (ΠΙ &amp; ΕΑΙΤΥ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2:57:06Z</dcterms:created>
  <dc:creator>Winuser</dc:creator>
  <dc:description/>
  <dc:language>en-US</dc:language>
  <cp:lastModifiedBy>User</cp:lastModifiedBy>
  <dcterms:modified xsi:type="dcterms:W3CDTF">2002-11-13T10:20:06Z</dcterms:modified>
  <cp:revision>60</cp:revision>
  <dc:subject/>
  <dc:title>Χωρίς τίτλο διαφάνειας</dc:title>
</cp:coreProperties>
</file>