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babylache%5B1%5D.wav" ContentType="audio/x-wav"/>
  <Override PartName="/ppt/media/image8.gif" ContentType="image/gif"/>
  <Override PartName="/ppt/media/image2.gif" ContentType="image/gif"/>
  <Override PartName="/ppt/media/image3.gif" ContentType="image/gif"/>
  <Override PartName="/ppt/media/baby1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CB1-40A5-4BA7-97FF-0E9E2343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B72-CA46-42EB-AEFD-21D0936E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61E-E445-471E-92BD-63004F2D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A58-40A2-461E-B4A0-14E9358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CDA7-1CE2-40F9-8656-2CCAAD40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B112-8FD1-45C7-8668-609F08D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2DFC-A9F3-4332-9B3E-FF243FA0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F5F-DEAD-423E-A1BC-62B7EFB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338-4CE5-4E12-BE0F-1964171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223B-D0ED-4D4D-AB21-ADAB31B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E48-3D26-4441-A71F-A27E604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D91-11EB-420F-BF5E-6D227835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5ADA-EA29-4B61-8780-34D2954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073-6D35-4AF4-AFA4-21BB7A1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FCCA-BFEA-49CC-B990-0863801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AE6-932C-4565-98AE-0B1170AB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195D-1F38-4471-B48D-93097280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A3B-62D3-4CD7-BECB-256B87FA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214-8D9A-4328-8F1E-258946BC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1BF-E6BF-4960-8183-E24BF0D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A6D-23C0-4B00-BC3B-724E8872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551-4786-4F34-8880-ED8CDA1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AD7-2DDE-42C5-BC72-146D2B3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3F0-8601-4444-86C8-39DDC89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0c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d7fefe"/>
                  </a:gs>
                  <a:gs pos="100000">
                    <a:srgbClr val="00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fefe"/>
                  </a:gs>
                  <a:gs pos="100000">
                    <a:srgbClr val="00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F82-2947-4BF1-B282-E90BCD1D02A1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0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0c0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d7fefe"/>
                    </a:gs>
                    <a:gs pos="100000">
                      <a:srgbClr val="00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ffefe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A742-A9C9-4122-A90E-95DF4692032D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γράφω μια ημέρα μου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άνε κλικ για να γράψεις το όνομά σου</a:t>
            </a:r>
            <a:r>
              <a:rPr b="0" lang="de-DE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7:3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1976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2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3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15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2480" y="3728880"/>
            <a:ext cx="1981440" cy="18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6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3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14360" y="3200400"/>
            <a:ext cx="2282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0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0:1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5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8080" y="2971800"/>
            <a:ext cx="19573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21:41:40Z</dcterms:created>
  <dc:creator>animiert von Ute.Zohles@web.de</dc:creator>
  <dc:description>www.FunFriends.de</dc:description>
  <dc:language>en-US</dc:language>
  <cp:lastModifiedBy>Βλιώρας Λαμπρος</cp:lastModifiedBy>
  <dcterms:modified xsi:type="dcterms:W3CDTF">2007-03-14T20:36:03Z</dcterms:modified>
  <cp:revision>87</cp:revision>
  <dc:subject/>
  <dc:title>Tagebuch eines Kleinkindes</dc:title>
</cp:coreProperties>
</file>